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39.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47.xml.rels" ContentType="application/vnd.openxmlformats-package.relationships+xml"/>
  <Override PartName="/ppt/notesSlides/_rels/notesSlide129.xml.rels" ContentType="application/vnd.openxmlformats-package.relationships+xml"/>
  <Override PartName="/ppt/notesSlides/_rels/notesSlide82.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22.xml.rels" ContentType="application/vnd.openxmlformats-package.relationships+xml"/>
  <Override PartName="/ppt/notesSlides/_rels/notesSlide123.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85.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72.xml.rels" ContentType="application/vnd.openxmlformats-package.relationships+xml"/>
  <Override PartName="/ppt/notesSlides/_rels/notesSlide11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125.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21.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10.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109.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notesSlide126.xml" ContentType="application/vnd.openxmlformats-officedocument.presentationml.notesSlide+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91.xml" ContentType="application/vnd.openxmlformats-officedocument.presentationml.notesSlide+xml"/>
  <Override PartName="/ppt/notesSlides/notesSlide42.xml" ContentType="application/vnd.openxmlformats-officedocument.presentationml.notesSlide+xml"/>
  <Override PartName="/ppt/notesSlides/notesSlide9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51.xml" ContentType="application/vnd.openxmlformats-officedocument.presentationml.notesSlide+xml"/>
  <Override PartName="/ppt/notesSlides/notesSlide134.xml" ContentType="application/vnd.openxmlformats-officedocument.presentationml.notesSlide+xml"/>
  <Override PartName="/ppt/notesSlides/notesSlide2.xml" ContentType="application/vnd.openxmlformats-officedocument.presentationml.notesSlide+xml"/>
  <Override PartName="/ppt/notesSlides/notesSlide115.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131.xml" ContentType="application/vnd.openxmlformats-officedocument.presentationml.notesSlide+xml"/>
  <Override PartName="/ppt/notesSlides/notesSlide129.xml" ContentType="application/vnd.openxmlformats-officedocument.presentationml.notesSlide+xml"/>
  <Override PartName="/ppt/notesSlides/notesSlide130.xml" ContentType="application/vnd.openxmlformats-officedocument.presentationml.notesSlide+xml"/>
  <Override PartName="/ppt/notesSlides/notesSlide128.xml" ContentType="application/vnd.openxmlformats-officedocument.presentationml.notesSlide+xml"/>
  <Override PartName="/ppt/notesSlides/notesSlide50.xml" ContentType="application/vnd.openxmlformats-officedocument.presentationml.notesSlide+xml"/>
  <Override PartName="/ppt/notesSlides/notesSlide127.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46.xml" ContentType="application/vnd.openxmlformats-officedocument.presentationml.notesSlide+xml"/>
  <Override PartName="/ppt/notesSlides/notesSlide4.xml" ContentType="application/vnd.openxmlformats-officedocument.presentationml.notesSlide+xml"/>
  <Override PartName="/ppt/notesSlides/notesSlide86.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111.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112.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89.xml" ContentType="application/vnd.openxmlformats-officedocument.presentationml.notesSlide+xml"/>
  <Override PartName="/ppt/notesSlides/notesSlide97.xml" ContentType="application/vnd.openxmlformats-officedocument.presentationml.notesSlide+xml"/>
  <Override PartName="/ppt/notesSlides/notesSlide99.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109.xml" ContentType="application/vnd.openxmlformats-officedocument.presentationml.notesSlide+xml"/>
  <Override PartName="/ppt/notesSlides/notesSlide119.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5.png" ContentType="image/png"/>
  <Override PartName="/ppt/media/image10.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00C9-AF23-4E1C-BABE-D96E6649A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63132-C84D-4BE5-BAA9-A855CBBC9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C21C-4AFA-45E2-9F39-71B6F5346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F1D6-11F0-4C41-ACB3-5F9D8D9BB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6396C-EA86-4637-9693-4BB50DA66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FE6C-7800-4310-9D4B-B24215B95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98C0-ECBC-40F4-9AC0-34005B87C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7F1E-AE71-46EC-A0F8-23180166D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524E-F34C-44F5-96A7-F9EDE46AE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B89D-8FC2-4314-ADB2-E63464AAE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81160" y="696960"/>
            <a:ext cx="4648320" cy="3486240"/>
          </a:xfrm>
          <a:prstGeom prst="rect">
            <a:avLst/>
          </a:prstGeom>
          <a:ln w="0">
            <a:noFill/>
          </a:ln>
        </p:spPr>
      </p:sp>
      <p:sp>
        <p:nvSpPr>
          <p:cNvPr id="4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B5DC-5DE8-48E8-A3D1-3BD3C4D10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81160" y="696960"/>
            <a:ext cx="4648320" cy="3486240"/>
          </a:xfrm>
          <a:prstGeom prst="rect">
            <a:avLst/>
          </a:prstGeom>
          <a:ln w="0">
            <a:noFill/>
          </a:ln>
        </p:spPr>
      </p:sp>
      <p:sp>
        <p:nvSpPr>
          <p:cNvPr id="4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6190-9B99-405A-8644-7E9F96611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81160" y="696960"/>
            <a:ext cx="4648320" cy="3486240"/>
          </a:xfrm>
          <a:prstGeom prst="rect">
            <a:avLst/>
          </a:prstGeom>
          <a:ln w="0">
            <a:noFill/>
          </a:ln>
        </p:spPr>
      </p:sp>
      <p:sp>
        <p:nvSpPr>
          <p:cNvPr id="5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5043-A195-4CFF-833B-4398DD6C3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643F-4C03-4015-BECF-AD11CAC9B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81160" y="696960"/>
            <a:ext cx="4648320" cy="3486240"/>
          </a:xfrm>
          <a:prstGeom prst="rect">
            <a:avLst/>
          </a:prstGeom>
          <a:ln w="0">
            <a:noFill/>
          </a:ln>
        </p:spPr>
      </p:sp>
      <p:sp>
        <p:nvSpPr>
          <p:cNvPr id="5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161D-161D-4B3E-B0E9-9C95AC094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FAE8-B6DE-4AD4-9896-1DFE3A1B3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C000-D1E7-4B46-9EE3-E9EE03639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213A-982D-477C-89B9-87CCE167F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81160" y="696960"/>
            <a:ext cx="4648320" cy="3486240"/>
          </a:xfrm>
          <a:prstGeom prst="rect">
            <a:avLst/>
          </a:prstGeom>
          <a:ln w="0">
            <a:noFill/>
          </a:ln>
        </p:spPr>
      </p:sp>
      <p:sp>
        <p:nvSpPr>
          <p:cNvPr id="5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B014-4623-4B7C-AFD5-59CD1BDD5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81160" y="696960"/>
            <a:ext cx="4648320" cy="3486240"/>
          </a:xfrm>
          <a:prstGeom prst="rect">
            <a:avLst/>
          </a:prstGeom>
          <a:ln w="0">
            <a:noFill/>
          </a:ln>
        </p:spPr>
      </p:sp>
      <p:sp>
        <p:nvSpPr>
          <p:cNvPr id="5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7038-EDDB-4FD2-9E0E-FC28AD3BB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81160" y="696960"/>
            <a:ext cx="4648320" cy="3486240"/>
          </a:xfrm>
          <a:prstGeom prst="rect">
            <a:avLst/>
          </a:prstGeom>
          <a:ln w="0">
            <a:noFill/>
          </a:ln>
        </p:spPr>
      </p:sp>
      <p:sp>
        <p:nvSpPr>
          <p:cNvPr id="5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3095-9F46-43FF-9E38-A0C1E9BE8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81160" y="696960"/>
            <a:ext cx="4648320" cy="3486240"/>
          </a:xfrm>
          <a:prstGeom prst="rect">
            <a:avLst/>
          </a:prstGeom>
          <a:ln w="0">
            <a:noFill/>
          </a:ln>
        </p:spPr>
      </p:sp>
      <p:sp>
        <p:nvSpPr>
          <p:cNvPr id="5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6FD3-E363-43DC-AD1D-327DC8811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81160" y="696960"/>
            <a:ext cx="4648320" cy="3486240"/>
          </a:xfrm>
          <a:prstGeom prst="rect">
            <a:avLst/>
          </a:prstGeom>
          <a:ln w="0">
            <a:noFill/>
          </a:ln>
        </p:spPr>
      </p:sp>
      <p:sp>
        <p:nvSpPr>
          <p:cNvPr id="5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5476-E13A-43DF-B4B8-B7B0CCF89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81160" y="696960"/>
            <a:ext cx="4648320" cy="3486240"/>
          </a:xfrm>
          <a:prstGeom prst="rect">
            <a:avLst/>
          </a:prstGeom>
          <a:ln w="0">
            <a:noFill/>
          </a:ln>
        </p:spPr>
      </p:sp>
      <p:sp>
        <p:nvSpPr>
          <p:cNvPr id="5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9032-F5C0-4274-9CF1-765F0DED7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81160" y="696960"/>
            <a:ext cx="4648320" cy="3486240"/>
          </a:xfrm>
          <a:prstGeom prst="rect">
            <a:avLst/>
          </a:prstGeom>
          <a:ln w="0">
            <a:noFill/>
          </a:ln>
        </p:spPr>
      </p:sp>
      <p:sp>
        <p:nvSpPr>
          <p:cNvPr id="5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8701-A09C-4448-B1F7-68CA794D1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81160" y="696960"/>
            <a:ext cx="4648320" cy="3486240"/>
          </a:xfrm>
          <a:prstGeom prst="rect">
            <a:avLst/>
          </a:prstGeom>
          <a:ln w="0">
            <a:noFill/>
          </a:ln>
        </p:spPr>
      </p:sp>
      <p:sp>
        <p:nvSpPr>
          <p:cNvPr id="5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D290A-EEA0-4806-BB76-B76CF5210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81160" y="696960"/>
            <a:ext cx="4648320" cy="3486240"/>
          </a:xfrm>
          <a:prstGeom prst="rect">
            <a:avLst/>
          </a:prstGeom>
          <a:ln w="0">
            <a:noFill/>
          </a:ln>
        </p:spPr>
      </p:sp>
      <p:sp>
        <p:nvSpPr>
          <p:cNvPr id="5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B814-80A9-41ED-95CF-723F280E6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81160" y="696960"/>
            <a:ext cx="4648320" cy="3486240"/>
          </a:xfrm>
          <a:prstGeom prst="rect">
            <a:avLst/>
          </a:prstGeom>
          <a:ln w="0">
            <a:noFill/>
          </a:ln>
        </p:spPr>
      </p:sp>
      <p:sp>
        <p:nvSpPr>
          <p:cNvPr id="5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8367-E2C5-4D22-858C-C0C2A5EC1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81160" y="696960"/>
            <a:ext cx="4648320" cy="3486240"/>
          </a:xfrm>
          <a:prstGeom prst="rect">
            <a:avLst/>
          </a:prstGeom>
          <a:ln w="0">
            <a:noFill/>
          </a:ln>
        </p:spPr>
      </p:sp>
      <p:sp>
        <p:nvSpPr>
          <p:cNvPr id="5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55DB-64A6-4292-A36A-CBB26575C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81160" y="696960"/>
            <a:ext cx="4648320" cy="3486240"/>
          </a:xfrm>
          <a:prstGeom prst="rect">
            <a:avLst/>
          </a:prstGeom>
          <a:ln w="0">
            <a:noFill/>
          </a:ln>
        </p:spPr>
      </p:sp>
      <p:sp>
        <p:nvSpPr>
          <p:cNvPr id="5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211B-9F1E-4C7E-9E7F-9CE31BA35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81160" y="696960"/>
            <a:ext cx="4648320" cy="3486240"/>
          </a:xfrm>
          <a:prstGeom prst="rect">
            <a:avLst/>
          </a:prstGeom>
          <a:ln w="0">
            <a:noFill/>
          </a:ln>
        </p:spPr>
      </p:sp>
      <p:sp>
        <p:nvSpPr>
          <p:cNvPr id="5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43AB-C9A8-4342-A003-00167BA6C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7791-714D-402D-984E-8A69A66D0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15C9-1D61-4AC6-AB82-F82EB737B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E184-698F-494B-9D68-BFE8215C3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349B-24DA-4DD0-9578-BACF1F51B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BA73-F861-49AA-8FF8-3F925DA3E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AA90-F6E1-459A-B55D-0D9E1D871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EEB0-1EAE-4760-BD7E-DFEEC5BA9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1E1F-B092-4C57-8E26-F37306BF2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2D279-BF1A-4A0E-8C2C-6A6667136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22D5C-6C72-4190-8BA1-BF1EE98DE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F75A-C498-4446-808B-E795CA34E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715C-9ED7-4A63-B151-C0FB1761D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C2B1-F7FF-4ACA-9855-80FF1454E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5946-5A36-45CE-88FA-CA429ED58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49B6-71D1-4683-9165-D0E09753F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D203-5A17-4A29-AC57-5D5AF7BCC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AE316-393F-433F-AB99-D6D021229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84EE-2932-4BF9-B4A5-6394C4548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C4F6-2876-479A-A01A-15E1C3D8C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D54E-55FC-4567-8E6F-D2E2A12A5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687E-1E8A-4CBE-9E96-AA56F2B4F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D808-CDA3-4100-8AC9-C9FF3A320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A109-D0BB-4CD8-B243-F527C7693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1DF4-FF7B-4739-9D9E-2EDE686C1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2953-1D70-4FE2-9121-46B2DD0B8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FB45-AF57-41AB-A0CB-80F62A60B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33B6-FA22-4240-A445-15B525BC4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F5E9-0606-4B47-A814-BEA1E044D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299B-910E-4B78-9488-97EF1F76CC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3DC3-1948-49EC-9DAD-42DF863B6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D0CA-0606-4AE0-BBF0-EC1453BC8D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689E-B571-4740-ADEA-08AC78D26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6013-E83A-4B72-90FD-3DEC812AC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BE2B-2BCB-44D5-B591-D16A28CB7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98E9-50E5-4758-AC89-70E8582B9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A588-3078-4ECF-82FB-24D4637CB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7E5C0-78D5-42F2-B429-4707AAFBA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D52EF-9D16-4E48-B794-FFD7913CE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FB8F5-ADAD-43D3-94F0-CB72A1543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D5A79-F96D-4430-9AE3-890AC706A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D61F8-CD3D-48D8-8F4E-BA7A541F9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38C4D-D733-4FC3-9D2E-3A143ABD8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0ABB7-D6AB-4E05-81B2-17CB3056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BF9E3-4DBB-4C44-B7D3-C1622CD9B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9B973-4494-4AA1-97BC-9B8645246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18528-B5CA-47B9-B374-750BFB6F6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5FE12-3D5C-4444-8E45-DD440A447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92551-7660-4221-B357-5CC8E9472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DEED-D3ED-45D7-AEDA-2F65C1564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43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1600200"/>
            <a:ext cx="6400800" cy="4038480"/>
          </a:xfrm>
          <a:prstGeom prst="rect">
            <a:avLst/>
          </a:prstGeom>
          <a:noFill/>
          <a:ln w="76320">
            <a:solidFill>
              <a:srgbClr val="336600"/>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Bookman Old Style"/>
              </a:rPr>
              <a:t>FIRE INSURANCE</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UM INSURED FOR HOME BUILDING &amp; CONTENTS</a:t>
            </a:r>
            <a:endParaRPr b="0" lang="en-US" sz="2800" spc="-1" strike="noStrike">
              <a:solidFill>
                <a:srgbClr val="000000"/>
              </a:solidFill>
              <a:latin typeface="Times New Roman"/>
            </a:endParaRPr>
          </a:p>
        </p:txBody>
      </p:sp>
      <p:sp>
        <p:nvSpPr>
          <p:cNvPr id="114" name="PlaceHolder 2"/>
          <p:cNvSpPr>
            <a:spLocks noGrp="1"/>
          </p:cNvSpPr>
          <p:nvPr>
            <p:ph type="subTitle"/>
          </p:nvPr>
        </p:nvSpPr>
        <p:spPr>
          <a:xfrm>
            <a:off x="228240" y="990360"/>
            <a:ext cx="8839080" cy="5715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BUILDING</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CARPET AREA OF THE STRUCTURE IN SQM XRATE OF CONSTRUCTION AT INCEPTION OF POLICY (PREVAILING RATE)</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OME CONTENT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GENERAL CONTENTS:</a:t>
            </a:r>
            <a:r>
              <a:rPr b="0" lang="en-US" sz="1800" spc="-1" strike="noStrike">
                <a:solidFill>
                  <a:srgbClr val="000000"/>
                </a:solidFill>
                <a:latin typeface="Times New Roman"/>
              </a:rPr>
              <a:t> </a:t>
            </a:r>
            <a:r>
              <a:rPr b="0" lang="en-US" sz="1800" spc="-1" strike="noStrike">
                <a:solidFill>
                  <a:srgbClr val="ff9900"/>
                </a:solidFill>
                <a:latin typeface="Times New Roman"/>
              </a:rPr>
              <a:t>ALL HOUSE HOL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imes New Roman"/>
              </a:rPr>
              <a:t>VALUABLE CONTENTS:</a:t>
            </a:r>
            <a:r>
              <a:rPr b="0" lang="en-US" sz="1800" spc="-1" strike="noStrike">
                <a:solidFill>
                  <a:srgbClr val="000000"/>
                </a:solidFill>
                <a:latin typeface="Times New Roman"/>
              </a:rPr>
              <a:t> </a:t>
            </a:r>
            <a:r>
              <a:rPr b="0" lang="en-US" sz="1800" spc="-1" strike="noStrike">
                <a:solidFill>
                  <a:srgbClr val="3333cc"/>
                </a:solidFill>
                <a:latin typeface="Times New Roman"/>
              </a:rPr>
              <a:t>JEWELLERY, SILVERWARE, PAINTINGS, WORKS OF ART, ANTIQUE ITEMS, CURIES ETC</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Times New Roman"/>
              </a:rPr>
              <a:t>IF OPT FOR BUILDING AND HOME CONTENT COVER THE GENERAL CONTENT OF HOME EQUAL TO 20% OF SI FOR HOME BUILDING SUBJECT TO MAX OF Rs.10 LAKHAS AUTOMATICALLY COVERE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LONG TERM POLICY  (MORE THAN ONE YEAR) 10 YEARS WITH AUTOMATIC INCREASE IN SUM INSURED OF 10% WITHOUT ADDITIONAL PREMIUM</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PTIONAL COVER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COVER FOR VALUABLE CONTENTS ON AGREED VALUE BASIS: BASED ON VALUATION CERTIFICATE.  VALUATION CERTIFICATE IS WAIVED IF THE SI OPTED UP TO Rs 5 LAKHS AND INDIVIDUAL ITEM NOT EXCEEDING Rs 1 LAKH</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PA COVER Rs 5 LAKHS PER PERS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URROUNDING PROPERTY</a:t>
            </a:r>
            <a:endParaRPr b="0" lang="en-US" sz="4400" spc="-1" strike="noStrike">
              <a:solidFill>
                <a:srgbClr val="000000"/>
              </a:solidFill>
              <a:latin typeface="Times New Roman"/>
            </a:endParaRPr>
          </a:p>
        </p:txBody>
      </p:sp>
      <p:sp>
        <p:nvSpPr>
          <p:cNvPr id="286" name="PlaceHolder 2"/>
          <p:cNvSpPr>
            <a:spLocks noGrp="1"/>
          </p:cNvSpPr>
          <p:nvPr>
            <p:ph/>
          </p:nvPr>
        </p:nvSpPr>
        <p:spPr>
          <a:xfrm>
            <a:off x="380520" y="1295280"/>
            <a:ext cx="8458200" cy="5181840"/>
          </a:xfrm>
          <a:prstGeom prst="rect">
            <a:avLst/>
          </a:prstGeom>
          <a:noFill/>
          <a:ln w="76320">
            <a:solidFill>
              <a:srgbClr val="99cc00"/>
            </a:solidFill>
            <a:miter/>
          </a:ln>
        </p:spPr>
        <p:txBody>
          <a:bodyPr anchor="t">
            <a:normAutofit/>
          </a:bodyPr>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Covers loss/damage to property adjacent to site, belonging to insured, if such loss occurs in direct connection with erection and happens during the period of cover.</a:t>
            </a:r>
            <a:endParaRPr b="0" lang="en-US" sz="3600" spc="-1" strike="noStrike">
              <a:solidFill>
                <a:srgbClr val="000000"/>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Separate Sum Insured to be declared</a:t>
            </a:r>
            <a:endParaRPr b="0" lang="en-US" sz="3600" spc="-1" strike="noStrike">
              <a:solidFill>
                <a:srgbClr val="000000"/>
              </a:solidFill>
              <a:latin typeface="Times New Roman"/>
            </a:endParaRPr>
          </a:p>
        </p:txBody>
      </p:sp>
    </p:spTree>
  </p:cSld>
  <p:transition>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INDEMNIFIES THE INSURED AGAINST THEIR LEGAL LIABILITY TO THIRD PARTIES IN RESPECT OF:</a:t>
            </a:r>
            <a:endParaRPr b="0" lang="en-US" sz="3200" spc="-1" strike="noStrike">
              <a:solidFill>
                <a:srgbClr val="000000"/>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Personal Injury, Death.</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Damage to property.</a:t>
            </a:r>
            <a:endParaRPr b="0" lang="en-US" sz="2400" spc="-1" strike="noStrike">
              <a:solidFill>
                <a:srgbClr val="000000"/>
              </a:solidFill>
              <a:latin typeface="Times New Roman"/>
            </a:endParaRPr>
          </a:p>
          <a:p>
            <a:pPr lvl="2" marL="1143000" indent="-228600">
              <a:lnSpc>
                <a:spcPct val="100000"/>
              </a:lnSpc>
              <a:spcBef>
                <a:spcPts val="601"/>
              </a:spcBef>
              <a:buClr>
                <a:srgbClr val="66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Cover can be extended to include cross liabilities among parties to this contrac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EXPEDITING EXPENSES INCLUDING AIR FREIGHT</a:t>
            </a:r>
            <a:endParaRPr b="0" lang="en-US" sz="4400" spc="-1" strike="noStrike">
              <a:solidFill>
                <a:srgbClr val="000000"/>
              </a:solidFill>
              <a:latin typeface="Times New Roman"/>
            </a:endParaRPr>
          </a:p>
        </p:txBody>
      </p:sp>
      <p:sp>
        <p:nvSpPr>
          <p:cNvPr id="290" name="PlaceHolder 2"/>
          <p:cNvSpPr>
            <a:spLocks noGrp="1"/>
          </p:cNvSpPr>
          <p:nvPr>
            <p:ph/>
          </p:nvPr>
        </p:nvSpPr>
        <p:spPr>
          <a:xfrm>
            <a:off x="533160" y="1981080"/>
            <a:ext cx="7924680" cy="4572000"/>
          </a:xfrm>
          <a:prstGeom prst="rect">
            <a:avLst/>
          </a:prstGeom>
          <a:noFill/>
          <a:ln w="76320">
            <a:solidFill>
              <a:srgbClr val="0000cc"/>
            </a:solidFill>
            <a:miter/>
          </a:ln>
        </p:spPr>
        <p:txBody>
          <a:bodyPr anchor="t">
            <a:normAutofit/>
          </a:bodyPr>
          <a:p>
            <a:pPr marL="343080" indent="-343080" algn="just">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is section extends to include extra charges for Over Time.  Night work, work on Public Holidays, Express Freight etc. incurred for replacement of or repair of damaged property due to indemnifiable peril covered under the policy.</a:t>
            </a:r>
            <a:endParaRPr b="0" lang="en-US" sz="3600" spc="-1" strike="noStrike">
              <a:solidFill>
                <a:srgbClr val="000000"/>
              </a:solidFill>
              <a:latin typeface="Times New Roman"/>
            </a:endParaRPr>
          </a:p>
        </p:txBody>
      </p:sp>
    </p:spTree>
  </p:cSld>
  <p:transition>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FEES</a:t>
            </a:r>
            <a:endParaRPr b="0" lang="en-US" sz="4400" spc="-1" strike="noStrike">
              <a:solidFill>
                <a:srgbClr val="000000"/>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76320">
            <a:solidFill>
              <a:srgbClr val="00ff00"/>
            </a:solidFill>
            <a:miter/>
          </a:ln>
        </p:spPr>
        <p:txBody>
          <a:bodyPr anchor="t">
            <a:normAutofit/>
          </a:bodyPr>
          <a:p>
            <a:pPr marL="343080" indent="-343080" algn="just">
              <a:lnSpc>
                <a:spcPct val="100000"/>
              </a:lnSpc>
              <a:spcBef>
                <a:spcPts val="9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rchitects, Surveyors, Consulting Engineers &amp; Other Professionals charges incurred for replacement of damaged items payable in addition to claim amount subject to normal scale charges.</a:t>
            </a:r>
            <a:endParaRPr b="0" lang="en-US" sz="3600" spc="-1" strike="noStrike">
              <a:solidFill>
                <a:srgbClr val="000000"/>
              </a:solidFill>
              <a:latin typeface="Times New Roman"/>
            </a:endParaRPr>
          </a:p>
        </p:txBody>
      </p:sp>
    </p:spTree>
  </p:cSld>
  <p:transition>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ADDITIONAL CUSTOMS DUTY</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600200"/>
            <a:ext cx="7772400" cy="4952880"/>
          </a:xfrm>
          <a:prstGeom prst="rect">
            <a:avLst/>
          </a:prstGeom>
          <a:noFill/>
          <a:ln w="76320">
            <a:solidFill>
              <a:srgbClr val="ff00ff"/>
            </a:solidFill>
            <a:miter/>
          </a:ln>
        </p:spPr>
        <p:txBody>
          <a:bodyPr anchor="t">
            <a:normAutofit/>
          </a:bodyPr>
          <a:p>
            <a:pPr marL="343080" indent="-343080" algn="just">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In case of a claim, this section will indemnify the insured in respect of any additional duty in excess of percentage already included in the Sum Insured.</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ch additional duty will be payable in addition to limit of indemnity stated, subject to agreed maximum.</a:t>
            </a:r>
            <a:endParaRPr b="0" lang="en-US" sz="3200" spc="-1" strike="noStrike">
              <a:solidFill>
                <a:srgbClr val="000000"/>
              </a:solidFill>
              <a:latin typeface="Times New Roman"/>
            </a:endParaRPr>
          </a:p>
        </p:txBody>
      </p:sp>
    </p:spTree>
  </p:cSld>
  <p:transition>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CES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648320"/>
          </a:xfrm>
          <a:prstGeom prst="rect">
            <a:avLst/>
          </a:prstGeom>
          <a:noFill/>
          <a:ln w="76320">
            <a:solidFill>
              <a:srgbClr val="00cc99"/>
            </a:solidFill>
            <a:miter/>
          </a:ln>
        </p:spPr>
        <p:txBody>
          <a:bodyPr anchor="t">
            <a:normAutofit/>
          </a:bodyPr>
          <a:p>
            <a:pPr marL="343080" indent="-343080">
              <a:lnSpc>
                <a:spcPct val="100000"/>
              </a:lnSpc>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llowing are set of different excesses under material damage section</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00"/>
                </a:solidFill>
                <a:latin typeface="Arial"/>
              </a:rPr>
              <a:t>Storage &amp; Erection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Testin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Major Perils/AOG claim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Fire/ Explos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 Separate excess for CPM</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talyst (5%/Rs 10,00,0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62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BASIS OF LOSS SETTLEMENT</a:t>
            </a:r>
            <a:endParaRPr b="0" lang="en-US" sz="3600" spc="-1" strike="noStrike">
              <a:solidFill>
                <a:srgbClr val="000000"/>
              </a:solidFill>
              <a:latin typeface="Times New Roman"/>
            </a:endParaRPr>
          </a:p>
        </p:txBody>
      </p:sp>
      <p:sp>
        <p:nvSpPr>
          <p:cNvPr id="298" name=""/>
          <p:cNvSpPr txBox="1"/>
          <p:nvPr/>
        </p:nvSpPr>
        <p:spPr>
          <a:xfrm>
            <a:off x="151920" y="761760"/>
            <a:ext cx="8915400" cy="6019560"/>
          </a:xfrm>
          <a:prstGeom prst="rect">
            <a:avLst/>
          </a:prstGeom>
          <a:noFill/>
          <a:ln w="0">
            <a:noFill/>
          </a:ln>
        </p:spPr>
        <p:txBody>
          <a:bodyPr anchor="t">
            <a:normAutofit fontScale="96000"/>
          </a:bodyPr>
          <a:p>
            <a:pPr marL="493560" indent="-493560">
              <a:spcBef>
                <a:spcPts val="7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n case of repair damage, the cost of repairs necessary to restore the item to their condition immediately before the occurrence/event of the loss/damage  less salvage OR</a:t>
            </a:r>
            <a:endParaRPr b="0" lang="en-US" sz="3200" spc="-1" strike="noStrike">
              <a:solidFill>
                <a:srgbClr val="000000"/>
              </a:solidFill>
              <a:latin typeface="Times New Roman"/>
            </a:endParaRPr>
          </a:p>
          <a:p>
            <a:pPr marL="493560" indent="-493560">
              <a:spcBef>
                <a:spcPts val="799"/>
              </a:spcBef>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imes New Roman"/>
              </a:rPr>
              <a:t>In case of a total loss the actual value of the items immediately before the occurrence/event of the loss/ damage less salvage</a:t>
            </a:r>
            <a:endParaRPr b="0" lang="en-US" sz="3200" spc="-1" strike="noStrike">
              <a:solidFill>
                <a:srgbClr val="000000"/>
              </a:solidFill>
              <a:latin typeface="Times New Roman"/>
            </a:endParaRPr>
          </a:p>
          <a:p>
            <a:pPr marL="493560" indent="-49356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f repair cost exceeds or equals the value of the items immediately before the occurrence, the settlement as per Sl No 2 above</a:t>
            </a:r>
            <a:endParaRPr b="0" lang="en-US" sz="3200" spc="-1" strike="noStrike">
              <a:solidFill>
                <a:srgbClr val="000000"/>
              </a:solidFill>
              <a:latin typeface="Times New Roman"/>
            </a:endParaRPr>
          </a:p>
          <a:p>
            <a:pPr marL="493560" indent="-493560">
              <a:spcBef>
                <a:spcPts val="799"/>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imes New Roman"/>
              </a:rPr>
              <a:t>Cost of alterations, additions and/ or improvements shall not be recover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STALMENT CLAUSE</a:t>
            </a:r>
            <a:endParaRPr b="0" lang="en-US" sz="4400" spc="-1" strike="noStrike">
              <a:solidFill>
                <a:srgbClr val="000000"/>
              </a:solidFill>
              <a:latin typeface="Times New Roman"/>
            </a:endParaRPr>
          </a:p>
        </p:txBody>
      </p:sp>
      <p:sp>
        <p:nvSpPr>
          <p:cNvPr id="300" name="PlaceHolder 2"/>
          <p:cNvSpPr>
            <a:spLocks noGrp="1"/>
          </p:cNvSpPr>
          <p:nvPr>
            <p:ph/>
          </p:nvPr>
        </p:nvSpPr>
        <p:spPr>
          <a:xfrm>
            <a:off x="685800" y="1600200"/>
            <a:ext cx="7772400" cy="4495680"/>
          </a:xfrm>
          <a:prstGeom prst="rect">
            <a:avLst/>
          </a:prstGeom>
          <a:noFill/>
          <a:ln w="76320">
            <a:solidFill>
              <a:srgbClr val="0000ff"/>
            </a:solidFill>
            <a:miter/>
          </a:ln>
        </p:spPr>
        <p:txBody>
          <a:bodyPr anchor="t">
            <a:normAutofit/>
          </a:bodyPr>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olicy period &gt; 12 Months</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First installment to be higher by 5% of total Premium over other installment</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All other installment should be equal</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ast installment 6 months before expiry</a:t>
            </a: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inimum intervals between two installments is 3 months</a:t>
            </a:r>
            <a:endParaRPr b="0" lang="en-US" sz="3200" spc="-1" strike="noStrike">
              <a:solidFill>
                <a:srgbClr val="000000"/>
              </a:solidFill>
              <a:latin typeface="Times New Roman"/>
            </a:endParaRPr>
          </a:p>
        </p:txBody>
      </p:sp>
    </p:spTree>
  </p:cSld>
  <p:transition>
    <p:zoom dir="in"/>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289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ADVANCE LOSS OF PROFIT/DELAY IN START UP (ALOP/DSU</a:t>
            </a:r>
            <a:endParaRPr b="0" lang="en-US" sz="3200" spc="-1" strike="noStrike">
              <a:solidFill>
                <a:srgbClr val="000000"/>
              </a:solidFill>
              <a:latin typeface="Times New Roman"/>
            </a:endParaRPr>
          </a:p>
        </p:txBody>
      </p:sp>
      <p:sp>
        <p:nvSpPr>
          <p:cNvPr id="302" name=""/>
          <p:cNvSpPr txBox="1"/>
          <p:nvPr/>
        </p:nvSpPr>
        <p:spPr>
          <a:xfrm>
            <a:off x="644040" y="1066320"/>
            <a:ext cx="8458200" cy="5715000"/>
          </a:xfrm>
          <a:prstGeom prst="rect">
            <a:avLst/>
          </a:prstGeom>
          <a:noFill/>
          <a:ln w="0">
            <a:noFill/>
          </a:ln>
        </p:spPr>
        <p:txBody>
          <a:bodyPr anchor="t">
            <a:normAutofit fontScale="98000"/>
          </a:bodyPr>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FULLY RI DRIVEN. PROPOSALS TO BE REFERRED TO HO AND TERMS OBTINED FROM HO</a:t>
            </a:r>
            <a:endParaRPr b="0" lang="en-US" sz="2000" spc="-1" strike="noStrike">
              <a:solidFill>
                <a:srgbClr val="000000"/>
              </a:solidFill>
              <a:latin typeface="Times New Roman"/>
            </a:endParaRPr>
          </a:p>
          <a:p>
            <a:pPr marL="335880" indent="-3358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ONLY PRINCIPLE / OWNER OF THE PROJECT CAN AVAIL</a:t>
            </a:r>
            <a:endParaRPr b="0" lang="en-US" sz="2000" spc="-1" strike="noStrike">
              <a:solidFill>
                <a:srgbClr val="000000"/>
              </a:solidFill>
              <a:latin typeface="Times New Roman"/>
            </a:endParaRPr>
          </a:p>
          <a:p>
            <a:pPr marL="335880" indent="-3358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COPE</a:t>
            </a:r>
            <a:r>
              <a:rPr b="1" lang="en-US" sz="2000" spc="-1" strike="noStrike">
                <a:solidFill>
                  <a:srgbClr val="000000"/>
                </a:solidFill>
                <a:latin typeface="Arial"/>
                <a:ea typeface="Arial"/>
              </a:rPr>
              <a:t>: </a:t>
            </a:r>
            <a:r>
              <a:rPr b="1" lang="en-US" sz="2000" spc="-1" strike="noStrike">
                <a:solidFill>
                  <a:srgbClr val="009900"/>
                </a:solidFill>
                <a:latin typeface="Arial"/>
                <a:ea typeface="Arial"/>
              </a:rPr>
              <a:t>REVENUE LOSS ARISING OUT OF DELAY IN COMPLETION OF PROJECT AS PER ORIGINAL COMMERCIAL OPERATIONAL DATE(COD) DUE TO OPERATION OF INSURED PERIL COVERED UNDER MATERIAL DAMAGE POLICY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OP MD POLICY : CAR/EAR</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MD POLICY MARINE CARGO</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POLICY PERIOD OF MD AND BI POLICIES SHOULD BE IDENTICAL</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ALOP CLAIMS RELATED MD LOSES OCCURRED WITH IN THE PROJECT BOUNDRY</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DSU CLAIMS RELAED TO MD LOSSES OCCURRED AWAY FROM THE BOUNDRY OF THE PROJECT</a:t>
            </a:r>
            <a:endParaRPr b="0" lang="en-US" sz="2000" spc="-1" strike="noStrike">
              <a:solidFill>
                <a:srgbClr val="000000"/>
              </a:solidFill>
              <a:latin typeface="Times New Roman"/>
            </a:endParaRPr>
          </a:p>
          <a:p>
            <a:pPr marL="335880" indent="-3358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ONE EXCESS CLAIM</a:t>
            </a:r>
            <a:endParaRPr b="0" lang="en-US" sz="2000" spc="-1" strike="noStrike">
              <a:solidFill>
                <a:srgbClr val="000000"/>
              </a:solidFill>
              <a:latin typeface="Times New Roman"/>
            </a:endParaRPr>
          </a:p>
        </p:txBody>
      </p:sp>
      <p:sp>
        <p:nvSpPr>
          <p:cNvPr id="303" name="Rectangle 3"/>
          <p:cNvSpPr/>
          <p:nvPr/>
        </p:nvSpPr>
        <p:spPr>
          <a:xfrm>
            <a:off x="6858000" y="2590920"/>
            <a:ext cx="46080" cy="46080"/>
          </a:xfrm>
          <a:prstGeom prst="rect">
            <a:avLst/>
          </a:prstGeom>
          <a:solidFill>
            <a:srgbClr val="00cc99"/>
          </a:solidFill>
          <a:ln w="9360">
            <a:solidFill>
              <a:srgbClr val="000000"/>
            </a:solidFill>
            <a:round/>
          </a:ln>
        </p:spPr>
        <p:style>
          <a:lnRef idx="0"/>
          <a:fillRef idx="0"/>
          <a:effectRef idx="0"/>
          <a:fontRef idx="minor"/>
        </p:style>
        <p:txBody>
          <a:bodyPr lIns="90000" rIns="90000" tIns="-720" bIns="-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1600200"/>
            <a:ext cx="7848720" cy="2666880"/>
          </a:xfrm>
          <a:prstGeom prst="rect">
            <a:avLst/>
          </a:prstGeom>
          <a:no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9900"/>
                </a:solidFill>
                <a:latin typeface="Arial"/>
              </a:rPr>
              <a:t>MACHINERY BREAKDOWN</a:t>
            </a:r>
            <a:endParaRPr b="0" lang="en-US" sz="6600" spc="-1" strike="noStrike">
              <a:solidFill>
                <a:srgbClr val="000000"/>
              </a:solidFill>
              <a:latin typeface="Times New Roman"/>
            </a:endParaRPr>
          </a:p>
        </p:txBody>
      </p:sp>
      <p:sp>
        <p:nvSpPr>
          <p:cNvPr id="305" name="PlaceHolder 2"/>
          <p:cNvSpPr>
            <a:spLocks noGrp="1"/>
          </p:cNvSpPr>
          <p:nvPr>
            <p:ph type="subTitle"/>
          </p:nvPr>
        </p:nvSpPr>
        <p:spPr>
          <a:xfrm>
            <a:off x="1371600" y="7238520"/>
            <a:ext cx="6400800" cy="76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1592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2400" spc="-1" strike="noStrike">
              <a:solidFill>
                <a:srgbClr val="000000"/>
              </a:solidFill>
              <a:latin typeface="Times New Roman"/>
            </a:endParaRPr>
          </a:p>
        </p:txBody>
      </p:sp>
      <p:sp>
        <p:nvSpPr>
          <p:cNvPr id="116" name="PlaceHolder 2"/>
          <p:cNvSpPr>
            <a:spLocks noGrp="1"/>
          </p:cNvSpPr>
          <p:nvPr>
            <p:ph type="subTitle"/>
          </p:nvPr>
        </p:nvSpPr>
        <p:spPr>
          <a:xfrm>
            <a:off x="228600" y="456840"/>
            <a:ext cx="8763120" cy="6172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REA OF BUILDING: 100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ST OF CONSTRUCTION DECLERED  &amp; ACCEPTED BY INSURER: Rs 20,000/- PER SQM</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Rs. 20,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TAL LOSS DUE TO EQ TOTALLY</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URVEYOR ASSESSED RE CONST COST AT Rs 16,000/- PER SQM AS ON DATE OF LOSS ACCORDINGLY LOSS AT Rs: 16,00,00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INCE INSURER ACCEPTED FOR Rs 20,00,000/- SAME SHALL BE INDEMN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228240"/>
            <a:ext cx="76960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SCOPE OF COVER</a:t>
            </a:r>
            <a:endParaRPr b="0" lang="en-US" sz="4400" spc="-1" strike="noStrike">
              <a:solidFill>
                <a:srgbClr val="000000"/>
              </a:solidFill>
              <a:latin typeface="Times New Roman"/>
            </a:endParaRPr>
          </a:p>
        </p:txBody>
      </p:sp>
      <p:sp>
        <p:nvSpPr>
          <p:cNvPr id="307" name="PlaceHolder 2"/>
          <p:cNvSpPr>
            <a:spLocks noGrp="1"/>
          </p:cNvSpPr>
          <p:nvPr>
            <p:ph/>
          </p:nvPr>
        </p:nvSpPr>
        <p:spPr>
          <a:xfrm>
            <a:off x="456840" y="914040"/>
            <a:ext cx="8001000" cy="5334120"/>
          </a:xfrm>
          <a:prstGeom prst="rect">
            <a:avLst/>
          </a:prstGeom>
          <a:noFill/>
          <a:ln w="7632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Policy covers  insured property aft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successful completion  of performance tests</a:t>
            </a:r>
            <a:endParaRPr b="0" lang="en-US" sz="2800" spc="-1" strike="noStrike">
              <a:solidFill>
                <a:srgbClr val="000000"/>
              </a:solidFill>
              <a:latin typeface="Times New Roman"/>
            </a:endParaRPr>
          </a:p>
          <a:p>
            <a:pPr marL="343080" indent="-34308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unforeseen physical  damage </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whether they are at work or at rest</a:t>
            </a:r>
            <a:endParaRPr b="0" lang="en-US" sz="2800" spc="-1" strike="noStrike">
              <a:solidFill>
                <a:srgbClr val="000000"/>
              </a:solidFill>
              <a:latin typeface="Times New Roman"/>
            </a:endParaRPr>
          </a:p>
          <a:p>
            <a:pPr lvl="1" marL="743040" indent="-285840">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being dismantled for the purpose of cleaning or overhauling</a:t>
            </a:r>
            <a:r>
              <a:rPr b="0" lang="en-US" sz="2800" spc="-1" strike="noStrike">
                <a:solidFill>
                  <a:srgbClr val="000000"/>
                </a:solidFill>
                <a:latin typeface="Arial"/>
              </a:rPr>
              <a:t>  </a:t>
            </a:r>
            <a:endParaRPr b="0" lang="en-US" sz="2800" spc="-1" strike="noStrike">
              <a:solidFill>
                <a:srgbClr val="000000"/>
              </a:solidFill>
              <a:latin typeface="Times New Roman"/>
            </a:endParaRPr>
          </a:p>
          <a:p>
            <a:pPr lvl="2" marL="1143000" indent="-228600">
              <a:lnSpc>
                <a:spcPct val="100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 the course of aforesaid operations</a:t>
            </a:r>
            <a:r>
              <a:rPr b="0" lang="en-US" sz="2800" spc="-1" strike="noStrike">
                <a:solidFill>
                  <a:srgbClr val="ff0000"/>
                </a:solidFill>
                <a:latin typeface="Arial"/>
              </a:rPr>
              <a:t> </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when being shifted within the premises</a:t>
            </a:r>
            <a:endParaRPr b="0" lang="en-US" sz="28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uring subsequent re-erection</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CHINERY BREAKDOWN INSURANCE </a:t>
            </a:r>
            <a:br>
              <a:rPr sz="3600"/>
            </a:br>
            <a:endParaRPr b="0" lang="en-US" sz="3600" spc="-1" strike="noStrike">
              <a:solidFill>
                <a:srgbClr val="000000"/>
              </a:solidFill>
              <a:latin typeface="Times New Roman"/>
            </a:endParaRPr>
          </a:p>
        </p:txBody>
      </p:sp>
      <p:sp>
        <p:nvSpPr>
          <p:cNvPr id="309" name="PlaceHolder 2"/>
          <p:cNvSpPr>
            <a:spLocks noGrp="1"/>
          </p:cNvSpPr>
          <p:nvPr>
            <p:ph/>
          </p:nvPr>
        </p:nvSpPr>
        <p:spPr>
          <a:xfrm>
            <a:off x="685800" y="1981080"/>
            <a:ext cx="5867280" cy="4114800"/>
          </a:xfrm>
          <a:prstGeom prst="rect">
            <a:avLst/>
          </a:prstGeom>
          <a:noFill/>
          <a:ln w="0">
            <a:noFill/>
          </a:ln>
        </p:spPr>
        <p:txBody>
          <a:bodyPr anchor="t">
            <a:normAutofit/>
          </a:bodyPr>
          <a:p>
            <a:pPr marL="343080" indent="-343080">
              <a:lnSpc>
                <a:spcPct val="130000"/>
              </a:lnSpc>
              <a:spcBef>
                <a:spcPts val="799"/>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Bookman Old Style"/>
              </a:rPr>
              <a:t>All Type of Electrical/Mechanical machineries used for production</a:t>
            </a:r>
            <a:endParaRPr b="0" lang="en-US" sz="3200" spc="-1" strike="noStrike">
              <a:solidFill>
                <a:srgbClr val="000000"/>
              </a:solidFill>
              <a:latin typeface="Times New Roman"/>
            </a:endParaRPr>
          </a:p>
          <a:p>
            <a:pPr marL="343080" indent="-343080">
              <a:lnSpc>
                <a:spcPct val="130000"/>
              </a:lnSpc>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Including second hand machineries (o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309">
                                            <p:txEl>
                                              <p:pRg st="0" end="0"/>
                                            </p:txEl>
                                          </p:spTgt>
                                        </p:tgtEl>
                                        <p:attrNameLst>
                                          <p:attrName>style.visibility</p:attrName>
                                        </p:attrNameLst>
                                      </p:cBhvr>
                                      <p:to>
                                        <p:strVal val="visible"/>
                                      </p:to>
                                    </p:set>
                                    <p:anim calcmode="lin" valueType="num">
                                      <p:cBhvr additive="base">
                                        <p:cTn id="373"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3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309">
                                            <p:txEl>
                                              <p:pRg st="1" end="1"/>
                                            </p:txEl>
                                          </p:spTgt>
                                        </p:tgtEl>
                                        <p:attrNameLst>
                                          <p:attrName>style.visibility</p:attrName>
                                        </p:attrNameLst>
                                      </p:cBhvr>
                                      <p:to>
                                        <p:strVal val="visible"/>
                                      </p:to>
                                    </p:set>
                                    <p:anim calcmode="lin" valueType="num">
                                      <p:cBhvr additive="base">
                                        <p:cTn id="379"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30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1760" y="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cc0000"/>
                </a:solidFill>
                <a:latin typeface="Times New Roman"/>
              </a:rPr>
              <a:t>Mechanical Breakdown due to :</a:t>
            </a:r>
            <a:br>
              <a:rPr sz="4400"/>
            </a:br>
            <a:endParaRPr b="0" lang="en-US" sz="4400" spc="-1" strike="noStrike">
              <a:solidFill>
                <a:srgbClr val="000000"/>
              </a:solidFill>
              <a:latin typeface="Times New Roman"/>
            </a:endParaRPr>
          </a:p>
        </p:txBody>
      </p:sp>
      <p:sp>
        <p:nvSpPr>
          <p:cNvPr id="311" name="PlaceHolder 2"/>
          <p:cNvSpPr>
            <a:spLocks noGrp="1"/>
          </p:cNvSpPr>
          <p:nvPr>
            <p:ph/>
          </p:nvPr>
        </p:nvSpPr>
        <p:spPr>
          <a:xfrm>
            <a:off x="533160" y="1904760"/>
            <a:ext cx="7924680" cy="4267080"/>
          </a:xfrm>
          <a:prstGeom prst="rect">
            <a:avLst/>
          </a:prstGeom>
          <a:noFill/>
          <a:ln w="76320">
            <a:solidFill>
              <a:srgbClr val="000000"/>
            </a:solidFill>
            <a:miter/>
          </a:ln>
        </p:spPr>
        <p:txBody>
          <a:bodyPr anchor="t">
            <a:normAutofit/>
          </a:bodyPr>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Entry of foreign object</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safety device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ulty ope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Failure of parts - </a:t>
            </a:r>
            <a:endParaRPr b="0" lang="en-US" sz="3200" spc="-1" strike="noStrike">
              <a:solidFill>
                <a:srgbClr val="000000"/>
              </a:solidFill>
              <a:latin typeface="Times New Roman"/>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cc0000"/>
                </a:solidFill>
                <a:latin typeface="Times New Roman"/>
              </a:rPr>
              <a:t>rotating/reciprocating</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vibrations</a:t>
            </a:r>
            <a:endParaRPr b="0" lang="en-US" sz="3200" spc="-1" strike="noStrike">
              <a:solidFill>
                <a:srgbClr val="000000"/>
              </a:solidFill>
              <a:latin typeface="Times New Roman"/>
            </a:endParaRPr>
          </a:p>
          <a:p>
            <a:pPr lvl="2" marL="1143000" indent="-228600">
              <a:spcBef>
                <a:spcPts val="799"/>
              </a:spcBef>
              <a:buClr>
                <a:srgbClr val="cc0099"/>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arelessn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311">
                                            <p:txEl>
                                              <p:pRg st="0" end="0"/>
                                            </p:txEl>
                                          </p:spTgt>
                                        </p:tgtEl>
                                        <p:attrNameLst>
                                          <p:attrName>style.visibility</p:attrName>
                                        </p:attrNameLst>
                                      </p:cBhvr>
                                      <p:to>
                                        <p:strVal val="visible"/>
                                      </p:to>
                                    </p:set>
                                    <p:anim calcmode="lin" valueType="num">
                                      <p:cBhvr additive="base">
                                        <p:cTn id="387" dur="500" fill="hold"/>
                                        <p:tgtEl>
                                          <p:spTgt spid="311">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311">
                                            <p:txEl>
                                              <p:pRg st="0" end="0"/>
                                            </p:txEl>
                                          </p:spTgt>
                                        </p:tgtEl>
                                        <p:attrNameLst>
                                          <p:attrName>ppt_y</p:attrName>
                                        </p:attrNameLst>
                                      </p:cBhvr>
                                      <p:tavLst>
                                        <p:tav tm="0">
                                          <p:val>
                                            <p:strVal val="0-#ppt_h/2"/>
                                          </p:val>
                                        </p:tav>
                                        <p:tav tm="100000">
                                          <p:val>
                                            <p:strVal val="#ppt_y"/>
                                          </p:val>
                                        </p:tav>
                                      </p:tavLst>
                                    </p:anim>
                                  </p:childTnLst>
                                </p:cTn>
                              </p:par>
                              <p:par>
                                <p:cTn id="389" nodeType="withEffect" fill="hold" presetClass="entr" presetID="2" presetSubtype="1">
                                  <p:stCondLst>
                                    <p:cond delay="0"/>
                                  </p:stCondLst>
                                  <p:childTnLst>
                                    <p:set>
                                      <p:cBhvr>
                                        <p:cTn id="390" dur="1" fill="hold">
                                          <p:stCondLst>
                                            <p:cond delay="0"/>
                                          </p:stCondLst>
                                        </p:cTn>
                                        <p:tgtEl>
                                          <p:spTgt spid="311">
                                            <p:txEl>
                                              <p:pRg st="1" end="1"/>
                                            </p:txEl>
                                          </p:spTgt>
                                        </p:tgtEl>
                                        <p:attrNameLst>
                                          <p:attrName>style.visibility</p:attrName>
                                        </p:attrNameLst>
                                      </p:cBhvr>
                                      <p:to>
                                        <p:strVal val="visible"/>
                                      </p:to>
                                    </p:set>
                                    <p:anim calcmode="lin" valueType="num">
                                      <p:cBhvr additive="base">
                                        <p:cTn id="391" dur="500" fill="hold"/>
                                        <p:tgtEl>
                                          <p:spTgt spid="311">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311">
                                            <p:txEl>
                                              <p:pRg st="1" end="1"/>
                                            </p:txEl>
                                          </p:spTgt>
                                        </p:tgtEl>
                                        <p:attrNameLst>
                                          <p:attrName>ppt_y</p:attrName>
                                        </p:attrNameLst>
                                      </p:cBhvr>
                                      <p:tavLst>
                                        <p:tav tm="0">
                                          <p:val>
                                            <p:strVal val="0-#ppt_h/2"/>
                                          </p:val>
                                        </p:tav>
                                        <p:tav tm="100000">
                                          <p:val>
                                            <p:strVal val="#ppt_y"/>
                                          </p:val>
                                        </p:tav>
                                      </p:tavLst>
                                    </p:anim>
                                  </p:childTnLst>
                                </p:cTn>
                              </p:par>
                              <p:par>
                                <p:cTn id="393" nodeType="withEffect" fill="hold" presetClass="entr" presetID="2" presetSubtype="1">
                                  <p:stCondLst>
                                    <p:cond delay="0"/>
                                  </p:stCondLst>
                                  <p:childTnLst>
                                    <p:set>
                                      <p:cBhvr>
                                        <p:cTn id="394" dur="1" fill="hold">
                                          <p:stCondLst>
                                            <p:cond delay="0"/>
                                          </p:stCondLst>
                                        </p:cTn>
                                        <p:tgtEl>
                                          <p:spTgt spid="311">
                                            <p:txEl>
                                              <p:pRg st="2" end="2"/>
                                            </p:txEl>
                                          </p:spTgt>
                                        </p:tgtEl>
                                        <p:attrNameLst>
                                          <p:attrName>style.visibility</p:attrName>
                                        </p:attrNameLst>
                                      </p:cBhvr>
                                      <p:to>
                                        <p:strVal val="visible"/>
                                      </p:to>
                                    </p:set>
                                    <p:anim calcmode="lin" valueType="num">
                                      <p:cBhvr additive="base">
                                        <p:cTn id="395" dur="500" fill="hold"/>
                                        <p:tgtEl>
                                          <p:spTgt spid="31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311">
                                            <p:txEl>
                                              <p:pRg st="2" end="2"/>
                                            </p:txEl>
                                          </p:spTgt>
                                        </p:tgtEl>
                                        <p:attrNameLst>
                                          <p:attrName>ppt_y</p:attrName>
                                        </p:attrNameLst>
                                      </p:cBhvr>
                                      <p:tavLst>
                                        <p:tav tm="0">
                                          <p:val>
                                            <p:strVal val="0-#ppt_h/2"/>
                                          </p:val>
                                        </p:tav>
                                        <p:tav tm="100000">
                                          <p:val>
                                            <p:strVal val="#ppt_y"/>
                                          </p:val>
                                        </p:tav>
                                      </p:tavLst>
                                    </p:anim>
                                  </p:childTnLst>
                                </p:cTn>
                              </p:par>
                              <p:par>
                                <p:cTn id="397" nodeType="withEffect" fill="hold" presetClass="entr" presetID="2" presetSubtype="1">
                                  <p:stCondLst>
                                    <p:cond delay="0"/>
                                  </p:stCondLst>
                                  <p:childTnLst>
                                    <p:set>
                                      <p:cBhvr>
                                        <p:cTn id="398" dur="1" fill="hold">
                                          <p:stCondLst>
                                            <p:cond delay="0"/>
                                          </p:stCondLst>
                                        </p:cTn>
                                        <p:tgtEl>
                                          <p:spTgt spid="311">
                                            <p:txEl>
                                              <p:pRg st="3" end="3"/>
                                            </p:txEl>
                                          </p:spTgt>
                                        </p:tgtEl>
                                        <p:attrNameLst>
                                          <p:attrName>style.visibility</p:attrName>
                                        </p:attrNameLst>
                                      </p:cBhvr>
                                      <p:to>
                                        <p:strVal val="visible"/>
                                      </p:to>
                                    </p:set>
                                    <p:anim calcmode="lin" valueType="num">
                                      <p:cBhvr additive="base">
                                        <p:cTn id="399" dur="500" fill="hold"/>
                                        <p:tgtEl>
                                          <p:spTgt spid="311">
                                            <p:txEl>
                                              <p:pRg st="3" end="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311">
                                            <p:txEl>
                                              <p:pRg st="3" end="3"/>
                                            </p:txEl>
                                          </p:spTgt>
                                        </p:tgtEl>
                                        <p:attrNameLst>
                                          <p:attrName>ppt_y</p:attrName>
                                        </p:attrNameLst>
                                      </p:cBhvr>
                                      <p:tavLst>
                                        <p:tav tm="0">
                                          <p:val>
                                            <p:strVal val="0-#ppt_h/2"/>
                                          </p:val>
                                        </p:tav>
                                        <p:tav tm="100000">
                                          <p:val>
                                            <p:strVal val="#ppt_y"/>
                                          </p:val>
                                        </p:tav>
                                      </p:tavLst>
                                    </p:anim>
                                  </p:childTnLst>
                                </p:cTn>
                              </p:par>
                              <p:par>
                                <p:cTn id="401" nodeType="withEffect" fill="hold" presetClass="entr" presetID="2" presetSubtype="1">
                                  <p:stCondLst>
                                    <p:cond delay="0"/>
                                  </p:stCondLst>
                                  <p:childTnLst>
                                    <p:set>
                                      <p:cBhvr>
                                        <p:cTn id="402" dur="1" fill="hold">
                                          <p:stCondLst>
                                            <p:cond delay="0"/>
                                          </p:stCondLst>
                                        </p:cTn>
                                        <p:tgtEl>
                                          <p:spTgt spid="311">
                                            <p:txEl>
                                              <p:pRg st="4" end="4"/>
                                            </p:txEl>
                                          </p:spTgt>
                                        </p:tgtEl>
                                        <p:attrNameLst>
                                          <p:attrName>style.visibility</p:attrName>
                                        </p:attrNameLst>
                                      </p:cBhvr>
                                      <p:to>
                                        <p:strVal val="visible"/>
                                      </p:to>
                                    </p:set>
                                    <p:anim calcmode="lin" valueType="num">
                                      <p:cBhvr additive="base">
                                        <p:cTn id="403" dur="500" fill="hold"/>
                                        <p:tgtEl>
                                          <p:spTgt spid="311">
                                            <p:txEl>
                                              <p:pRg st="4" end="4"/>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311">
                                            <p:txEl>
                                              <p:pRg st="4" end="4"/>
                                            </p:txEl>
                                          </p:spTgt>
                                        </p:tgtEl>
                                        <p:attrNameLst>
                                          <p:attrName>ppt_y</p:attrName>
                                        </p:attrNameLst>
                                      </p:cBhvr>
                                      <p:tavLst>
                                        <p:tav tm="0">
                                          <p:val>
                                            <p:strVal val="0-#ppt_h/2"/>
                                          </p:val>
                                        </p:tav>
                                        <p:tav tm="100000">
                                          <p:val>
                                            <p:strVal val="#ppt_y"/>
                                          </p:val>
                                        </p:tav>
                                      </p:tavLst>
                                    </p:anim>
                                  </p:childTnLst>
                                </p:cTn>
                              </p:par>
                              <p:par>
                                <p:cTn id="405" nodeType="withEffect" fill="hold" presetClass="entr" presetID="2" presetSubtype="1">
                                  <p:stCondLst>
                                    <p:cond delay="0"/>
                                  </p:stCondLst>
                                  <p:childTnLst>
                                    <p:set>
                                      <p:cBhvr>
                                        <p:cTn id="406" dur="1" fill="hold">
                                          <p:stCondLst>
                                            <p:cond delay="0"/>
                                          </p:stCondLst>
                                        </p:cTn>
                                        <p:tgtEl>
                                          <p:spTgt spid="311">
                                            <p:txEl>
                                              <p:pRg st="5" end="5"/>
                                            </p:txEl>
                                          </p:spTgt>
                                        </p:tgtEl>
                                        <p:attrNameLst>
                                          <p:attrName>style.visibility</p:attrName>
                                        </p:attrNameLst>
                                      </p:cBhvr>
                                      <p:to>
                                        <p:strVal val="visible"/>
                                      </p:to>
                                    </p:set>
                                    <p:anim calcmode="lin" valueType="num">
                                      <p:cBhvr additive="base">
                                        <p:cTn id="407" dur="500" fill="hold"/>
                                        <p:tgtEl>
                                          <p:spTgt spid="311">
                                            <p:txEl>
                                              <p:pRg st="5" end="5"/>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311">
                                            <p:txEl>
                                              <p:pRg st="5" end="5"/>
                                            </p:txEl>
                                          </p:spTgt>
                                        </p:tgtEl>
                                        <p:attrNameLst>
                                          <p:attrName>ppt_y</p:attrName>
                                        </p:attrNameLst>
                                      </p:cBhvr>
                                      <p:tavLst>
                                        <p:tav tm="0">
                                          <p:val>
                                            <p:strVal val="0-#ppt_h/2"/>
                                          </p:val>
                                        </p:tav>
                                        <p:tav tm="100000">
                                          <p:val>
                                            <p:strVal val="#ppt_y"/>
                                          </p:val>
                                        </p:tav>
                                      </p:tavLst>
                                    </p:anim>
                                  </p:childTnLst>
                                </p:cTn>
                              </p:par>
                              <p:par>
                                <p:cTn id="409" nodeType="withEffect" fill="hold" presetClass="entr" presetID="2" presetSubtype="1">
                                  <p:stCondLst>
                                    <p:cond delay="0"/>
                                  </p:stCondLst>
                                  <p:childTnLst>
                                    <p:set>
                                      <p:cBhvr>
                                        <p:cTn id="410" dur="1" fill="hold">
                                          <p:stCondLst>
                                            <p:cond delay="0"/>
                                          </p:stCondLst>
                                        </p:cTn>
                                        <p:tgtEl>
                                          <p:spTgt spid="311">
                                            <p:txEl>
                                              <p:pRg st="6" end="6"/>
                                            </p:txEl>
                                          </p:spTgt>
                                        </p:tgtEl>
                                        <p:attrNameLst>
                                          <p:attrName>style.visibility</p:attrName>
                                        </p:attrNameLst>
                                      </p:cBhvr>
                                      <p:to>
                                        <p:strVal val="visible"/>
                                      </p:to>
                                    </p:set>
                                    <p:anim calcmode="lin" valueType="num">
                                      <p:cBhvr additive="base">
                                        <p:cTn id="411" dur="500" fill="hold"/>
                                        <p:tgtEl>
                                          <p:spTgt spid="311">
                                            <p:txEl>
                                              <p:pRg st="6" end="6"/>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311">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95160" y="-45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Times New Roman"/>
              </a:rPr>
              <a:t>SCHEDULE </a:t>
            </a:r>
            <a:endParaRPr b="0" lang="en-US" sz="3600" spc="-1" strike="noStrike">
              <a:solidFill>
                <a:srgbClr val="000000"/>
              </a:solidFill>
              <a:latin typeface="Times New Roman"/>
            </a:endParaRPr>
          </a:p>
        </p:txBody>
      </p:sp>
      <p:graphicFrame>
        <p:nvGraphicFramePr>
          <p:cNvPr id="313" name=""/>
          <p:cNvGraphicFramePr/>
          <p:nvPr/>
        </p:nvGraphicFramePr>
        <p:xfrm>
          <a:off x="838080" y="685800"/>
          <a:ext cx="7772400" cy="2835360"/>
        </p:xfrm>
        <a:graphic>
          <a:graphicData uri="http://schemas.openxmlformats.org/drawingml/2006/table">
            <a:tbl>
              <a:tblPr/>
              <a:tblGrid>
                <a:gridCol w="762120"/>
                <a:gridCol w="1219320"/>
                <a:gridCol w="1904760"/>
                <a:gridCol w="1295640"/>
                <a:gridCol w="1295280"/>
                <a:gridCol w="1295280"/>
              </a:tblGrid>
              <a:tr h="2835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l N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Quand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scription, type, model,capacity, Sr. No, HP/KVA, V, A RPM (Name plale detail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EM. Imported/ Indigeneou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ear of mak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m Insured (CNRV) including packing, freight, custom duty and cost of erec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imes New Roman"/>
              </a:rPr>
              <a:t>SCHEDULE</a:t>
            </a:r>
            <a:endParaRPr b="0" lang="en-US" sz="3200" spc="-1" strike="noStrike">
              <a:solidFill>
                <a:srgbClr val="000000"/>
              </a:solidFill>
              <a:latin typeface="Times New Roman"/>
            </a:endParaRPr>
          </a:p>
        </p:txBody>
      </p:sp>
      <p:sp>
        <p:nvSpPr>
          <p:cNvPr id="315" name=""/>
          <p:cNvSpPr txBox="1"/>
          <p:nvPr/>
        </p:nvSpPr>
        <p:spPr>
          <a:xfrm>
            <a:off x="690480" y="2286000"/>
            <a:ext cx="7772400" cy="4114800"/>
          </a:xfrm>
          <a:prstGeom prst="rect">
            <a:avLst/>
          </a:prstGeom>
          <a:noFill/>
          <a:ln w="0">
            <a:noFill/>
          </a:ln>
        </p:spPr>
        <p:txBody>
          <a:bodyPr anchor="t">
            <a:normAutofit fontScale="95000"/>
          </a:bodyPr>
          <a:p>
            <a:pPr marL="325800" indent="-325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eparate value for foundations masonry and brick work</a:t>
            </a:r>
            <a:endParaRPr b="0" lang="en-US" sz="3200" spc="-1" strike="noStrike">
              <a:solidFill>
                <a:srgbClr val="000000"/>
              </a:solidFill>
              <a:latin typeface="Times New Roman"/>
            </a:endParaRPr>
          </a:p>
          <a:p>
            <a:pPr marL="325800" indent="-3258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Oil in Transformer and other electrical Equipments to be specifically covered</a:t>
            </a:r>
            <a:endParaRPr b="0" lang="en-US" sz="3200" spc="-1" strike="noStrike">
              <a:solidFill>
                <a:srgbClr val="000000"/>
              </a:solidFill>
              <a:latin typeface="Times New Roman"/>
            </a:endParaRPr>
          </a:p>
          <a:p>
            <a:pPr marL="325800" indent="-325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Operating media such as Hydraulic oil to be specifically described in the schedule</a:t>
            </a:r>
            <a:endParaRPr b="0" lang="en-US" sz="3200" spc="-1" strike="noStrike">
              <a:solidFill>
                <a:srgbClr val="000000"/>
              </a:solidFill>
              <a:latin typeface="Times New Roman"/>
            </a:endParaRPr>
          </a:p>
          <a:p>
            <a:pPr marL="325800" indent="-32580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I should be declared as whole not by individual equipment (Ex Wind Turb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CLUSIONS</a:t>
            </a:r>
            <a:endParaRPr b="0" lang="en-US" sz="3600" spc="-1" strike="noStrike">
              <a:solidFill>
                <a:srgbClr val="000000"/>
              </a:solidFill>
              <a:latin typeface="Times New Roman"/>
            </a:endParaRPr>
          </a:p>
        </p:txBody>
      </p:sp>
      <p:sp>
        <p:nvSpPr>
          <p:cNvPr id="317" name="PlaceHolder 2"/>
          <p:cNvSpPr>
            <a:spLocks noGrp="1"/>
          </p:cNvSpPr>
          <p:nvPr>
            <p:ph/>
          </p:nvPr>
        </p:nvSpPr>
        <p:spPr>
          <a:xfrm>
            <a:off x="685800" y="1143000"/>
            <a:ext cx="7772400" cy="4952880"/>
          </a:xfrm>
          <a:prstGeom prst="rect">
            <a:avLst/>
          </a:prstGeom>
          <a:noFill/>
          <a:ln w="76320">
            <a:solidFill>
              <a:srgbClr val="33cccc"/>
            </a:solidFill>
            <a:miter/>
          </a:ln>
        </p:spPr>
        <p:txBody>
          <a:bodyPr anchor="t">
            <a:normAutofit/>
          </a:bodyPr>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Perils covered under Fire Policy</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ar and Nuclear perils</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Overload/uncertified tes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Normal wear &amp; tear</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Wilful act and wilful negligence</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isting defect</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Consequential loss of any kind</a:t>
            </a:r>
            <a:endParaRPr b="0" lang="en-US" sz="3200" spc="-1" strike="noStrike">
              <a:solidFill>
                <a:srgbClr val="000000"/>
              </a:solidFill>
              <a:latin typeface="Times New Roman"/>
            </a:endParaRPr>
          </a:p>
          <a:p>
            <a:pPr marL="343080" indent="-343080">
              <a:spcBef>
                <a:spcPts val="799"/>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Exces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1">
                                  <p:stCondLst>
                                    <p:cond delay="0"/>
                                  </p:stCondLst>
                                  <p:childTnLst>
                                    <p:set>
                                      <p:cBhvr>
                                        <p:cTn id="418" dur="1" fill="hold">
                                          <p:stCondLst>
                                            <p:cond delay="0"/>
                                          </p:stCondLst>
                                        </p:cTn>
                                        <p:tgtEl>
                                          <p:spTgt spid="317">
                                            <p:txEl>
                                              <p:pRg st="0" end="0"/>
                                            </p:txEl>
                                          </p:spTgt>
                                        </p:tgtEl>
                                        <p:attrNameLst>
                                          <p:attrName>style.visibility</p:attrName>
                                        </p:attrNameLst>
                                      </p:cBhvr>
                                      <p:to>
                                        <p:strVal val="visible"/>
                                      </p:to>
                                    </p:set>
                                    <p:anim calcmode="lin" valueType="num">
                                      <p:cBhvr additive="base">
                                        <p:cTn id="419" dur="5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3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317">
                                            <p:txEl>
                                              <p:pRg st="1" end="1"/>
                                            </p:txEl>
                                          </p:spTgt>
                                        </p:tgtEl>
                                        <p:attrNameLst>
                                          <p:attrName>style.visibility</p:attrName>
                                        </p:attrNameLst>
                                      </p:cBhvr>
                                      <p:to>
                                        <p:strVal val="visible"/>
                                      </p:to>
                                    </p:set>
                                    <p:anim calcmode="lin" valueType="num">
                                      <p:cBhvr additive="base">
                                        <p:cTn id="425" dur="5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3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317">
                                            <p:txEl>
                                              <p:pRg st="2" end="2"/>
                                            </p:txEl>
                                          </p:spTgt>
                                        </p:tgtEl>
                                        <p:attrNameLst>
                                          <p:attrName>style.visibility</p:attrName>
                                        </p:attrNameLst>
                                      </p:cBhvr>
                                      <p:to>
                                        <p:strVal val="visible"/>
                                      </p:to>
                                    </p:set>
                                    <p:anim calcmode="lin" valueType="num">
                                      <p:cBhvr additive="base">
                                        <p:cTn id="431" dur="5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3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1">
                                  <p:stCondLst>
                                    <p:cond delay="0"/>
                                  </p:stCondLst>
                                  <p:childTnLst>
                                    <p:set>
                                      <p:cBhvr>
                                        <p:cTn id="436" dur="1" fill="hold">
                                          <p:stCondLst>
                                            <p:cond delay="0"/>
                                          </p:stCondLst>
                                        </p:cTn>
                                        <p:tgtEl>
                                          <p:spTgt spid="317">
                                            <p:txEl>
                                              <p:pRg st="3" end="3"/>
                                            </p:txEl>
                                          </p:spTgt>
                                        </p:tgtEl>
                                        <p:attrNameLst>
                                          <p:attrName>style.visibility</p:attrName>
                                        </p:attrNameLst>
                                      </p:cBhvr>
                                      <p:to>
                                        <p:strVal val="visible"/>
                                      </p:to>
                                    </p:set>
                                    <p:anim calcmode="lin" valueType="num">
                                      <p:cBhvr additive="base">
                                        <p:cTn id="437" dur="500" fill="hold"/>
                                        <p:tgtEl>
                                          <p:spTgt spid="317">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31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1">
                                  <p:stCondLst>
                                    <p:cond delay="0"/>
                                  </p:stCondLst>
                                  <p:childTnLst>
                                    <p:set>
                                      <p:cBhvr>
                                        <p:cTn id="442" dur="1" fill="hold">
                                          <p:stCondLst>
                                            <p:cond delay="0"/>
                                          </p:stCondLst>
                                        </p:cTn>
                                        <p:tgtEl>
                                          <p:spTgt spid="317">
                                            <p:txEl>
                                              <p:pRg st="4" end="4"/>
                                            </p:txEl>
                                          </p:spTgt>
                                        </p:tgtEl>
                                        <p:attrNameLst>
                                          <p:attrName>style.visibility</p:attrName>
                                        </p:attrNameLst>
                                      </p:cBhvr>
                                      <p:to>
                                        <p:strVal val="visible"/>
                                      </p:to>
                                    </p:set>
                                    <p:anim calcmode="lin" valueType="num">
                                      <p:cBhvr additive="base">
                                        <p:cTn id="443" dur="5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31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317">
                                            <p:txEl>
                                              <p:pRg st="5" end="5"/>
                                            </p:txEl>
                                          </p:spTgt>
                                        </p:tgtEl>
                                        <p:attrNameLst>
                                          <p:attrName>style.visibility</p:attrName>
                                        </p:attrNameLst>
                                      </p:cBhvr>
                                      <p:to>
                                        <p:strVal val="visible"/>
                                      </p:to>
                                    </p:set>
                                    <p:anim calcmode="lin" valueType="num">
                                      <p:cBhvr additive="base">
                                        <p:cTn id="449" dur="500" fill="hold"/>
                                        <p:tgtEl>
                                          <p:spTgt spid="317">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31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317">
                                            <p:txEl>
                                              <p:pRg st="6" end="6"/>
                                            </p:txEl>
                                          </p:spTgt>
                                        </p:tgtEl>
                                        <p:attrNameLst>
                                          <p:attrName>style.visibility</p:attrName>
                                        </p:attrNameLst>
                                      </p:cBhvr>
                                      <p:to>
                                        <p:strVal val="visible"/>
                                      </p:to>
                                    </p:set>
                                    <p:anim calcmode="lin" valueType="num">
                                      <p:cBhvr additive="base">
                                        <p:cTn id="455" dur="5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31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317">
                                            <p:txEl>
                                              <p:pRg st="7" end="7"/>
                                            </p:txEl>
                                          </p:spTgt>
                                        </p:tgtEl>
                                        <p:attrNameLst>
                                          <p:attrName>style.visibility</p:attrName>
                                        </p:attrNameLst>
                                      </p:cBhvr>
                                      <p:to>
                                        <p:strVal val="visible"/>
                                      </p:to>
                                    </p:set>
                                    <p:anim calcmode="lin" valueType="num">
                                      <p:cBhvr additive="base">
                                        <p:cTn id="461" dur="500" fill="hold"/>
                                        <p:tgtEl>
                                          <p:spTgt spid="317">
                                            <p:txEl>
                                              <p:pRg st="7" end="7"/>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317">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4764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PECIAL EXCLUSIONS</a:t>
            </a:r>
            <a:endParaRPr b="0" lang="en-US" sz="3200" spc="-1" strike="noStrike">
              <a:solidFill>
                <a:srgbClr val="000000"/>
              </a:solidFill>
              <a:latin typeface="Times New Roman"/>
            </a:endParaRPr>
          </a:p>
        </p:txBody>
      </p:sp>
      <p:sp>
        <p:nvSpPr>
          <p:cNvPr id="319" name=""/>
          <p:cNvSpPr txBox="1"/>
          <p:nvPr/>
        </p:nvSpPr>
        <p:spPr>
          <a:xfrm>
            <a:off x="647640" y="609480"/>
            <a:ext cx="7772400" cy="6096240"/>
          </a:xfrm>
          <a:prstGeom prst="rect">
            <a:avLst/>
          </a:prstGeom>
          <a:noFill/>
          <a:ln w="0">
            <a:noFill/>
          </a:ln>
        </p:spPr>
        <p:txBody>
          <a:bodyPr anchor="t">
            <a:normAutofit/>
          </a:bodyPr>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eductible EEC.</a:t>
            </a:r>
            <a:r>
              <a:rPr b="0" lang="en-US" sz="3200" spc="-1" strike="noStrike">
                <a:solidFill>
                  <a:srgbClr val="000000"/>
                </a:solidFill>
                <a:latin typeface="Times New Roman"/>
              </a:rPr>
              <a:t> </a:t>
            </a:r>
            <a:r>
              <a:rPr b="0" lang="en-US" sz="3200" spc="-1" strike="noStrike">
                <a:solidFill>
                  <a:srgbClr val="0033cc"/>
                </a:solidFill>
                <a:latin typeface="Times New Roman"/>
              </a:rPr>
              <a:t>Where more than one machinery damaged in one and the same occurrence, deductible as applicable is for higher value machinery will be applied as single. (applicable for CPM &amp;EEI too)</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Consumables &amp; Regularly replaceable items</a:t>
            </a:r>
            <a:endParaRPr b="0" lang="en-US" sz="3200" spc="-1" strike="noStrike">
              <a:solidFill>
                <a:srgbClr val="000000"/>
              </a:solidFill>
              <a:latin typeface="Times New Roman"/>
            </a:endParaRPr>
          </a:p>
          <a:p>
            <a:pPr marL="343080" indent="-343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Times New Roman"/>
              </a:rPr>
              <a:t>If OEM responsible either law or by contr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00"/>
                </a:solidFill>
                <a:latin typeface="Arial"/>
              </a:rPr>
              <a:t>BASIS OF INDEMINITY</a:t>
            </a:r>
            <a:endParaRPr b="0" lang="en-US" sz="4400" spc="-1" strike="noStrike">
              <a:solidFill>
                <a:srgbClr val="000000"/>
              </a:solidFill>
              <a:latin typeface="Times New Roman"/>
            </a:endParaRPr>
          </a:p>
        </p:txBody>
      </p:sp>
      <p:sp>
        <p:nvSpPr>
          <p:cNvPr id="321" name="PlaceHolder 2"/>
          <p:cNvSpPr>
            <a:spLocks noGrp="1"/>
          </p:cNvSpPr>
          <p:nvPr>
            <p:ph type="subTitle"/>
          </p:nvPr>
        </p:nvSpPr>
        <p:spPr>
          <a:xfrm>
            <a:off x="380520" y="1142640"/>
            <a:ext cx="8458200" cy="5334120"/>
          </a:xfrm>
          <a:prstGeom prst="rect">
            <a:avLst/>
          </a:prstGeom>
          <a:noFill/>
          <a:ln w="76320">
            <a:solidFill>
              <a:srgbClr val="ff00ff"/>
            </a:solidFill>
            <a:miter/>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PARTIAL LOSS</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ff0000"/>
                </a:solidFill>
                <a:latin typeface="Arial"/>
              </a:rPr>
              <a:t>Cost of repair/replacement of parts withou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ny depreciation except parts having limite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life.</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OTAL LOS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he repair cost exceeds the replacement value of the equipmen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669900"/>
                </a:solidFill>
                <a:latin typeface="Arial"/>
              </a:rPr>
              <a:t>WITH DEPRECIATION</a:t>
            </a:r>
            <a:endParaRPr b="0" lang="en-US" sz="2800" spc="-1" strike="noStrike">
              <a:solidFill>
                <a:srgbClr val="000000"/>
              </a:solidFill>
              <a:latin typeface="Times New Roman"/>
            </a:endParaRPr>
          </a:p>
        </p:txBody>
      </p:sp>
      <p:sp>
        <p:nvSpPr>
          <p:cNvPr id="322" name="Line 4"/>
          <p:cNvSpPr/>
          <p:nvPr/>
        </p:nvSpPr>
        <p:spPr>
          <a:xfrm>
            <a:off x="1447920" y="1905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Reinstatement premium </a:t>
            </a:r>
            <a:br>
              <a:rPr sz="3600"/>
            </a:br>
            <a:r>
              <a:rPr b="0" lang="en-US" sz="3600" spc="-1" strike="noStrike">
                <a:solidFill>
                  <a:srgbClr val="ff0000"/>
                </a:solidFill>
                <a:latin typeface="Times New Roman"/>
              </a:rPr>
              <a:t>(MBD, Boiler &amp; CPM)</a:t>
            </a:r>
            <a:endParaRPr b="0" lang="en-US" sz="3600" spc="-1" strike="noStrike">
              <a:solidFill>
                <a:srgbClr val="000000"/>
              </a:solidFill>
              <a:latin typeface="Times New Roman"/>
            </a:endParaRPr>
          </a:p>
        </p:txBody>
      </p:sp>
      <p:sp>
        <p:nvSpPr>
          <p:cNvPr id="324"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date of loss the SI for the remainder period of insurance reduced by the amount of los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event Under Insurance remainder period, the loss amount to be reinstate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 premium charged on prorate basis wef date of repair/put in to work till expiry of the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BOILER AND PRESSURE VESSELS POLIC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7772400" cy="4724640"/>
          </a:xfrm>
          <a:prstGeom prst="rect">
            <a:avLst/>
          </a:prstGeom>
          <a:noFill/>
          <a:ln w="76320">
            <a:solidFill>
              <a:srgbClr val="000000"/>
            </a:solidFill>
            <a:miter/>
          </a:ln>
        </p:spPr>
        <p:txBody>
          <a:bodyPr anchor="t">
            <a:normAutofit/>
          </a:bodyPr>
          <a:p>
            <a:pPr marL="343080" indent="-343080">
              <a:lnSpc>
                <a:spcPct val="9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Scope</a:t>
            </a:r>
            <a:endParaRPr b="0" lang="en-US" sz="32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Explosion or Collapse in boiler</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rrounding property of the insured</a:t>
            </a:r>
            <a:endParaRPr b="0" lang="en-US" sz="2800" spc="-1" strike="noStrike">
              <a:solidFill>
                <a:srgbClr val="000000"/>
              </a:solidFill>
              <a:latin typeface="Times New Roman"/>
            </a:endParaRPr>
          </a:p>
          <a:p>
            <a:pPr lvl="1" marL="743040" indent="-285840">
              <a:lnSpc>
                <a:spcPct val="9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Caused by and solely due to Explosion or Collapse in the course of ordinary working</a:t>
            </a:r>
            <a:endParaRPr b="0" lang="en-US" sz="28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Boiler:</a:t>
            </a:r>
            <a:endParaRPr b="0" lang="en-US" sz="3200" spc="-1" strike="noStrike">
              <a:solidFill>
                <a:srgbClr val="000000"/>
              </a:solidFill>
              <a:latin typeface="Times New Roman"/>
            </a:endParaRPr>
          </a:p>
          <a:p>
            <a:pPr lvl="1" marL="743040" indent="-285840">
              <a:lnSpc>
                <a:spcPct val="90000"/>
              </a:lnSpc>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cc"/>
                </a:solidFill>
                <a:latin typeface="Arial"/>
              </a:rPr>
              <a:t>Any fired closed vessel or a continued container piping system in which steam is generated under pressure (Thermofluid is not a Boiler)</a:t>
            </a:r>
            <a:endParaRPr b="0" lang="en-US" sz="28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487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
          <p:cNvSpPr txBox="1"/>
          <p:nvPr/>
        </p:nvSpPr>
        <p:spPr>
          <a:xfrm>
            <a:off x="75960" y="152280"/>
            <a:ext cx="9296280" cy="5943600"/>
          </a:xfrm>
          <a:prstGeom prst="rect">
            <a:avLst/>
          </a:prstGeom>
          <a:noFill/>
          <a:ln w="0">
            <a:noFill/>
          </a:ln>
        </p:spPr>
        <p:txBody>
          <a:bodyPr anchor="t">
            <a:norm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REA OF BUILDING: 100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OST OF CONSTRUCTION: Rs 15,000/- PER SQM</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Y MISTAKE AREA DECLARED AS 120 SQ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M INSURED DECLARED: Rs. 18,00,000/- INSTEAD OF Rs 15,00,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TOTAL LOSS DUE TO EQ TOT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SINCE THE ACTUAL AREA NOT DECLARED CORRECTLY, THE POLICY  SHALL INDEMNIFY ONLY Rs 15,00,000/-.</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578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533160"/>
            <a:ext cx="7772400" cy="5562360"/>
          </a:xfrm>
          <a:prstGeom prst="rect">
            <a:avLst/>
          </a:prstGeom>
          <a:noFill/>
          <a:ln w="57240">
            <a:solidFill>
              <a:srgbClr val="000000"/>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ressure plant:</a:t>
            </a:r>
            <a:endParaRPr b="0" lang="en-US" sz="3200" spc="-1" strike="noStrike">
              <a:solidFill>
                <a:srgbClr val="000000"/>
              </a:solidFill>
              <a:latin typeface="Times New Roman"/>
            </a:endParaRPr>
          </a:p>
          <a:p>
            <a:pPr lvl="1" marL="743040" indent="-285840" algn="just">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Any unfired closed container under steam gas or fluid pressure</a:t>
            </a:r>
            <a:endParaRPr b="0" lang="en-US" sz="28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plosion</a:t>
            </a:r>
            <a:endParaRPr b="0" lang="en-US" sz="3200" spc="-1" strike="noStrike">
              <a:solidFill>
                <a:srgbClr val="000000"/>
              </a:solidFill>
              <a:latin typeface="Times New Roman"/>
            </a:endParaRPr>
          </a:p>
          <a:p>
            <a:pPr lvl="1" marL="743040" indent="-285840" algn="just">
              <a:lnSpc>
                <a:spcPct val="100000"/>
              </a:lnSpc>
              <a:spcBef>
                <a:spcPts val="70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Sudden and violent rendering or tearing apart of a permanent structure of a boiler or pressure plant by force of internal steam, gas or fluid pressure causing bodily displacement of the said structure and accompanied by the forcible equipment and its contents</a:t>
            </a:r>
            <a:endParaRPr b="0" lang="en-US" sz="2800" spc="-1" strike="noStrike">
              <a:solidFill>
                <a:srgbClr val="000000"/>
              </a:solidFill>
              <a:latin typeface="Times New Roman"/>
            </a:endParaRPr>
          </a:p>
        </p:txBody>
      </p:sp>
    </p:spTree>
  </p:cSld>
  <p:transition>
    <p:zoom dir="in"/>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838080" y="990720"/>
            <a:ext cx="7772400" cy="4952880"/>
          </a:xfrm>
          <a:prstGeom prst="rect">
            <a:avLst/>
          </a:prstGeom>
          <a:noFill/>
          <a:ln w="76320">
            <a:solidFill>
              <a:srgbClr val="ffcc00"/>
            </a:solidFill>
            <a:miter/>
          </a:ln>
        </p:spPr>
        <p:txBody>
          <a:bodyPr anchor="t">
            <a:normAutofit/>
          </a:bodyPr>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Collapse</a:t>
            </a:r>
            <a:endParaRPr b="0" lang="en-US" sz="3200" spc="-1" strike="noStrike">
              <a:solidFill>
                <a:srgbClr val="000000"/>
              </a:solidFill>
              <a:latin typeface="Times New Roman"/>
            </a:endParaRPr>
          </a:p>
          <a:p>
            <a:pPr lvl="1" marL="743040" indent="-28584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udden and dangerous distortion of any part by bending or crushing caused by steam gas or fluid pressure whether attended by rupture or no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343080">
              <a:lnSpc>
                <a:spcPct val="100000"/>
              </a:lnSpc>
              <a:spcBef>
                <a:spcPts val="799"/>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Exclusions</a:t>
            </a:r>
            <a:endParaRPr b="0" lang="en-US" sz="32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ll fire and allied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ar and war like peril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Over load experiments</a:t>
            </a:r>
            <a:endParaRPr b="0" lang="en-US" sz="2800" spc="-1" strike="noStrike">
              <a:solidFill>
                <a:srgbClr val="000000"/>
              </a:solidFill>
              <a:latin typeface="Times New Roman"/>
            </a:endParaRPr>
          </a:p>
        </p:txBody>
      </p:sp>
    </p:spTree>
  </p:cSld>
  <p:transition>
    <p:zoom dir="in"/>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7432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609480"/>
            <a:ext cx="7772400" cy="5486400"/>
          </a:xfrm>
          <a:prstGeom prst="rect">
            <a:avLst/>
          </a:prstGeom>
          <a:noFill/>
          <a:ln w="76320">
            <a:solidFill>
              <a:srgbClr val="00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clusion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efects necessitating  immediate stoppage although at some future time repair or renewal is necessary.</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onsequential loss</a:t>
            </a:r>
            <a:endParaRPr b="0" lang="en-US" sz="2800" spc="-1" strike="noStrike">
              <a:solidFill>
                <a:srgbClr val="000000"/>
              </a:solidFill>
              <a:latin typeface="Times New Roman"/>
            </a:endParaRPr>
          </a:p>
          <a:p>
            <a:pPr lvl="1" marL="743040" indent="-285840">
              <a:lnSpc>
                <a:spcPct val="10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Manufacturer/supplier responsible.</a:t>
            </a:r>
            <a:endParaRPr b="0" lang="en-US" sz="28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Warranties:</a:t>
            </a:r>
            <a:endParaRPr b="0" lang="en-US" sz="3200" spc="-1" strike="noStrike">
              <a:solidFill>
                <a:srgbClr val="000000"/>
              </a:solidFill>
              <a:latin typeface="Times New Roman"/>
            </a:endParaRPr>
          </a:p>
          <a:p>
            <a:pPr lvl="1" marL="743040" indent="-28584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nnually </a:t>
            </a:r>
            <a:r>
              <a:rPr b="0" lang="en-US" sz="2800" spc="-1" strike="noStrike">
                <a:solidFill>
                  <a:srgbClr val="ff9900"/>
                </a:solidFill>
                <a:latin typeface="Arial"/>
              </a:rPr>
              <a:t>inspected by inspectors appointed by appropriate Government .</a:t>
            </a:r>
            <a:r>
              <a:rPr b="0" lang="en-US" sz="2800" spc="-1" strike="noStrike">
                <a:solidFill>
                  <a:srgbClr val="ff0000"/>
                </a:solidFill>
                <a:latin typeface="Arial"/>
              </a:rPr>
              <a:t>If not 50% loading on Premium to be applied</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By an independent competent person</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p:nvPr>
        </p:nvSpPr>
        <p:spPr>
          <a:xfrm>
            <a:off x="152280" y="228240"/>
            <a:ext cx="8763120" cy="6629400"/>
          </a:xfrm>
          <a:prstGeom prst="rect">
            <a:avLst/>
          </a:prstGeom>
          <a:noFill/>
          <a:ln w="76320">
            <a:solidFill>
              <a:srgbClr val="ff0000"/>
            </a:solidFill>
            <a:miter/>
          </a:ln>
        </p:spPr>
        <p:txBody>
          <a:bodyPr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Warranties..</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Operated by attendants holding valid certificate of competency issued under appropriate Boiler act.</a:t>
            </a:r>
            <a:endParaRPr b="0" lang="en-US" sz="2800" spc="-1" strike="noStrike">
              <a:solidFill>
                <a:srgbClr val="000000"/>
              </a:solidFill>
              <a:latin typeface="Times New Roman"/>
            </a:endParaRPr>
          </a:p>
          <a:p>
            <a:pPr lvl="1" marL="743040" indent="-28584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Unqualified - Not Indemnifiable</a:t>
            </a:r>
            <a:endParaRPr b="0" lang="en-US" sz="2800" spc="-1" strike="noStrike">
              <a:solidFill>
                <a:srgbClr val="000000"/>
              </a:solidFill>
              <a:latin typeface="Times New Roman"/>
            </a:endParaRPr>
          </a:p>
          <a:p>
            <a:pPr marL="343080" indent="-343080">
              <a:lnSpc>
                <a:spcPct val="100000"/>
              </a:lnSpc>
              <a:spcBef>
                <a:spcPts val="7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Rating:</a:t>
            </a:r>
            <a:endParaRPr b="0" lang="en-US" sz="32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Age of the Boiler</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asic rate will have to be increased @ 0.005%o per year after the stipulated age.</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Boiler value includes fittings, integral super heaters and economisers. Steam or feed water pipe line, separate super heaters, separate economisers to be covered specifically.</a:t>
            </a:r>
            <a:endParaRPr b="0" lang="en-US" sz="2800" spc="-1" strike="noStrike">
              <a:solidFill>
                <a:srgbClr val="000000"/>
              </a:solidFill>
              <a:latin typeface="Times New Roman"/>
            </a:endParaRPr>
          </a:p>
          <a:p>
            <a:pPr lvl="1" marL="743040" indent="-285840">
              <a:lnSpc>
                <a:spcPct val="100000"/>
              </a:lnSpc>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Escalation upto 25% shall be allowed</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Bookman Old Style"/>
              </a:rPr>
              <a:t>CONTRACTORS’ PLANT &amp; MACHINERY  INSURANCE</a:t>
            </a:r>
            <a:endParaRPr b="0" lang="en-US" sz="40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Verdana"/>
              </a:rPr>
              <a:t>Scope :</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ll Contractors’ Plant and Machinery Equipments</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within the project site - whether Registered with RTO or not.</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Engaged for work at any specified location in Indi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GENERAL REGULATIONS</a:t>
            </a:r>
            <a:endParaRPr b="0" lang="en-US" sz="3600" spc="-1" strike="noStrike">
              <a:solidFill>
                <a:srgbClr val="000000"/>
              </a:solidFill>
              <a:latin typeface="Times New Roman"/>
            </a:endParaRPr>
          </a:p>
        </p:txBody>
      </p:sp>
      <p:sp>
        <p:nvSpPr>
          <p:cNvPr id="338" name="PlaceHolder 2"/>
          <p:cNvSpPr>
            <a:spLocks noGrp="1"/>
          </p:cNvSpPr>
          <p:nvPr>
            <p:ph/>
          </p:nvPr>
        </p:nvSpPr>
        <p:spPr>
          <a:xfrm>
            <a:off x="456840" y="609120"/>
            <a:ext cx="8458200" cy="6248520"/>
          </a:xfrm>
          <a:prstGeom prst="rect">
            <a:avLst/>
          </a:prstGeom>
          <a:noFill/>
          <a:ln w="57240">
            <a:solidFill>
              <a:srgbClr val="000000"/>
            </a:solidFill>
            <a:miter/>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a:solidFill>
                  <a:srgbClr val="ff3300"/>
                </a:solidFill>
                <a:latin typeface="Times New Roman"/>
              </a:rPr>
              <a:t>Full description with identification number etc., of each and every equipment with valuation should be declar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669900"/>
                </a:solidFill>
                <a:latin typeface="Times New Roman"/>
              </a:rPr>
              <a:t>Transit risk from site to site will be excluded.</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3333cc"/>
                </a:solidFill>
                <a:latin typeface="Times New Roman"/>
              </a:rPr>
              <a:t>Any addition or deletion during the policy period of 12 months can be done on short period basis.</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en-US" sz="2400" spc="-1" strike="noStrike">
                <a:solidFill>
                  <a:srgbClr val="ff33cc"/>
                </a:solidFill>
                <a:latin typeface="Times New Roman"/>
              </a:rPr>
              <a:t>Rating are based on group of machinery 1 to 5(P&amp;M working UG/Tunnel- 50% loading.  For EQ Zone I is @Rs. 0.10% and for Zone II @ Re.0.05%.  For Zone III and IV Nil premiu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400" spc="-1" strike="noStrike">
                <a:solidFill>
                  <a:srgbClr val="00cc99"/>
                </a:solidFill>
                <a:latin typeface="Times New Roman"/>
              </a:rPr>
              <a:t>Loading of 10% on the CPM rate shall be charged to cover floater risk.</a:t>
            </a:r>
            <a:endParaRPr b="0" lang="en-US" sz="2400" spc="-1" strike="noStrike">
              <a:solidFill>
                <a:srgbClr val="000000"/>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t>
            </a:r>
            <a:r>
              <a:rPr b="0" lang="en-US" sz="2400" spc="-1" strike="noStrike">
                <a:solidFill>
                  <a:srgbClr val="ff3300"/>
                </a:solidFill>
                <a:latin typeface="Times New Roman"/>
              </a:rPr>
              <a:t>Excess classified as claims arising out of AOG perils and claims arising out of perils other than AOG.  Separate excess for Cranes above 10T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06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type="subTitle"/>
          </p:nvPr>
        </p:nvSpPr>
        <p:spPr>
          <a:xfrm>
            <a:off x="228600" y="0"/>
            <a:ext cx="8686800" cy="6858000"/>
          </a:xfrm>
          <a:prstGeom prst="rect">
            <a:avLst/>
          </a:prstGeom>
          <a:noFill/>
          <a:ln w="57240">
            <a:solidFill>
              <a:srgbClr val="000000"/>
            </a:solidFill>
            <a:miter/>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en-US" sz="2400" spc="-1" strike="noStrike">
                <a:solidFill>
                  <a:srgbClr val="ff3300"/>
                </a:solidFill>
                <a:latin typeface="Times New Roman"/>
              </a:rPr>
              <a:t>Add on covers:  TPL, Owners surrounding property clearance and removal of property.  Rate applicable is 0.25% p.a.  Excess applicable will be highest of excesses applicable to machinery insured.  Additional customs duty @ rate of Rs.2% on ACD amount selecte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t>
            </a:r>
            <a:r>
              <a:rPr b="0" lang="en-US" sz="2400" spc="-1" strike="noStrike">
                <a:solidFill>
                  <a:srgbClr val="3333cc"/>
                </a:solidFill>
                <a:latin typeface="Times New Roman"/>
              </a:rPr>
              <a:t>Dismantling and re-erection additional premium at 0.20% of th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quip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9.   Special rating based on claims experienc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a:t>
            </a:r>
            <a:r>
              <a:rPr b="0" lang="en-US" sz="2400" spc="-1" strike="noStrike">
                <a:solidFill>
                  <a:srgbClr val="ff33cc"/>
                </a:solidFill>
                <a:latin typeface="Times New Roman"/>
              </a:rPr>
              <a:t>Cancellation of the policy:  Option of the Insured -  On shor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        </a:t>
            </a:r>
            <a:r>
              <a:rPr b="0" lang="en-US" sz="2400" spc="-1" strike="noStrike">
                <a:solidFill>
                  <a:srgbClr val="ff33cc"/>
                </a:solidFill>
                <a:latin typeface="Times New Roman"/>
              </a:rPr>
              <a:t>period.  Option of the insurer prorata  basis.</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en-US" sz="2400" spc="-1" strike="noStrike">
                <a:solidFill>
                  <a:srgbClr val="ff9900"/>
                </a:solidFill>
                <a:latin typeface="Times New Roman"/>
              </a:rPr>
              <a:t>Midterm increase in the sum insured on short period basis.  If the policy is renewed thereafter for 12 months for the same sum insured the difference of the premium between Short period and and prorata may be refunded.</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Escalation provision shall not exceed 25% of SI rate is 50% of full CPM rate.</a:t>
            </a:r>
            <a:endParaRPr b="0" lang="en-US" sz="2400" spc="-1" strike="noStrike">
              <a:solidFill>
                <a:srgbClr val="000000"/>
              </a:solidFill>
              <a:latin typeface="Times New Roman"/>
            </a:endParaRPr>
          </a:p>
          <a:p>
            <a:pPr algn="just">
              <a:spcBef>
                <a:spcPts val="601"/>
              </a:spcBef>
              <a:buClr>
                <a:srgbClr val="00cc99"/>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 </a:t>
            </a:r>
            <a:r>
              <a:rPr b="0" lang="en-US" sz="2400" spc="-1" strike="noStrike">
                <a:solidFill>
                  <a:srgbClr val="00cc99"/>
                </a:solidFill>
                <a:latin typeface="Times New Roman"/>
              </a:rPr>
              <a:t>CPM Working UG can be covered by loading 50% of rate.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839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2" name="PlaceHolder 2"/>
          <p:cNvSpPr>
            <a:spLocks noGrp="1"/>
          </p:cNvSpPr>
          <p:nvPr>
            <p:ph type="subTitle"/>
          </p:nvPr>
        </p:nvSpPr>
        <p:spPr>
          <a:xfrm>
            <a:off x="1066680" y="-7009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WordArt 4"/>
          <p:cNvSpPr txBox="1"/>
          <p:nvPr/>
        </p:nvSpPr>
        <p:spPr>
          <a:xfrm>
            <a:off x="457200" y="1295280"/>
            <a:ext cx="8381880" cy="3353040"/>
          </a:xfrm>
          <a:prstGeom prst="rect">
            <a:avLst/>
          </a:prstGeom>
        </p:spPr>
        <p:txBody>
          <a:bodyPr wrap="none" lIns="90000" rIns="90000" tIns="46800" bIns="46800" anchor="t" anchorCtr="1">
            <a:prstTxWarp prst="textPlain">
              <a:avLst>
                <a:gd name="adj" fmla="val 46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ELECTRONIC EQUIPMENT </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rPr>
              <a:t>INSURANCE</a:t>
            </a:r>
            <a:endParaRPr b="0" lang="en-US" sz="2400" spc="1" strike="noStrike">
              <a:ln w="19080">
                <a:solidFill>
                  <a:srgbClr val="ffff00"/>
                </a:solidFill>
                <a:miter/>
              </a:ln>
              <a:solidFill>
                <a:srgbClr val="000066"/>
              </a:solidFill>
              <a:effectLst>
                <a:outerShdw dist="17819" dir="2700000" blurRad="0" rotWithShape="0">
                  <a:srgbClr val="990000"/>
                </a:outerShdw>
              </a:effectLst>
              <a:latin typeface="Comic Sans MS"/>
              <a:ea typeface="Comic Sans MS"/>
            </a:endParaRPr>
          </a:p>
        </p:txBody>
      </p:sp>
    </p:spTree>
  </p:cSld>
  <p:transition>
    <p:zoom dir="in"/>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AINTENANCE AGREEME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76320">
            <a:solidFill>
              <a:srgbClr val="000000"/>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IF NO MAINTENANCE AGREEMENT</a:t>
            </a:r>
            <a:r>
              <a:rPr b="0" lang="en-US" sz="2400" spc="-1" strike="noStrike">
                <a:solidFill>
                  <a:srgbClr val="6600ff"/>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UPTO SI  RS. 1 LAKH   - 50% LOADING</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ABOVE RS. 1 LAC        - 100% LOADING </a:t>
            </a:r>
            <a:endParaRPr b="0" lang="en-US" sz="2400" spc="-1" strike="noStrike">
              <a:solidFill>
                <a:srgbClr val="000000"/>
              </a:solidFill>
              <a:latin typeface="Times New Roman"/>
            </a:endParaRPr>
          </a:p>
          <a:p>
            <a:pPr marL="343080" indent="-343080">
              <a:lnSpc>
                <a:spcPct val="100000"/>
              </a:lnSpc>
              <a:spcBef>
                <a:spcPts val="601"/>
              </a:spcBef>
              <a:buClr>
                <a:srgbClr val="ff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PERSONALCOMPUTER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f9900"/>
                </a:solidFill>
                <a:latin typeface="Arial"/>
              </a:rPr>
              <a:t>UPTO RS. 1 LAC          -  NO LOADING</a:t>
            </a:r>
            <a:endParaRPr b="0" lang="en-US" sz="2400" spc="-1" strike="noStrike">
              <a:solidFill>
                <a:srgbClr val="000000"/>
              </a:solidFill>
              <a:latin typeface="Times New Roman"/>
            </a:endParaRPr>
          </a:p>
          <a:p>
            <a:pPr marL="343080" indent="-343080">
              <a:lnSpc>
                <a:spcPct val="100000"/>
              </a:lnSpc>
              <a:spcBef>
                <a:spcPts val="601"/>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IN CASE  COMPETENT IN HOUSE MAINTENANCE FACILITY</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66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LOADING WAIVED </a:t>
            </a:r>
            <a:r>
              <a:rPr b="1" i="1" lang="en-US" sz="2400" spc="-1" strike="noStrike">
                <a:solidFill>
                  <a:srgbClr val="6600ff"/>
                </a:solidFill>
                <a:latin typeface="Arial"/>
              </a:rPr>
              <a:t>EXCEPT</a:t>
            </a:r>
            <a:r>
              <a:rPr b="1" lang="en-US" sz="2400" spc="-1" strike="noStrike">
                <a:solidFill>
                  <a:srgbClr val="6600ff"/>
                </a:solidFill>
                <a:latin typeface="Arial"/>
              </a:rPr>
              <a:t> MEDICAL EQUIPMEN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a:t>
            </a: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294920"/>
            <a:ext cx="7772400" cy="4800600"/>
          </a:xfrm>
          <a:prstGeom prst="rect">
            <a:avLst/>
          </a:prstGeom>
          <a:noFill/>
          <a:ln w="76320">
            <a:solidFill>
              <a:srgbClr val="000000"/>
            </a:solidFill>
            <a:miter/>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ff9900"/>
                </a:solidFill>
                <a:latin typeface="Arial"/>
              </a:rPr>
              <a:t>SAFETY  CHECKS </a:t>
            </a:r>
            <a:endParaRPr b="0" lang="en-US" sz="3200" spc="-1" strike="noStrike">
              <a:solidFill>
                <a:srgbClr val="000000"/>
              </a:solidFill>
              <a:latin typeface="Times New Roman"/>
            </a:endParaRPr>
          </a:p>
          <a:p>
            <a:pPr marL="343080" indent="-343080">
              <a:lnSpc>
                <a:spcPct val="13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Arial"/>
              </a:rPr>
              <a:t>PREVENTIVE MAINTENANCE</a:t>
            </a:r>
            <a:endParaRPr b="0" lang="en-US" sz="3200" spc="-1" strike="noStrike">
              <a:solidFill>
                <a:srgbClr val="000000"/>
              </a:solidFill>
              <a:latin typeface="Times New Roman"/>
            </a:endParaRPr>
          </a:p>
          <a:p>
            <a:pPr marL="343080" indent="-343080">
              <a:lnSpc>
                <a:spcPct val="13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RECTIFICATION OF LOSS OR DAMAGE OR FAULTS ARISING FROM NORMAL OPERATION AS WELL AS</a:t>
            </a:r>
            <a:r>
              <a:rPr b="1" lang="en-US" sz="3200" spc="-1" strike="noStrike">
                <a:solidFill>
                  <a:srgbClr val="009900"/>
                </a:solidFill>
                <a:latin typeface="Times New Roman"/>
              </a:rPr>
              <a:t> </a:t>
            </a:r>
            <a:r>
              <a:rPr b="1" lang="en-US" sz="3200" spc="-1" strike="noStrike">
                <a:solidFill>
                  <a:srgbClr val="009900"/>
                </a:solidFill>
                <a:latin typeface="Arial"/>
              </a:rPr>
              <a:t>AGING.</a:t>
            </a:r>
            <a:r>
              <a:rPr b="0" lang="en-US" sz="3200" spc="-1" strike="noStrike">
                <a:solidFill>
                  <a:srgbClr val="00cc99"/>
                </a:solidFill>
                <a:latin typeface="Arial"/>
              </a:rPr>
              <a:t> </a:t>
            </a:r>
            <a:endParaRPr b="0" lang="en-US" sz="32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harat Griha Raksha Perils covered</a:t>
            </a:r>
            <a:br>
              <a:rPr sz="2000"/>
            </a:br>
            <a:r>
              <a:rPr b="0" lang="en-US" sz="1800" spc="-1" strike="noStrike">
                <a:solidFill>
                  <a:srgbClr val="000000"/>
                </a:solidFill>
                <a:latin typeface="Gill Sans MT"/>
              </a:rPr>
              <a:t>(SFSP</a:t>
            </a:r>
            <a:r>
              <a:rPr b="0" lang="en-US" sz="1800" spc="-1" strike="noStrike">
                <a:solidFill>
                  <a:srgbClr val="00b050"/>
                </a:solidFill>
                <a:latin typeface="Gill Sans MT"/>
              </a:rPr>
              <a:t>+IMPACT BY INSURED’S OWN VEHICLES+FOREST FIRE+SP.COMBUSTION </a:t>
            </a:r>
            <a:r>
              <a:rPr b="0" lang="en-US" sz="1800" spc="-1" strike="noStrike">
                <a:solidFill>
                  <a:srgbClr val="000000"/>
                </a:solidFill>
                <a:latin typeface="Gill Sans MT"/>
              </a:rPr>
              <a:t>+</a:t>
            </a:r>
            <a:r>
              <a:rPr b="0" lang="en-US" sz="1800" spc="-1" strike="noStrike">
                <a:solidFill>
                  <a:srgbClr val="16165d"/>
                </a:solidFill>
                <a:latin typeface="Gill Sans MT"/>
              </a:rPr>
              <a:t>EQ+TERRORISM+THEFT</a:t>
            </a:r>
            <a:r>
              <a:rPr b="0" lang="en-US" sz="1800" spc="-1" strike="noStrike">
                <a:solidFill>
                  <a:srgbClr val="000000"/>
                </a:solidFill>
                <a:latin typeface="Gill Sans MT"/>
              </a:rPr>
              <a:t>, No. of perils-12+</a:t>
            </a:r>
            <a:r>
              <a:rPr b="0" lang="en-US" sz="1800" spc="-1" strike="noStrike">
                <a:solidFill>
                  <a:srgbClr val="00b050"/>
                </a:solidFill>
                <a:latin typeface="Gill Sans MT"/>
              </a:rPr>
              <a:t>3</a:t>
            </a:r>
            <a:r>
              <a:rPr b="0" lang="en-US" sz="1800" spc="-1" strike="noStrike">
                <a:solidFill>
                  <a:srgbClr val="000000"/>
                </a:solidFill>
                <a:latin typeface="Gill Sans MT"/>
              </a:rPr>
              <a:t>+</a:t>
            </a:r>
            <a:r>
              <a:rPr b="0" lang="en-US" sz="1800" spc="-1" strike="noStrike">
                <a:solidFill>
                  <a:srgbClr val="16165d"/>
                </a:solidFill>
                <a:latin typeface="Gill Sans MT"/>
              </a:rPr>
              <a:t>3</a:t>
            </a:r>
            <a:endParaRPr b="0" lang="en-US" sz="1800" spc="-1" strike="noStrike">
              <a:solidFill>
                <a:srgbClr val="000000"/>
              </a:solidFill>
              <a:latin typeface="Times New Roman"/>
            </a:endParaRPr>
          </a:p>
        </p:txBody>
      </p:sp>
      <p:sp>
        <p:nvSpPr>
          <p:cNvPr id="120" name="PlaceHolder 2"/>
          <p:cNvSpPr>
            <a:spLocks noGrp="1"/>
          </p:cNvSpPr>
          <p:nvPr>
            <p:ph type="subTitle"/>
          </p:nvPr>
        </p:nvSpPr>
        <p:spPr>
          <a:xfrm>
            <a:off x="228600" y="2133720"/>
            <a:ext cx="9067680" cy="586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re </a:t>
            </a:r>
            <a:r>
              <a:rPr b="0" lang="en-US" sz="2800" spc="-1" strike="noStrike">
                <a:solidFill>
                  <a:srgbClr val="ff0000"/>
                </a:solidFill>
                <a:latin typeface="Gill Sans MT"/>
              </a:rPr>
              <a:t>(No specific exclusion regarding inherent vice, </a:t>
            </a:r>
            <a:r>
              <a:rPr b="0" lang="en-US" sz="2800" spc="-1" strike="noStrike">
                <a:solidFill>
                  <a:srgbClr val="00b050"/>
                </a:solidFill>
                <a:latin typeface="Gill Sans MT"/>
              </a:rPr>
              <a:t>spontaneous combustion </a:t>
            </a:r>
            <a:r>
              <a:rPr b="0" lang="en-US" sz="2800" spc="-1" strike="noStrike">
                <a:solidFill>
                  <a:srgbClr val="ff0000"/>
                </a:solidFill>
                <a:latin typeface="Gill Sans MT"/>
              </a:rPr>
              <a:t>etc.)</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plosion / Implosion </a:t>
            </a:r>
            <a:r>
              <a:rPr b="0" lang="en-US" sz="2800" spc="-1" strike="noStrike">
                <a:solidFill>
                  <a:srgbClr val="ff0000"/>
                </a:solidFill>
                <a:latin typeface="Gill Sans MT"/>
              </a:rPr>
              <a:t>(No specific exclusion like boiler)</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ghtning</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Earthquake, Volcanic eruption &amp; other convulsions of natur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orm, Cyclone, Typhoon, Tempest, Hurricane, Tornado, Tsunami, Flood &amp; Inundatio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ubsidence, Landslide, rockslid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sh fire, </a:t>
            </a:r>
            <a:r>
              <a:rPr b="0" lang="en-US" sz="2800" spc="-1" strike="noStrike">
                <a:solidFill>
                  <a:srgbClr val="00b050"/>
                </a:solidFill>
                <a:latin typeface="Gill Sans MT"/>
              </a:rPr>
              <a:t>Forest Fire</a:t>
            </a:r>
            <a:r>
              <a:rPr b="0" lang="en-US" sz="2800" spc="-1" strike="noStrike">
                <a:solidFill>
                  <a:srgbClr val="ff0000"/>
                </a:solidFill>
                <a:latin typeface="Gill Sans MT"/>
              </a:rPr>
              <a:t>, Jungle Fir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762120"/>
            <a:ext cx="822960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SCOPE</a:t>
            </a:r>
            <a:endParaRPr b="0" lang="en-US" sz="4400" spc="-1" strike="noStrike">
              <a:solidFill>
                <a:srgbClr val="000000"/>
              </a:solidFill>
              <a:latin typeface="Times New Roman"/>
            </a:endParaRPr>
          </a:p>
        </p:txBody>
      </p:sp>
      <p:sp>
        <p:nvSpPr>
          <p:cNvPr id="349" name="PlaceHolder 2"/>
          <p:cNvSpPr>
            <a:spLocks noGrp="1"/>
          </p:cNvSpPr>
          <p:nvPr>
            <p:ph/>
          </p:nvPr>
        </p:nvSpPr>
        <p:spPr>
          <a:xfrm>
            <a:off x="685440" y="1828440"/>
            <a:ext cx="3886200" cy="4267080"/>
          </a:xfrm>
          <a:prstGeom prst="rect">
            <a:avLst/>
          </a:prstGeom>
          <a:noFill/>
          <a:ln w="28440">
            <a:solidFill>
              <a:srgbClr val="669900"/>
            </a:solidFill>
            <a:miter/>
          </a:ln>
        </p:spPr>
        <p:txBody>
          <a:bodyPr anchor="t">
            <a:normAutofit/>
          </a:bodyPr>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SECTION II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PlaceHolder 3"/>
          <p:cNvSpPr>
            <a:spLocks noGrp="1"/>
          </p:cNvSpPr>
          <p:nvPr>
            <p:ph/>
          </p:nvPr>
        </p:nvSpPr>
        <p:spPr>
          <a:xfrm>
            <a:off x="4571640" y="1828440"/>
            <a:ext cx="3886200" cy="4267080"/>
          </a:xfrm>
          <a:prstGeom prst="rect">
            <a:avLst/>
          </a:prstGeom>
          <a:noFill/>
          <a:ln w="28440">
            <a:solidFill>
              <a:srgbClr val="339966"/>
            </a:solidFill>
            <a:miter/>
          </a:ln>
        </p:spPr>
        <p:txBody>
          <a:bodyPr anchor="t">
            <a:normAutofit/>
          </a:bodyPr>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MATERIAL DAMAGE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EXTERNAL DATA MED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INCREASED COST OF WORK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in"/>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228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SECTION I</a:t>
            </a:r>
            <a:endParaRPr b="0" lang="en-US" sz="4400" spc="-1" strike="noStrike">
              <a:solidFill>
                <a:srgbClr val="000000"/>
              </a:solidFill>
              <a:latin typeface="Times New Roman"/>
            </a:endParaRPr>
          </a:p>
        </p:txBody>
      </p:sp>
      <p:sp>
        <p:nvSpPr>
          <p:cNvPr id="352" name="PlaceHolder 2"/>
          <p:cNvSpPr>
            <a:spLocks noGrp="1"/>
          </p:cNvSpPr>
          <p:nvPr>
            <p:ph/>
          </p:nvPr>
        </p:nvSpPr>
        <p:spPr>
          <a:xfrm>
            <a:off x="533160" y="1142640"/>
            <a:ext cx="7924680" cy="5257800"/>
          </a:xfrm>
          <a:prstGeom prst="rect">
            <a:avLst/>
          </a:prstGeom>
          <a:noFill/>
          <a:ln w="76320">
            <a:solidFill>
              <a:srgbClr val="ff6600"/>
            </a:solidFill>
            <a:miter/>
          </a:ln>
        </p:spPr>
        <p:txBody>
          <a:bodyPr anchor="t">
            <a:normAutofit/>
          </a:bodyPr>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LL ELECTRONIC EQUIPMENTS  VIZ:</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MPUTE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EDICAL EQUIPMENT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CRO PROCESSORS</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AUDIO/VISUAL EQUIPMENT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1" lang="en-US" sz="3200" spc="-1" strike="noStrike">
                <a:solidFill>
                  <a:srgbClr val="ff9900"/>
                </a:solidFill>
                <a:latin typeface="Arial"/>
              </a:rPr>
              <a:t>UNINSURABLE</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DISH ANTENNA</a:t>
            </a:r>
            <a:endParaRPr b="0" lang="en-US" sz="3200" spc="-1" strike="noStrike">
              <a:solidFill>
                <a:srgbClr val="000000"/>
              </a:solidFill>
              <a:latin typeface="Times New Roman"/>
            </a:endParaRPr>
          </a:p>
          <a:p>
            <a:pPr marL="343080" indent="-343080">
              <a:lnSpc>
                <a:spcPct val="9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 PORTABLE ELECTRON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      </a:t>
            </a:r>
            <a:r>
              <a:rPr b="0" lang="en-US" sz="3200" spc="-1" strike="noStrike">
                <a:solidFill>
                  <a:srgbClr val="6600ff"/>
                </a:solidFill>
                <a:latin typeface="Arial"/>
              </a:rPr>
              <a:t>EQUIPMENTS</a:t>
            </a:r>
            <a:endParaRPr b="0" lang="en-US" sz="3200" spc="-1" strike="noStrike">
              <a:solidFill>
                <a:srgbClr val="000000"/>
              </a:solidFill>
              <a:latin typeface="Times New Roman"/>
            </a:endParaRPr>
          </a:p>
        </p:txBody>
      </p:sp>
    </p:spTree>
  </p:cSld>
  <p:transition>
    <p:zoom dir="in"/>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Times New Roman"/>
              </a:rPr>
              <a:t>DETERIORATION OF STOC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54" name="PlaceHolder 2"/>
          <p:cNvSpPr>
            <a:spLocks noGrp="1"/>
          </p:cNvSpPr>
          <p:nvPr>
            <p:ph/>
          </p:nvPr>
        </p:nvSpPr>
        <p:spPr>
          <a:xfrm>
            <a:off x="838080" y="1828800"/>
            <a:ext cx="7772400" cy="5029200"/>
          </a:xfrm>
          <a:prstGeom prst="rect">
            <a:avLst/>
          </a:prstGeom>
          <a:noFill/>
          <a:ln w="76320">
            <a:solidFill>
              <a:srgbClr val="000000"/>
            </a:solidFill>
            <a:miter/>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OPE OF COV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r damage by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ioration or putrefaction of Stock only by </a:t>
            </a:r>
            <a:endParaRPr b="0" lang="en-US" sz="2800" spc="-1" strike="noStrike">
              <a:solidFill>
                <a:srgbClr val="000000"/>
              </a:solidFill>
              <a:latin typeface="Times New Roman"/>
            </a:endParaRPr>
          </a:p>
          <a:p>
            <a:pPr lvl="3" marL="1472040" indent="-21024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e or fall in temperature resulting from </a:t>
            </a:r>
            <a:endParaRPr b="0" lang="en-US" sz="2800" spc="-1" strike="noStrike">
              <a:solidFill>
                <a:srgbClr val="000000"/>
              </a:solidFill>
              <a:latin typeface="Times New Roman"/>
            </a:endParaRPr>
          </a:p>
          <a:p>
            <a:pPr lvl="4" marL="1892520" indent="-210240">
              <a:spcBef>
                <a:spcPts val="7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down  of refrigeration plant and equipment at the premises due to accidental failure/ breakdown of machineries/equipments (as mentioned in the group III of rate schedule)</a:t>
            </a:r>
            <a:endParaRPr b="0" lang="en-US" sz="2800" spc="-1" strike="noStrike">
              <a:solidFill>
                <a:srgbClr val="000000"/>
              </a:solidFill>
              <a:latin typeface="Times New Roman"/>
            </a:endParaRPr>
          </a:p>
          <a:p>
            <a:pPr lvl="4" marL="1892520" indent="0">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189252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 INSURED</a:t>
            </a:r>
            <a:endParaRPr b="0" lang="en-US" sz="4400" spc="-1" strike="noStrike">
              <a:solidFill>
                <a:srgbClr val="000000"/>
              </a:solidFill>
              <a:latin typeface="Times New Roman"/>
            </a:endParaRPr>
          </a:p>
        </p:txBody>
      </p:sp>
      <p:sp>
        <p:nvSpPr>
          <p:cNvPr id="35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PER FULL STORAGE CAPACITY OF THE COLD CHAMB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236232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type="subTitle"/>
          </p:nvPr>
        </p:nvSpPr>
        <p:spPr>
          <a:xfrm>
            <a:off x="1371600" y="1752480"/>
            <a:ext cx="6400800" cy="3657600"/>
          </a:xfrm>
          <a:prstGeom prst="rect">
            <a:avLst/>
          </a:prstGeom>
          <a:noFill/>
          <a:ln w="76320">
            <a:solidFill>
              <a:srgbClr val="ff6600"/>
            </a:solidFill>
            <a:miter/>
          </a:ln>
        </p:spPr>
        <p:txBody>
          <a:bodyPr anchor="t">
            <a:no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ff"/>
                </a:solidFill>
                <a:latin typeface="Comic Sans MS"/>
              </a:rPr>
              <a:t>THANK YOU</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456840" y="990720"/>
            <a:ext cx="8077320" cy="5410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mpact damage by </a:t>
            </a:r>
            <a:r>
              <a:rPr b="0" lang="en-US" sz="2800" spc="-1" strike="noStrike">
                <a:solidFill>
                  <a:srgbClr val="00b050"/>
                </a:solidFill>
                <a:latin typeface="Gill Sans MT"/>
              </a:rPr>
              <a:t>any external physical object </a:t>
            </a:r>
            <a:r>
              <a:rPr b="0" lang="en-US" sz="2800" spc="-1" strike="noStrike">
                <a:solidFill>
                  <a:srgbClr val="000000"/>
                </a:solidFill>
                <a:latin typeface="Gill Sans MT"/>
              </a:rPr>
              <a:t>(Incl. Insured’s own items &amp; not limited to vehicles &amp; animal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issile Testing Operation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SMD</a:t>
            </a:r>
            <a:endParaRPr b="0" lang="en-US" sz="2800" spc="-1" strike="noStrike">
              <a:solidFill>
                <a:srgbClr val="000000"/>
              </a:solidFill>
              <a:latin typeface="Times New Roman"/>
            </a:endParaRPr>
          </a:p>
          <a:p>
            <a:pPr>
              <a:lnSpc>
                <a:spcPct val="100000"/>
              </a:lnSpc>
              <a:spcBef>
                <a:spcPts val="700"/>
              </a:spcBef>
              <a:buClr>
                <a:srgbClr val="ff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MT"/>
              </a:rPr>
              <a:t>Terrorism (As per IMTRIP)</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ursting &amp; Overflowing of pipes</a:t>
            </a:r>
            <a:endParaRPr b="0" lang="en-US" sz="2800" spc="-1" strike="noStrike">
              <a:solidFill>
                <a:srgbClr val="000000"/>
              </a:solidFill>
              <a:latin typeface="Times New Roman"/>
            </a:endParaRPr>
          </a:p>
          <a:p>
            <a:pPr>
              <a:lnSpc>
                <a:spcPct val="100000"/>
              </a:lnSpc>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akage of Automatic sprinklers</a:t>
            </a:r>
            <a:endParaRPr b="0" lang="en-US" sz="2800" spc="-1" strike="noStrike">
              <a:solidFill>
                <a:srgbClr val="000000"/>
              </a:solidFill>
              <a:latin typeface="Times New Roman"/>
            </a:endParaRPr>
          </a:p>
          <a:p>
            <a:pPr>
              <a:lnSpc>
                <a:spcPct val="100000"/>
              </a:lnSpc>
              <a:spcBef>
                <a:spcPts val="700"/>
              </a:spcBef>
              <a:buClr>
                <a:srgbClr val="16165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5d"/>
                </a:solidFill>
                <a:latin typeface="Gill Sans MT"/>
              </a:rPr>
              <a:t>Theft within 7 days following any of the above mentioned perils</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harat Griha Raksha</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228600" y="837720"/>
            <a:ext cx="8763120" cy="54104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Other Inbuilt cover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ss of rent for specified sum insured &amp; months (max 3 years)</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nt for alternate accommodation for specific sum insured &amp; months (max 3 years) </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rchitects’, Surveyor &amp; Consulting Engineers Fees up to 5% of claim amount</a:t>
            </a:r>
            <a:endParaRPr b="0" lang="en-US" sz="2400" spc="-1" strike="noStrike">
              <a:solidFill>
                <a:srgbClr val="000000"/>
              </a:solidFill>
              <a:latin typeface="Times New Roman"/>
            </a:endParaRPr>
          </a:p>
          <a:p>
            <a:pPr>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moval of debris upto 2% of the claim amou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Add on cov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luable contents based on Agreed value basis (Option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sonal Accident cover for owner &amp; spouse (Optional) for Rs. 5 lakhs each (Death only)</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200" spc="-1" strike="noStrike">
                <a:solidFill>
                  <a:srgbClr val="000000"/>
                </a:solidFill>
                <a:latin typeface="Calibri"/>
                <a:ea typeface="Calibri"/>
              </a:rPr>
              <a:t>EXCLUSIONS</a:t>
            </a:r>
            <a:endParaRPr b="0" lang="en-US" sz="3200" spc="-1" strike="noStrike">
              <a:solidFill>
                <a:srgbClr val="000000"/>
              </a:solidFill>
              <a:latin typeface="Times New Roman"/>
            </a:endParaRPr>
          </a:p>
        </p:txBody>
      </p:sp>
      <p:sp>
        <p:nvSpPr>
          <p:cNvPr id="126" name="PlaceHolder 2"/>
          <p:cNvSpPr>
            <a:spLocks noGrp="1"/>
          </p:cNvSpPr>
          <p:nvPr>
            <p:ph type="subTitle"/>
          </p:nvPr>
        </p:nvSpPr>
        <p:spPr>
          <a:xfrm>
            <a:off x="457200" y="837720"/>
            <a:ext cx="8229600" cy="6324840"/>
          </a:xfrm>
          <a:prstGeom prst="rect">
            <a:avLst/>
          </a:prstGeom>
          <a:noFill/>
          <a:ln w="0">
            <a:noFill/>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eliberate ,Willful or intentional act or omission of insured, or anyone on his behalf and in</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adiation and  contamination claus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War Perils</a:t>
            </a:r>
            <a:endParaRPr b="0" lang="en-US" sz="1600" spc="-1" strike="noStrike">
              <a:solidFill>
                <a:srgbClr val="000000"/>
              </a:solidFill>
              <a:latin typeface="Times New Roman"/>
            </a:endParaRPr>
          </a:p>
          <a:p>
            <a:pPr indent="0" algn="just">
              <a:lnSpc>
                <a:spcPts val="165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ollution or Contamination unless the pollution or contamination itself  has resulted from an Insured Event, or an Insured Event itself results from pollution or contamination.</a:t>
            </a: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ts val="16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damage or destruction to any  electrical/electronic machine, apparatus, fixture,  or fitting by over-running, excessive pressure,  short circuiting, arcing, self heating or leakage of  electricity from whatever cause (lightning  included) This exclusion applies only to the  particular machine so lost, damaged or destroyed</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bullion or  unset precious stones,  manuscripts, plans, drawings,  securities, obligations or  documents of any kind, coins  or paper money, cheques,  vehicles, and explosive  substances</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Property which is missing or has  been mislaid, or its  disappearance cannot be linked  to any single identifiable ev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f earnings, loss by  delay, loss of market or  other consequential</a:t>
            </a:r>
            <a:r>
              <a:rPr b="1" lang="en-US" sz="1600" spc="-1" strike="noStrike">
                <a:solidFill>
                  <a:srgbClr val="000000"/>
                </a:solidFill>
                <a:latin typeface="Century Gothic"/>
                <a:ea typeface="Century Gothic"/>
              </a:rPr>
              <a: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Loss or damage to any  Insured Property  removed from the  Home to any other  place.</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reduction in market value of  any Insured Property after its  repair or reinstatement.</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ny addition, extension, or alteration to any structure  of the property that increases its Carpet Area by more  than 10% of the Carpet Area existing at the Commencement Date or on the date of renewal of this  Policy, unless You have paid additional premium and  such addition, extension or alteration is added by  Endorsemen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sts, fees or expenses for  preparing any clai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28880" y="857160"/>
            <a:ext cx="7200720" cy="4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ited Bharat Sookshma Udyam Suraksha/BLUS</a:t>
            </a:r>
            <a:endParaRPr b="0" lang="en-US" sz="2200" spc="-1" strike="noStrike">
              <a:solidFill>
                <a:srgbClr val="000000"/>
              </a:solidFill>
              <a:latin typeface="Times New Roman"/>
            </a:endParaRPr>
          </a:p>
        </p:txBody>
      </p:sp>
      <p:graphicFrame>
        <p:nvGraphicFramePr>
          <p:cNvPr id="128" name=""/>
          <p:cNvGraphicFramePr/>
          <p:nvPr/>
        </p:nvGraphicFramePr>
        <p:xfrm>
          <a:off x="638280" y="1346040"/>
          <a:ext cx="8426520" cy="4651560"/>
        </p:xfrm>
        <a:graphic>
          <a:graphicData uri="http://schemas.openxmlformats.org/drawingml/2006/table">
            <a:tbl>
              <a:tblPr/>
              <a:tblGrid>
                <a:gridCol w="1025280"/>
                <a:gridCol w="4702320"/>
                <a:gridCol w="2698920"/>
              </a:tblGrid>
              <a:tr h="28188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S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LU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w.e.f</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34200" bIns="34200" anchor="t">
                      <a:noAutofit/>
                    </a:bodyPr>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91b0e"/>
                          </a:solidFill>
                          <a:latin typeface="Gill Sans MT"/>
                        </a:rPr>
                        <a:t>01/04/2021</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19996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s that can be covered</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um Insured not exceeding Rs. 5 Cr. Offices, Hotels, Shops, Industrial/Manufacturing risks, Utilities located outside the compound of industrial/manufacturing risks, Storage risks outside the compound of industrial/manufacturing risks and Tank farms/Gas holders outside the compounds of industrial/manufacturing risks where the total value at risk does not exceed Rs. 5 Cr across all asset classes at any one location</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ther than dwellings with per location S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Rs.5cr&lt;=SI&lt;=Rs.50c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950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Policy Tenure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yea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xcess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lat Rs. 5000/- other than Terror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 % of each claim, subject to a minimum of ₹ 10,000/- other than Terrorism</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0812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Standard Add-On cover </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eclaration clause for Stocks</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1400" spc="-1" strike="noStrike">
                          <a:solidFill>
                            <a:srgbClr val="000000"/>
                          </a:solidFill>
                          <a:latin typeface="Gill Sans MT"/>
                        </a:rPr>
                        <a:t> Declaration clause for Stock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Floater cover</a:t>
                      </a:r>
                      <a:endParaRPr b="0" lang="en-US" sz="1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IN BUILT COVERS SOOKHMA &amp; LAGHU</a:t>
            </a:r>
            <a:endParaRPr b="0" lang="en-US" sz="2800" spc="-1" strike="noStrike">
              <a:solidFill>
                <a:srgbClr val="000000"/>
              </a:solidFill>
              <a:latin typeface="Times New Roman"/>
            </a:endParaRPr>
          </a:p>
        </p:txBody>
      </p:sp>
      <p:sp>
        <p:nvSpPr>
          <p:cNvPr id="130" name=""/>
          <p:cNvSpPr txBox="1"/>
          <p:nvPr/>
        </p:nvSpPr>
        <p:spPr>
          <a:xfrm>
            <a:off x="0" y="685800"/>
            <a:ext cx="9220320" cy="5943600"/>
          </a:xfrm>
          <a:prstGeom prst="rect">
            <a:avLst/>
          </a:prstGeom>
          <a:noFill/>
          <a:ln w="0">
            <a:noFill/>
          </a:ln>
        </p:spPr>
        <p:txBody>
          <a:bodyPr anchor="t">
            <a:normAutofit/>
          </a:bodyPr>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Times New Roman"/>
              </a:rPr>
              <a:t>ADDOTIONS, ALTERATIONSOR EXTENSIONS: 15% (5% IN SF&amp;SP) EXCEPT STOCK</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 TEMPORARY REMOVAL OF STOCK: 10%.</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3. COVER FOR SPECIFIC COVER: MONEY , MANUSCRIPTS, SECURITIES, PLAN ETC UP TO Rs 50,000. COVER FOR COMPUTER PROGRAMMES, INFORMATION DATA UPTO Rs 5 LAKHS. PERSONAL EFFECTS OF EMPLOYEES, DIRECTORS AND VISITERS UP TO Rs 15,000/- PER PERSON FOR A MAX OF 20 PERSONS DURING THE POLICY PERIOD.</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imes New Roman"/>
              </a:rPr>
              <a:t>4. STRAT UP EXPENSES: UP TO Rs 5 LAKHS</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5. PROFFESSIONAL FEES: UP TO 5 % OF THE CLAIM AMOUNT (3%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 REMOVAL OF DEBRIES: UP TO 2% OF THE CLAIM AMOUNT (1% IN SF&amp;SP)</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7. COST COMPELLED BY MUNICIPAL REGULATIONS: ADDITIONAL COST.</a:t>
            </a:r>
            <a:endParaRPr b="0" lang="en-US" sz="2000" spc="-1" strike="noStrike">
              <a:solidFill>
                <a:srgbClr val="000000"/>
              </a:solidFill>
              <a:latin typeface="Times New Roman"/>
            </a:endParaRPr>
          </a:p>
          <a:p>
            <a:pPr marL="457200" indent="-45720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XCLUSIONS</a:t>
            </a:r>
            <a:endParaRPr b="0" lang="en-US" sz="3200" spc="-1" strike="noStrike">
              <a:solidFill>
                <a:srgbClr val="000000"/>
              </a:solidFill>
              <a:latin typeface="Times New Roman"/>
            </a:endParaRPr>
          </a:p>
        </p:txBody>
      </p:sp>
      <p:sp>
        <p:nvSpPr>
          <p:cNvPr id="132" name="PlaceHolder 2"/>
          <p:cNvSpPr>
            <a:spLocks noGrp="1"/>
          </p:cNvSpPr>
          <p:nvPr>
            <p:ph type="subTitle"/>
          </p:nvPr>
        </p:nvSpPr>
        <p:spPr>
          <a:xfrm>
            <a:off x="1371600" y="837720"/>
            <a:ext cx="6934320" cy="4800600"/>
          </a:xfrm>
          <a:prstGeom prst="rect">
            <a:avLst/>
          </a:prstGeom>
          <a:noFill/>
          <a:ln w="0">
            <a:noFill/>
          </a:ln>
        </p:spPr>
        <p:txBody>
          <a:bodyPr anchor="t">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 Stocks in cold storage due to change in temp</a:t>
            </a:r>
            <a:endParaRPr b="0" lang="en-US" sz="1800" spc="-1" strike="noStrike">
              <a:solidFill>
                <a:srgbClr val="000000"/>
              </a:solidFill>
              <a:latin typeface="Times New Roman"/>
            </a:endParaRPr>
          </a:p>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 Damage by spoilage</a:t>
            </a:r>
            <a:endParaRPr b="0" lang="en-US" sz="1800" spc="-1" strike="noStrike">
              <a:solidFill>
                <a:srgbClr val="000000"/>
              </a:solidFill>
              <a:latin typeface="Times New Roman"/>
            </a:endParaRPr>
          </a:p>
          <a:p>
            <a:pPr marL="126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lus as applicable for Grih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INSU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228240" y="1066680"/>
            <a:ext cx="8915400" cy="5029200"/>
          </a:xfrm>
          <a:prstGeom prst="rect">
            <a:avLst/>
          </a:prstGeom>
          <a:noFill/>
          <a:ln w="76320">
            <a:solidFill>
              <a:srgbClr val="cc00cc"/>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MEANING OF </a:t>
            </a:r>
            <a:r>
              <a:rPr b="1" lang="en-US" sz="2800" spc="-1" strike="noStrike">
                <a:solidFill>
                  <a:srgbClr val="ff0000"/>
                </a:solidFill>
                <a:latin typeface="Bookman Old Style"/>
              </a:rPr>
              <a:t>FIRE</a:t>
            </a:r>
            <a:r>
              <a:rPr b="1" lang="en-US" sz="2800" spc="-1" strike="noStrike">
                <a:solidFill>
                  <a:srgbClr val="3333cc"/>
                </a:solidFill>
                <a:latin typeface="Bookman Old Style"/>
              </a:rPr>
              <a:t> UNDER FIRE INSURANC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THE TERM FIRE HAS NOT DEFINED IN THE POLICY. TH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EFINITION OF FIRE IS AS PER LEGAL CASE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RE MUST BE ACTUAL IGNIT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PROPERTY WHICH OUGHT NOT HAVE BEEN FIRE</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THE FIRE IS PURELY ACCIDENTAL OR FORTUITOUS </a:t>
            </a:r>
            <a:r>
              <a:rPr b="1" lang="en-US" sz="2800" spc="-1" strike="noStrike">
                <a:solidFill>
                  <a:srgbClr val="ff0000"/>
                </a:solidFill>
                <a:latin typeface="Bookman Old Style"/>
              </a:rPr>
              <a:t>IN ORIGIN.</a:t>
            </a:r>
            <a:endParaRPr b="0" lang="en-US" sz="2800" spc="-1" strike="noStrike">
              <a:solidFill>
                <a:srgbClr val="000000"/>
              </a:solidFill>
              <a:latin typeface="Times New Roman"/>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base">
                                        <p:cTn id="13"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9">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anim calcmode="lin" valueType="num">
                                      <p:cBhvr additive="base">
                                        <p:cTn id="19"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9">
                                  <p:stCondLst>
                                    <p:cond delay="0"/>
                                  </p:stCondLst>
                                  <p:childTnLst>
                                    <p:set>
                                      <p:cBhvr>
                                        <p:cTn id="24" dur="1" fill="hold">
                                          <p:stCondLst>
                                            <p:cond delay="0"/>
                                          </p:stCondLst>
                                        </p:cTn>
                                        <p:tgtEl>
                                          <p:spTgt spid="51">
                                            <p:txEl>
                                              <p:pRg st="3" end="3"/>
                                            </p:txEl>
                                          </p:spTgt>
                                        </p:tgtEl>
                                        <p:attrNameLst>
                                          <p:attrName>style.visibility</p:attrName>
                                        </p:attrNameLst>
                                      </p:cBhvr>
                                      <p:to>
                                        <p:strVal val="visible"/>
                                      </p:to>
                                    </p:set>
                                    <p:anim calcmode="lin" valueType="num">
                                      <p:cBhvr additive="base">
                                        <p:cTn id="25"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9">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anim calcmode="lin" valueType="num">
                                      <p:cBhvr additive="base">
                                        <p:cTn id="31" dur="500" fill="hold"/>
                                        <p:tgtEl>
                                          <p:spTgt spid="51">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9">
                                  <p:stCondLst>
                                    <p:cond delay="0"/>
                                  </p:stCondLst>
                                  <p:childTnLst>
                                    <p:set>
                                      <p:cBhvr>
                                        <p:cTn id="36" dur="1" fill="hold">
                                          <p:stCondLst>
                                            <p:cond delay="0"/>
                                          </p:stCondLst>
                                        </p:cTn>
                                        <p:tgtEl>
                                          <p:spTgt spid="51">
                                            <p:txEl>
                                              <p:pRg st="7" end="7"/>
                                            </p:txEl>
                                          </p:spTgt>
                                        </p:tgtEl>
                                        <p:attrNameLst>
                                          <p:attrName>style.visibility</p:attrName>
                                        </p:attrNameLst>
                                      </p:cBhvr>
                                      <p:to>
                                        <p:strVal val="visible"/>
                                      </p:to>
                                    </p:set>
                                    <p:anim calcmode="lin" valueType="num">
                                      <p:cBhvr additive="base">
                                        <p:cTn id="37" dur="500" fill="hold"/>
                                        <p:tgtEl>
                                          <p:spTgt spid="51">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9">
                                  <p:stCondLst>
                                    <p:cond delay="0"/>
                                  </p:stCondLst>
                                  <p:childTnLst>
                                    <p:set>
                                      <p:cBhvr>
                                        <p:cTn id="42" dur="1" fill="hold">
                                          <p:stCondLst>
                                            <p:cond delay="0"/>
                                          </p:stCondLst>
                                        </p:cTn>
                                        <p:tgtEl>
                                          <p:spTgt spid="51">
                                            <p:txEl>
                                              <p:pRg st="9" end="9"/>
                                            </p:txEl>
                                          </p:spTgt>
                                        </p:tgtEl>
                                        <p:attrNameLst>
                                          <p:attrName>style.visibility</p:attrName>
                                        </p:attrNameLst>
                                      </p:cBhvr>
                                      <p:to>
                                        <p:strVal val="visible"/>
                                      </p:to>
                                    </p:set>
                                    <p:anim calcmode="lin" valueType="num">
                                      <p:cBhvr additive="base">
                                        <p:cTn id="43" dur="500" fill="hold"/>
                                        <p:tgtEl>
                                          <p:spTgt spid="51">
                                            <p:txEl>
                                              <p:pRg st="9" end="9"/>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109520"/>
            <a:ext cx="87138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Gill Sans MT"/>
              </a:rPr>
              <a:t>Bharat Sookshma Udyam Suraksha/BLUS</a:t>
            </a:r>
            <a:br>
              <a:rPr sz="3000"/>
            </a:br>
            <a:r>
              <a:rPr b="0" lang="en-US" sz="2400" spc="-1" strike="noStrike">
                <a:solidFill>
                  <a:srgbClr val="0033cc"/>
                </a:solidFill>
                <a:latin typeface="Gill Sans MT"/>
              </a:rPr>
              <a:t>Basis of Claim Settlement</a:t>
            </a:r>
            <a:endParaRPr b="0" lang="en-US" sz="2400" spc="-1" strike="noStrike">
              <a:solidFill>
                <a:srgbClr val="000000"/>
              </a:solidFill>
              <a:latin typeface="Times New Roman"/>
            </a:endParaRPr>
          </a:p>
        </p:txBody>
      </p:sp>
      <p:graphicFrame>
        <p:nvGraphicFramePr>
          <p:cNvPr id="134" name=""/>
          <p:cNvGraphicFramePr/>
          <p:nvPr/>
        </p:nvGraphicFramePr>
        <p:xfrm>
          <a:off x="641520" y="2228760"/>
          <a:ext cx="8370720" cy="3382920"/>
        </p:xfrm>
        <a:graphic>
          <a:graphicData uri="http://schemas.openxmlformats.org/drawingml/2006/table">
            <a:tbl>
              <a:tblPr/>
              <a:tblGrid>
                <a:gridCol w="3252600"/>
                <a:gridCol w="5118120"/>
              </a:tblGrid>
              <a:tr h="2970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TEM</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ASIS OF SETTLEMENT</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ilding, Plant and Machinery, Furniture, Fixture and Fittings and any other content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repaired/reinstated within 12m-Reinstatement Value</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not repaired/Reinstated within 12m- Market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7400">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ock of Raw material</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Landed Cost at Premis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525240">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Stock in process</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Input Cost of the stock at the time of damag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r h="52560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Finished stock</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The Manufacturing Cost of the finished stock or the Contract Price of goods sold but not delivered</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f1faf6"/>
                    </a:solidFill>
                  </a:tcPr>
                </a:tc>
              </a:tr>
              <a:tr h="753840">
                <a:tc>
                  <a: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ill Sans MT"/>
                        </a:rPr>
                        <a:t>Bullion or unset precious stones, any curios or works of art or obsolete machinery and the lik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c>
                  <a:txBody>
                    <a:bodyPr lIns="68760" rIns="6876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greed Value</a:t>
                      </a:r>
                      <a:endParaRPr b="0" lang="en-US" sz="1500" spc="-1" strike="noStrike">
                        <a:solidFill>
                          <a:srgbClr val="000000"/>
                        </a:solidFill>
                        <a:latin typeface="Times New Roman"/>
                      </a:endParaRPr>
                    </a:p>
                  </a:txBody>
                  <a:tcPr anchor="t" marL="68760" marR="68760">
                    <a:lnL w="5760">
                      <a:solidFill>
                        <a:srgbClr val="aae2ca"/>
                      </a:solidFill>
                    </a:lnL>
                    <a:lnR w="5760">
                      <a:solidFill>
                        <a:srgbClr val="aae2ca"/>
                      </a:solidFill>
                    </a:lnR>
                    <a:lnT w="5760">
                      <a:solidFill>
                        <a:srgbClr val="aae2ca"/>
                      </a:solidFill>
                    </a:lnT>
                    <a:lnB w="5760">
                      <a:solidFill>
                        <a:srgbClr val="aae2ca"/>
                      </a:solidFill>
                    </a:lnB>
                    <a:solidFill>
                      <a:srgbClr val="e2f4e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Gill Sans MT"/>
              </a:rPr>
              <a:t>Comparison of SFSP vs. 3 new products</a:t>
            </a:r>
            <a:endParaRPr b="0" lang="en-US" sz="4400" spc="-1" strike="noStrike">
              <a:solidFill>
                <a:srgbClr val="000000"/>
              </a:solidFill>
              <a:latin typeface="Times New Roman"/>
            </a:endParaRPr>
          </a:p>
        </p:txBody>
      </p:sp>
      <p:graphicFrame>
        <p:nvGraphicFramePr>
          <p:cNvPr id="136" name=""/>
          <p:cNvGraphicFramePr/>
          <p:nvPr/>
        </p:nvGraphicFramePr>
        <p:xfrm>
          <a:off x="1028880" y="1941480"/>
          <a:ext cx="7939080" cy="4105440"/>
        </p:xfrm>
        <a:graphic>
          <a:graphicData uri="http://schemas.openxmlformats.org/drawingml/2006/table">
            <a:tbl>
              <a:tblPr/>
              <a:tblGrid>
                <a:gridCol w="1587240"/>
                <a:gridCol w="2676600"/>
                <a:gridCol w="1216080"/>
                <a:gridCol w="1257120"/>
                <a:gridCol w="1202040"/>
              </a:tblGrid>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Gill Sans MT"/>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056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Fir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 exce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 its own </a:t>
                      </a:r>
                      <a:r>
                        <a:rPr b="0" lang="en-US" sz="1400" spc="-1" strike="noStrike">
                          <a:solidFill>
                            <a:srgbClr val="000000"/>
                          </a:solidFill>
                          <a:latin typeface="Calibri"/>
                          <a:ea typeface="Calibri"/>
                        </a:rPr>
                        <a:t>fermentation</a:t>
                      </a:r>
                      <a:r>
                        <a:rPr b="0" lang="en-US" sz="1400" spc="-1" strike="noStrike">
                          <a:solidFill>
                            <a:srgbClr val="000000"/>
                          </a:solidFill>
                          <a:latin typeface="Gill Sans MT"/>
                        </a:rPr>
                        <a:t> ,natural heating or spontaneous combus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i) burning of property insured by order of any Public Authority. </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Excep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ts undergoing any heating or drying proc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ii) burning of property insured by order of any Public Autho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540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Lightning</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Gill Sans MT"/>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830160" y="1239840"/>
          <a:ext cx="8137800" cy="4427640"/>
        </p:xfrm>
        <a:graphic>
          <a:graphicData uri="http://schemas.openxmlformats.org/drawingml/2006/table">
            <a:tbl>
              <a:tblPr/>
              <a:tblGrid>
                <a:gridCol w="1816200"/>
                <a:gridCol w="1600200"/>
                <a:gridCol w="1724040"/>
                <a:gridCol w="1546200"/>
                <a:gridCol w="1451160"/>
              </a:tblGrid>
              <a:tr h="282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Professional fee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3%)</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5% )</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348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sts for removal of debris as % of claim amount</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1%)</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up to 2%)</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Earthquake, volcanic eruption, or other convulsions of natu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338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Bush fire, Forest fire, Jungle fire</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Forest Fire covered as add-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9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errorism</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2779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Theft within 7 day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Not 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In-built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174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Loss of Rent and Rent for Alternative Accommod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 as separate Add-ons</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1632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utomatic Increase in Sum insured for Building(Escalation)</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vered</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341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Under Insurance Wavi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Add-On co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Complete waiver</a:t>
                      </a: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ea typeface="Calibri"/>
                        </a:rPr>
                        <a:t>Waived upto 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703440" y="1063800"/>
          <a:ext cx="8246880" cy="4892400"/>
        </p:xfrm>
        <a:graphic>
          <a:graphicData uri="http://schemas.openxmlformats.org/drawingml/2006/table">
            <a:tbl>
              <a:tblPr/>
              <a:tblGrid>
                <a:gridCol w="1649160"/>
                <a:gridCol w="1649520"/>
                <a:gridCol w="1649520"/>
                <a:gridCol w="1649160"/>
                <a:gridCol w="1649520"/>
              </a:tblGrid>
              <a:tr h="28224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Parameter</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FSP</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Griha Raksh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Sookshma</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400" spc="-1" strike="noStrike">
                          <a:solidFill>
                            <a:srgbClr val="ffffff"/>
                          </a:solidFill>
                          <a:latin typeface="Calibri"/>
                          <a:ea typeface="Calibri"/>
                        </a:rPr>
                        <a:t>Laghu</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13508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torm, Cyclone, Typhoon, Tempest, Hurricane, Tornado, Tsunami, Flood and Inundati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DD ON</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Subsidence, Landslide, Rockslid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77660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imals and vehicles except Insured’s own vehicl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By any external physical object including Aircraf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except vehicle, animal or aircraft owned by Insured / Employee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77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Aircraf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lubbed with Impact dam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95360">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Missile testing operations</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400" spc="-1" strike="noStrike">
                          <a:solidFill>
                            <a:srgbClr val="000000"/>
                          </a:solidFill>
                          <a:latin typeface="Calibri"/>
                          <a:ea typeface="Calibri"/>
                        </a:rPr>
                        <a:t>Covered</a:t>
                      </a:r>
                      <a:endParaRPr b="0" lang="en-US" sz="1400" spc="-1" strike="noStrike">
                        <a:solidFill>
                          <a:srgbClr val="000000"/>
                        </a:solidFill>
                        <a:latin typeface="Times New Roman"/>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457200"/>
            <a:ext cx="777240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 name="PlaceHolder 2"/>
          <p:cNvSpPr>
            <a:spLocks noGrp="1"/>
          </p:cNvSpPr>
          <p:nvPr>
            <p:ph/>
          </p:nvPr>
        </p:nvSpPr>
        <p:spPr>
          <a:xfrm>
            <a:off x="609480" y="1523880"/>
            <a:ext cx="7925040" cy="3200400"/>
          </a:xfrm>
          <a:prstGeom prst="rect">
            <a:avLst/>
          </a:prstGeom>
          <a:noFill/>
          <a:ln w="76320">
            <a:solidFill>
              <a:srgbClr val="ff9900"/>
            </a:solidFill>
            <a:miter/>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Bookman Old Style"/>
              </a:rPr>
              <a:t>STANDARD FIRE &amp; SPECIAL PERILS POLICY</a:t>
            </a:r>
            <a:endParaRPr b="0" lang="en-US" sz="4400" spc="-1" strike="noStrike">
              <a:solidFill>
                <a:srgbClr val="0000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GENERAL RULES &amp; REGULATIONS</a:t>
            </a:r>
            <a:endParaRPr b="0" lang="en-US" sz="3200" spc="-1" strike="noStrike">
              <a:solidFill>
                <a:srgbClr val="000000"/>
              </a:solidFill>
              <a:latin typeface="Times New Roman"/>
            </a:endParaRPr>
          </a:p>
        </p:txBody>
      </p:sp>
      <p:sp>
        <p:nvSpPr>
          <p:cNvPr id="143" name="PlaceHolder 2"/>
          <p:cNvSpPr>
            <a:spLocks noGrp="1"/>
          </p:cNvSpPr>
          <p:nvPr>
            <p:ph type="subTitle"/>
          </p:nvPr>
        </p:nvSpPr>
        <p:spPr>
          <a:xfrm>
            <a:off x="228600" y="533160"/>
            <a:ext cx="8686800" cy="6095880"/>
          </a:xfrm>
          <a:prstGeom prst="rect">
            <a:avLst/>
          </a:prstGeom>
          <a:noFill/>
          <a:ln w="76320">
            <a:solidFill>
              <a:srgbClr val="ff66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rPr>
              <a:t>1. </a:t>
            </a:r>
            <a:r>
              <a:rPr b="1" lang="en-US" sz="2400" spc="-1" strike="noStrike">
                <a:solidFill>
                  <a:srgbClr val="cc00ff"/>
                </a:solidFill>
                <a:latin typeface="Bookman Old Style"/>
              </a:rPr>
              <a:t>SF&amp;SPs ARE NOT VALUED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2. </a:t>
            </a:r>
            <a:r>
              <a:rPr b="1" lang="en-US" sz="2400" spc="-1" strike="noStrike">
                <a:solidFill>
                  <a:srgbClr val="ff0000"/>
                </a:solidFill>
                <a:latin typeface="Bookman Old Style"/>
              </a:rPr>
              <a:t>POLICY PERIOD NOT EXCEEDING 12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3. MID TERM COVER GRANTED SUBJECT T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WAITING PERIOD OF 15 DAYS &amp; MOD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    </a:t>
            </a:r>
            <a:r>
              <a:rPr b="1" lang="en-US" sz="2400" spc="-1" strike="noStrike">
                <a:solidFill>
                  <a:srgbClr val="00cc99"/>
                </a:solidFill>
                <a:latin typeface="Bookman Old Style"/>
              </a:rPr>
              <a:t>PREMIUM BY CASH OR D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4. NO MID TERM COVER FOR RSM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00"/>
                </a:solidFill>
                <a:latin typeface="Bookman Old Style"/>
              </a:rPr>
              <a:t>5. PAYMENT OF PREMIUM NOT ON INSTALMEN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6. MINIMUM PREMIUM IS Rs.100/- INDUST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Bookman Old Style"/>
              </a:rPr>
              <a:t>    </a:t>
            </a:r>
            <a:r>
              <a:rPr b="1" lang="en-US" sz="2400" spc="-1" strike="noStrike">
                <a:solidFill>
                  <a:srgbClr val="cc0066"/>
                </a:solidFill>
                <a:latin typeface="Bookman Old Style"/>
              </a:rPr>
              <a:t>RISK &amp; Rs.50/-FOR SIMPLE RISK&amp; TINYSECTOR</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7. PARTIAL INSURANCE NOT ALLOWED EXCEP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BOILERS)    PLINTH &amp; FOUND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8. NO EXTENSION OF SHORT PERIOD POLI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520" y="-230040"/>
            <a:ext cx="6324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228600" y="609480"/>
            <a:ext cx="8686800" cy="5943600"/>
          </a:xfrm>
          <a:prstGeom prst="rect">
            <a:avLst/>
          </a:prstGeom>
          <a:noFill/>
          <a:ln w="76320">
            <a:solidFill>
              <a:srgbClr val="00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Bookman Old Style"/>
              </a:rPr>
              <a:t>9.   LOADING OF Rs.4.00%o ON KATCHA CON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10. RULES FOR CANCELLATIO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9900"/>
                </a:solidFill>
                <a:latin typeface="Bookman Old Style"/>
              </a:rPr>
              <a:t>OPTION OF INSURED: </a:t>
            </a:r>
            <a:r>
              <a:rPr b="1" lang="en-US" sz="2400" spc="-1" strike="noStrike">
                <a:solidFill>
                  <a:srgbClr val="ff9900"/>
                </a:solidFill>
                <a:latin typeface="Bookman Old Style"/>
              </a:rPr>
              <a:t>ON SHOTR PERIO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33cc"/>
                </a:solidFill>
                <a:latin typeface="Bookman Old Style"/>
              </a:rPr>
              <a:t>OPTION OF INSURER:</a:t>
            </a:r>
            <a:r>
              <a:rPr b="1" lang="en-US" sz="2400" spc="-1" strike="noStrike">
                <a:solidFill>
                  <a:srgbClr val="009900"/>
                </a:solidFill>
                <a:latin typeface="Bookman Old Style"/>
              </a:rPr>
              <a:t> CANCELLATION &amp;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REPLACEMENT OF THE  SAME PROPERTY, GOV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ORDER &amp; BLDG UNDER CONSTRUCTION OR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     </a:t>
            </a:r>
            <a:r>
              <a:rPr b="1" lang="en-US" sz="2400" spc="-1" strike="noStrike">
                <a:solidFill>
                  <a:srgbClr val="009900"/>
                </a:solidFill>
                <a:latin typeface="Bookman Old Style"/>
              </a:rPr>
              <a:t>DEMOLISHED :</a:t>
            </a:r>
            <a:r>
              <a:rPr b="1" lang="en-US" sz="2400" spc="-1" strike="noStrike">
                <a:solidFill>
                  <a:srgbClr val="000000"/>
                </a:solidFill>
                <a:latin typeface="Bookman Old Style"/>
              </a:rPr>
              <a:t>	</a:t>
            </a:r>
            <a:r>
              <a:rPr b="1" lang="en-US" sz="2400" spc="-1" strike="noStrike">
                <a:solidFill>
                  <a:srgbClr val="ff0000"/>
                </a:solidFill>
                <a:latin typeface="Bookman Old Style"/>
              </a:rPr>
              <a:t>ON PRORATABASI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28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0" y="228240"/>
            <a:ext cx="9144000" cy="6629400"/>
          </a:xfrm>
          <a:prstGeom prst="rect">
            <a:avLst/>
          </a:prstGeom>
          <a:noFill/>
          <a:ln w="76320">
            <a:solidFill>
              <a:srgbClr val="ff0000"/>
            </a:solidFill>
            <a:miter/>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12. </a:t>
            </a:r>
            <a:r>
              <a:rPr b="1" lang="en-US" sz="2000" spc="-1" strike="noStrike">
                <a:solidFill>
                  <a:srgbClr val="009900"/>
                </a:solidFill>
                <a:latin typeface="Bookman Old Style"/>
              </a:rPr>
              <a:t>ESCALATION CLAUSE APPLICABLE BMA EXCEPT STOCKS –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Bookman Old Style"/>
              </a:rPr>
              <a:t>       </a:t>
            </a:r>
            <a:r>
              <a:rPr b="1" lang="en-US" sz="2000" spc="-1" strike="noStrike">
                <a:solidFill>
                  <a:srgbClr val="009900"/>
                </a:solidFill>
                <a:latin typeface="Bookman Old Style"/>
              </a:rPr>
              <a:t>SLECTION IS MAX. 25%. (both RIV &amp;Mkt valu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13. FACTORIES WHERE NO MANUFACTURING/STORAG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ECTION IV &amp;VI) CONTINUOUSLY FOR 30 OR MORE THAN 3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DAYS  IS CALLED SILENTRISK. DELETION OF STFI &amp;RSMAD I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ALLOWED IN THE INCEPTION OF THE POLICY. FEW BLOCK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man Old Style"/>
              </a:rPr>
              <a:t>      </a:t>
            </a:r>
            <a:r>
              <a:rPr b="1" lang="en-US" sz="2000" spc="-1" strike="noStrike">
                <a:solidFill>
                  <a:srgbClr val="ff0000"/>
                </a:solidFill>
                <a:latin typeface="Bookman Old Style"/>
              </a:rPr>
              <a:t>SILENT WILL NOT BE QUALIFY SILENT RISK</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4. RISK IN MULTIPLE OCCUPANCY INDUSTRIAL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STATE SHALL BE RATED PER SE. IF THE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ENTIRE BUILDING OF THE IND. ESTATE I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INSURED UNDER ONE SUM INSURED BY</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HARGING Rs.1.80%o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15. VOLINTARY DEDUCTIBLES: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T THE OPTION OF THE INSURED IT REPLACES THE</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COMPULSORY DEDUCTIBLE. ONLY VOL. DEDUCTIBLE WILL</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Bookman Old Style"/>
              </a:rPr>
              <a:t>     </a:t>
            </a:r>
            <a:r>
              <a:rPr b="1" lang="en-US" sz="2000" spc="-1" strike="noStrike">
                <a:solidFill>
                  <a:srgbClr val="cc00ff"/>
                </a:solidFill>
                <a:latin typeface="Bookman Old Style"/>
              </a:rPr>
              <a:t>APP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9"/>
                </a:solidFill>
                <a:latin typeface="Times New Roman"/>
              </a:rPr>
              <a:t>Deductible wef 01.04.2014 </a:t>
            </a:r>
            <a:endParaRPr b="0" lang="en-US" sz="2800" spc="-1" strike="noStrike">
              <a:solidFill>
                <a:srgbClr val="000000"/>
              </a:solidFill>
              <a:latin typeface="Times New Roman"/>
            </a:endParaRPr>
          </a:p>
        </p:txBody>
      </p:sp>
      <p:sp>
        <p:nvSpPr>
          <p:cNvPr id="149" name=""/>
          <p:cNvSpPr txBox="1"/>
          <p:nvPr/>
        </p:nvSpPr>
        <p:spPr>
          <a:xfrm>
            <a:off x="152280" y="685800"/>
            <a:ext cx="8686800" cy="6019920"/>
          </a:xfrm>
          <a:prstGeom prst="rect">
            <a:avLst/>
          </a:prstGeom>
          <a:noFill/>
          <a:ln w="0">
            <a:noFill/>
          </a:ln>
        </p:spPr>
        <p:txBody>
          <a:bodyPr anchor="t">
            <a:normAutofit fontScale="99000"/>
          </a:bodyPr>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FIRE: DWELLINGS – NIL AND OTHERS PER LOCATION BASIS.</a:t>
            </a:r>
            <a:endParaRPr b="0" lang="en-US" sz="2000" spc="-1" strike="noStrike">
              <a:solidFill>
                <a:srgbClr val="000000"/>
              </a:solidFill>
              <a:latin typeface="Times New Roman"/>
            </a:endParaRPr>
          </a:p>
          <a:p>
            <a:pPr marL="339480" indent="-339480">
              <a:lnSpc>
                <a:spcPct val="100000"/>
              </a:lnSpc>
              <a:spcBef>
                <a:spcPts val="7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ATER &amp; FLOATER DECLARATION:5% OF CLAIM AMOUNT SUB TO MIN OF Rs. 50,000</a:t>
            </a:r>
            <a:r>
              <a:rPr b="0" lang="en-US" sz="3200" spc="-1" strike="noStrike">
                <a:solidFill>
                  <a:srgbClr val="336600"/>
                </a:solidFill>
                <a:latin typeface="Times New Roman"/>
              </a:rPr>
              <a:t>/-</a:t>
            </a:r>
            <a:endParaRPr b="0" lang="en-US" sz="32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FLOP: OTHER THAN PETRO: 7 DAYS GP. PETRO: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IAR: SI UP TO 1500 Crs (MD+BI) PER LOCATION</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OF CLAIM AMT SUB TO MIN OF Rs.10,00,000/-</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SI ABOVE Rs 1500 Cr AND UP TO 2500 Cr.(MD+BI) PER LOCATION</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MD: 5% OF CLAIM AMT SUB TO MIN OF Rs.25,00,000/-</a:t>
            </a:r>
            <a:endParaRPr b="0" lang="en-US" sz="2000" spc="-1" strike="noStrike">
              <a:solidFill>
                <a:srgbClr val="000000"/>
              </a:solidFill>
              <a:latin typeface="Times New Roman"/>
            </a:endParaRPr>
          </a:p>
          <a:p>
            <a:pPr marL="339480" indent="-339480">
              <a:lnSpc>
                <a:spcPct val="10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SI ABOVE Rs 2500 Cr. (MD+BI) PER LOCATION</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BI: FLOP : 7 DAYS  MLOP: 14 DAYS</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COPE OF COVER</a:t>
            </a:r>
            <a:endParaRPr b="0" lang="en-US" sz="3200" spc="-1" strike="noStrike">
              <a:solidFill>
                <a:srgbClr val="000000"/>
              </a:solidFill>
              <a:latin typeface="Times New Roman"/>
            </a:endParaRPr>
          </a:p>
        </p:txBody>
      </p:sp>
      <p:sp>
        <p:nvSpPr>
          <p:cNvPr id="53" name="PlaceHolder 2"/>
          <p:cNvSpPr>
            <a:spLocks noGrp="1"/>
          </p:cNvSpPr>
          <p:nvPr>
            <p:ph/>
          </p:nvPr>
        </p:nvSpPr>
        <p:spPr>
          <a:xfrm>
            <a:off x="304920" y="1066320"/>
            <a:ext cx="8534160" cy="5410440"/>
          </a:xfrm>
          <a:prstGeom prst="rect">
            <a:avLst/>
          </a:prstGeom>
          <a:noFill/>
          <a:ln w="76320">
            <a:solidFill>
              <a:srgbClr val="ff0000"/>
            </a:solidFill>
            <a:miter/>
          </a:ln>
        </p:spPr>
        <p:txBody>
          <a:bodyPr anchor="t">
            <a:normAutofit/>
          </a:bodyPr>
          <a:p>
            <a:pPr marL="343080" indent="-343080" algn="just">
              <a:lnSpc>
                <a:spcPct val="100000"/>
              </a:lnSpc>
              <a:spcBef>
                <a:spcPts val="700"/>
              </a:spcBef>
              <a:buClr>
                <a:srgbClr val="cc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FINANCIAL PROTECTION AGAINST LOSS ARISING OUT OF PERILS COVERED.</a:t>
            </a:r>
            <a:endParaRPr b="0" lang="en-US" sz="28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IRE INCLUDING FIRE RESULTING FROM EXPLOSION / IMPLOSION.</a:t>
            </a:r>
            <a:endParaRPr b="0" lang="en-US" sz="2400" spc="-1" strike="noStrike">
              <a:solidFill>
                <a:srgbClr val="000000"/>
              </a:solidFill>
              <a:latin typeface="Times New Roman"/>
            </a:endParaRPr>
          </a:p>
          <a:p>
            <a:pPr marL="343080" indent="-343080" algn="just">
              <a:lnSpc>
                <a:spcPct val="100000"/>
              </a:lnSpc>
              <a:spcBef>
                <a:spcPts val="601"/>
              </a:spcBef>
              <a:buClr>
                <a:srgbClr val="00cc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SMOKE, SCORCHING/ HEAT RADIATION CAUSED</a:t>
            </a:r>
            <a:r>
              <a:rPr b="1" lang="en-US" sz="2400" spc="-1" strike="noStrike">
                <a:solidFill>
                  <a:srgbClr val="00cc99"/>
                </a:solidFill>
                <a:latin typeface="Bookman Old Style"/>
              </a:rPr>
              <a:t>	</a:t>
            </a:r>
            <a:r>
              <a:rPr b="1" lang="en-US" sz="2400" spc="-1" strike="noStrike">
                <a:solidFill>
                  <a:srgbClr val="00cc99"/>
                </a:solidFill>
                <a:latin typeface="Bookman Old Style"/>
              </a:rPr>
              <a:t>FOLLOWING BY FIRE </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ALLING OF WALL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WATER OR OTHER FIRE EXTINGUISHING APPLIANCES USED IN PUTTING OUT FIRE.</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URING REMOVAL FROM A BURNING BUILDING</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Arial"/>
              </a:rPr>
              <a:t>Deductible conti….</a:t>
            </a:r>
            <a:endParaRPr b="0" lang="en-US" sz="2800" spc="-1" strike="noStrike">
              <a:solidFill>
                <a:srgbClr val="000000"/>
              </a:solidFill>
              <a:latin typeface="Times New Roman"/>
            </a:endParaRPr>
          </a:p>
        </p:txBody>
      </p:sp>
      <p:sp>
        <p:nvSpPr>
          <p:cNvPr id="151" name=""/>
          <p:cNvSpPr txBox="1"/>
          <p:nvPr/>
        </p:nvSpPr>
        <p:spPr>
          <a:xfrm>
            <a:off x="0" y="457200"/>
            <a:ext cx="9144000" cy="6400800"/>
          </a:xfrm>
          <a:prstGeom prst="rect">
            <a:avLst/>
          </a:prstGeom>
          <a:noFill/>
          <a:ln w="0">
            <a:noFill/>
          </a:ln>
        </p:spPr>
        <p:txBody>
          <a:bodyPr anchor="t">
            <a:normAutofit fontScale="99000"/>
          </a:bodyPr>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EGA RISK : SUM INSURED ABVE Rs 2500 Cr (MD+BI)</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MD: 5% OF CLAIM AMT SUB TO MIN OF Rs.50,00,000/-</a:t>
            </a:r>
            <a:endParaRPr b="0" lang="en-US" sz="2000" spc="-1" strike="noStrike">
              <a:solidFill>
                <a:srgbClr val="000000"/>
              </a:solidFill>
              <a:latin typeface="Times New Roman"/>
            </a:endParaRPr>
          </a:p>
          <a:p>
            <a:pPr marL="339480" indent="-339480">
              <a:lnSpc>
                <a:spcPct val="100000"/>
              </a:lnSpc>
              <a:spcBef>
                <a:spcPts val="499"/>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a:ea typeface="Arial"/>
              </a:rPr>
              <a:t>FLOP: 14 DAYS, MLOP 21 DAYS</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CELLULAR NETWORK</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D: 5% OF CLAIM AMOUNT SUB MIN OF Rs 5,00,000/-</a:t>
            </a:r>
            <a:endParaRPr b="0" lang="en-US" sz="2000" spc="-1" strike="noStrike">
              <a:solidFill>
                <a:srgbClr val="000000"/>
              </a:solidFill>
              <a:latin typeface="Times New Roman"/>
            </a:endParaRPr>
          </a:p>
          <a:p>
            <a:pPr marL="339480" indent="-3394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BI: 3 DAYS OF GP</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ENGINEERING PROJECT INSURANCE: </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MD: 5 TIMES OF TAC TARIFF EXCES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db9"/>
                </a:solidFill>
                <a:latin typeface="Arial"/>
                <a:ea typeface="Arial"/>
              </a:rPr>
              <a:t>ALOP: 30 DAYS FOR FIRST YEAR + 1 DAY FOR EACH ERECTION MONTH IN ADDITION TO 12 MONTHS NOT EXCEEDING 60 DAYS</a:t>
            </a:r>
            <a:endParaRPr b="0" lang="en-US" sz="2000" spc="-1" strike="noStrike">
              <a:solidFill>
                <a:srgbClr val="000000"/>
              </a:solidFill>
              <a:latin typeface="Times New Roman"/>
            </a:endParaRPr>
          </a:p>
          <a:p>
            <a:pPr marL="339480" indent="-339480">
              <a:lnSpc>
                <a:spcPct val="100000"/>
              </a:lnSpc>
              <a:spcBef>
                <a:spcPts val="499"/>
              </a:spcBef>
              <a:buClr>
                <a:srgbClr val="2d2d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WET RISK: SPECILISED RISK (ALL WORKS IN WATER, DAMS, CANALS, HYDRO POWER PROJECTS, TUNNELS, IRRIGATION SYSTEM, CAVERNS) 15 TIMES OF TAC TARIFF (1.5 L X 15, 5L X 15).</a:t>
            </a:r>
            <a:endParaRPr b="0" lang="en-US" sz="2000" spc="-1" strike="noStrike">
              <a:solidFill>
                <a:srgbClr val="000000"/>
              </a:solidFill>
              <a:latin typeface="Times New Roman"/>
            </a:endParaRPr>
          </a:p>
          <a:p>
            <a:pPr marL="339480" indent="-3394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LOP: 45 DAYS FOR FIRST YEAR + 1 DAY FOR EACH ERECTION MONTH IN ADDITION TO 12 MONTHS NOT EXCEEDING 75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Deductible Conti…</a:t>
            </a:r>
            <a:endParaRPr b="0" lang="en-US" sz="2400" spc="-1" strike="noStrike">
              <a:solidFill>
                <a:srgbClr val="000000"/>
              </a:solidFill>
              <a:latin typeface="Times New Roman"/>
            </a:endParaRPr>
          </a:p>
        </p:txBody>
      </p:sp>
      <p:sp>
        <p:nvSpPr>
          <p:cNvPr id="153" name=""/>
          <p:cNvSpPr txBox="1"/>
          <p:nvPr/>
        </p:nvSpPr>
        <p:spPr>
          <a:xfrm>
            <a:off x="0" y="685440"/>
            <a:ext cx="9144000" cy="6172200"/>
          </a:xfrm>
          <a:prstGeom prst="rect">
            <a:avLst/>
          </a:prstGeom>
          <a:noFill/>
          <a:ln w="0">
            <a:noFill/>
          </a:ln>
        </p:spPr>
        <p:txBody>
          <a:bodyPr anchor="t">
            <a:normAutofit/>
          </a:bodyPr>
          <a:p>
            <a:pPr marL="343080" indent="-343080">
              <a:lnSpc>
                <a:spcPct val="100000"/>
              </a:lnSpc>
              <a:spcBef>
                <a:spcPts val="4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Arial"/>
                <a:ea typeface="Arial"/>
              </a:rPr>
              <a:t>MACINERY BREAKDOWN</a:t>
            </a:r>
            <a:r>
              <a:rPr b="0" lang="en-US" sz="2000" spc="-1" strike="noStrike">
                <a:solidFill>
                  <a:srgbClr val="cc0099"/>
                </a:solidFill>
                <a:latin typeface="Arial"/>
                <a:ea typeface="Arial"/>
              </a:rPr>
              <a:t>: 1% OF SUM INSURED FOR EACH MACHINE SUBJECT TO MINIMUM OF Rs. 2,500/-</a:t>
            </a:r>
            <a:endParaRPr b="0" lang="en-US" sz="2000" spc="-1" strike="noStrike">
              <a:solidFill>
                <a:srgbClr val="000000"/>
              </a:solidFill>
              <a:latin typeface="Times New Roman"/>
            </a:endParaRPr>
          </a:p>
          <a:p>
            <a:pPr marL="343080" indent="-343080">
              <a:lnSpc>
                <a:spcPct val="100000"/>
              </a:lnSpc>
              <a:spcBef>
                <a:spcPts val="4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Arial"/>
                <a:ea typeface="Arial"/>
              </a:rPr>
              <a:t>MLOP: 14 DAYS OF STANDARD GP</a:t>
            </a:r>
            <a:endParaRPr b="0" lang="en-US" sz="2000" spc="-1" strike="noStrike">
              <a:solidFill>
                <a:srgbClr val="000000"/>
              </a:solidFill>
              <a:latin typeface="Times New Roman"/>
            </a:endParaRPr>
          </a:p>
          <a:p>
            <a:pPr marL="343080" indent="-34308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CPM: </a:t>
            </a:r>
            <a:r>
              <a:rPr b="0" lang="en-US" sz="2000" spc="-1" strike="noStrike">
                <a:solidFill>
                  <a:srgbClr val="3333cc"/>
                </a:solidFill>
                <a:latin typeface="Arial"/>
                <a:ea typeface="Arial"/>
              </a:rPr>
              <a:t>GROUP I,II,III,IV INCL CRANES ABOVE 10 T UNDER GROUP III. INDIVIDUAL VALUE FROM 1 LACS AND  OVER RS 10 LACS UP TO RS 25 LACS NO CHANGE (OTHERTHAN AOG AND AOG)</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BET 25 LACS AND 50 LACS . AOG  IS 1% OF SI SUBJECT TO MIN OF Rs.50,000/- (EARLIER Rs 2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INDIVIDUAL VALUE ABOVE 50 LACS . AOG &amp;NON AOG IS 1% OF SI SUBJECT TO MIN OF Rs.50,000/- (EARLIER Rs 35,000/- FLAT)</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OM SECTION: 20% OF CLAIM AMOUNT SUB MIN OF Rs 25,000/-</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FOR GROUP V : Rs. 25,000/- FLAT.</a:t>
            </a: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ELECTRONIC INSURANCE </a:t>
            </a:r>
            <a:r>
              <a:rPr b="0" lang="en-US" sz="2000" spc="-1" strike="noStrike">
                <a:solidFill>
                  <a:srgbClr val="009900"/>
                </a:solidFill>
                <a:latin typeface="Arial"/>
                <a:ea typeface="Arial"/>
              </a:rPr>
              <a:t>: AS PER TAC TARIFF</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BOILER INSURANCE</a:t>
            </a:r>
            <a:r>
              <a:rPr b="0" lang="en-US" sz="2000" spc="-1" strike="noStrike">
                <a:solidFill>
                  <a:srgbClr val="d60093"/>
                </a:solidFill>
                <a:latin typeface="Arial"/>
                <a:ea typeface="Arial"/>
              </a:rPr>
              <a:t>: 5% OF CLAIM AMOUNT SUB TO Rs.1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Rulings for rating</a:t>
            </a:r>
            <a:endParaRPr b="0" lang="en-US" sz="2800" spc="-1" strike="noStrike">
              <a:solidFill>
                <a:srgbClr val="000000"/>
              </a:solidFill>
              <a:latin typeface="Times New Roman"/>
            </a:endParaRPr>
          </a:p>
        </p:txBody>
      </p:sp>
      <p:sp>
        <p:nvSpPr>
          <p:cNvPr id="155" name=""/>
          <p:cNvSpPr txBox="1"/>
          <p:nvPr/>
        </p:nvSpPr>
        <p:spPr>
          <a:xfrm>
            <a:off x="151920" y="304560"/>
            <a:ext cx="8991720" cy="655308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tion III: SIMPLE RISK</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uilding and contents are pe-rs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tocks stored in open area belong to insured is held cover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cidental operations, such as grinding of lenses, varnishing in furniture shops, occasional repairs etc are permitted</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Seasonal storage of crackers loading of 10% on the applicable contents rate</a:t>
            </a:r>
            <a:endParaRPr b="0" lang="en-US" sz="2400" spc="-1" strike="noStrike">
              <a:solidFill>
                <a:srgbClr val="000000"/>
              </a:solidFill>
              <a:latin typeface="Times New Roman"/>
            </a:endParaRPr>
          </a:p>
          <a:p>
            <a:pPr marL="329040" indent="-329040">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sence of hazardous goods up to 5% of total stock value allowed.</a:t>
            </a:r>
            <a:endParaRPr b="0" lang="en-US" sz="2400" spc="-1" strike="noStrike">
              <a:solidFill>
                <a:srgbClr val="000000"/>
              </a:solidFill>
              <a:latin typeface="Times New Roman"/>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Times New Roman"/>
              </a:rPr>
              <a:t>Section IV. INDUSTRIAL MANUFACTURING RISK</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ate provided in this section applicable for entire insured property.</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more than one product is manufactured in the same block highest rate applicable shall be charged overall.</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two are more factories are located in the same compound in detached blocks, the rates are per se. For Common utilities highest rate of manufacturing block will be charged. </a:t>
            </a:r>
            <a:endParaRPr b="0" lang="en-US" sz="2400" spc="-1" strike="noStrike">
              <a:solidFill>
                <a:srgbClr val="000000"/>
              </a:solidFill>
              <a:latin typeface="Times New Roman"/>
            </a:endParaRPr>
          </a:p>
          <a:p>
            <a:pPr marL="329040" indent="-329040">
              <a:spcBef>
                <a:spcPts val="601"/>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wellings inside factory premises are  rated per-se under Graha Raksha.</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0" y="-360"/>
            <a:ext cx="9144000" cy="6629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 STAND ALONE UTILITY SERVIC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ction VI: GODOWNS AND WAREHOUS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Operations such as packing, sorting, mending, stitching, battery charging which do not materially altered will be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Presence of higher category is allowed upto 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Utilites and miscellaneous blocks shall be rated Re. 1.00%o.</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 Incidental open storage up to 2% allow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tion VII. TANK FOARMS AND GAS HOLDERS</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ll tanks located in the same dyke shall carry highest rate.</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 </a:t>
            </a:r>
            <a:r>
              <a:rPr b="0" lang="en-US" sz="2400" spc="-1" strike="noStrike">
                <a:solidFill>
                  <a:srgbClr val="009900"/>
                </a:solidFill>
                <a:latin typeface="Times New Roman"/>
              </a:rPr>
              <a:t>Utilities and miscellaneous blocks shall be rated Re. 1.00%o</a:t>
            </a:r>
            <a:endParaRPr b="0" lang="en-US" sz="2400" spc="-1" strike="noStrike">
              <a:solidFill>
                <a:srgbClr val="000000"/>
              </a:solidFill>
              <a:latin typeface="Times New Roman"/>
            </a:endParaRPr>
          </a:p>
          <a:p>
            <a:pPr marL="343080" indent="-343080">
              <a:spcBef>
                <a:spcPts val="601"/>
              </a:spcBef>
              <a:buClr>
                <a:srgbClr val="00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Associated properties such as Pumping stations, Compressor house, Blower house are rate applicable to respective gas holder/bullets/sphere vessels/Tanks.</a:t>
            </a:r>
            <a:endParaRPr b="0" lang="en-US" sz="2400" spc="-1" strike="noStrike">
              <a:solidFill>
                <a:srgbClr val="000000"/>
              </a:solidFill>
              <a:latin typeface="Times New Roman"/>
            </a:endParaRPr>
          </a:p>
          <a:p>
            <a:pPr marL="343080" indent="-34308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ea typeface="Arial"/>
              </a:rPr>
              <a:t>SUM INSURED</a:t>
            </a:r>
            <a:endParaRPr b="0" lang="en-US" sz="3600" spc="-1" strike="noStrike">
              <a:solidFill>
                <a:srgbClr val="000000"/>
              </a:solidFill>
              <a:latin typeface="Times New Roman"/>
            </a:endParaRPr>
          </a:p>
        </p:txBody>
      </p:sp>
      <p:sp>
        <p:nvSpPr>
          <p:cNvPr id="158" name=""/>
          <p:cNvSpPr txBox="1"/>
          <p:nvPr/>
        </p:nvSpPr>
        <p:spPr>
          <a:xfrm>
            <a:off x="533520" y="914040"/>
            <a:ext cx="7772400" cy="5715000"/>
          </a:xfrm>
          <a:prstGeom prst="rect">
            <a:avLst/>
          </a:prstGeom>
          <a:noFill/>
          <a:ln w="0">
            <a:noFill/>
          </a:ln>
        </p:spPr>
        <p:txBody>
          <a:bodyPr anchor="t">
            <a:normAutofit/>
          </a:bodyPr>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ALWAYS TO BE FIXED BY THE INSUR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MAXIMUM LIMIT OF LIABILITY UNDER THE POLICY</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ea typeface="Arial"/>
              </a:rPr>
              <a:t>IS THE AMOUNT ON WHICH THE RATE IS APPLIED TO ARRIVE AT THE PREMIUM.</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ea typeface="Arial"/>
              </a:rPr>
              <a:t>THE SUM INSURED SHOULD REPRESENT THE ACTUAL VALUE OF THE PROPERTY INSURED. IF IT IS OVER INSURED  THERE IS NO BENEFIT TO THE INSURED; IF THERE IS UNDER INSURED THE CLAIM AMOUNT WILL BE PROPORTIONATELY  REDUCED BY APPLTING PRO RATA AVERAG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76320">
            <a:solidFill>
              <a:srgbClr val="0000ff"/>
            </a:solidFill>
            <a:miter/>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100"/>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Bookman Old Style"/>
              </a:rPr>
              <a:t>INDEMNITY POLIC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cc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cc00"/>
                </a:solidFill>
                <a:latin typeface="Bookman Old Style"/>
              </a:rPr>
              <a:t>REINSTATEMENT VALUE POLIC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FIRE POLICY </a:t>
            </a:r>
            <a:br>
              <a:rPr sz="4400"/>
            </a:br>
            <a:r>
              <a:rPr b="1" lang="en-US" sz="4400" spc="-1" strike="noStrike">
                <a:solidFill>
                  <a:srgbClr val="ff0000"/>
                </a:solidFill>
                <a:latin typeface="Bookman Old Style"/>
              </a:rPr>
              <a:t>(SI ABOVE Rs 50 Crs)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SIMPLE RISK</a:t>
            </a:r>
            <a:endParaRPr b="0" lang="en-US" sz="3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OFFICE, HOSPITALS, HOTELS, SHOPS, CALL CENTERS</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lvl="2" marL="9144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INDUSTRIAL RISK</a:t>
            </a:r>
            <a:endParaRPr b="0" lang="en-US" sz="3200" spc="-1" strike="noStrike">
              <a:solidFill>
                <a:srgbClr val="000000"/>
              </a:solidFill>
              <a:latin typeface="Times New Roman"/>
            </a:endParaRPr>
          </a:p>
          <a:p>
            <a:pPr lvl="2" marL="914400">
              <a:lnSpc>
                <a:spcPct val="100000"/>
              </a:lnSpc>
              <a:spcBef>
                <a:spcPts val="601"/>
              </a:spcBef>
              <a:buClr>
                <a:srgbClr val="9900cc"/>
              </a:buClr>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MANUFACTURING FACILITIES, GODOWNS,  TANKFARMS,UTILITY SER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Object 2048"/>
          <p:cNvGraphicFramePr/>
          <p:nvPr/>
        </p:nvGraphicFramePr>
        <p:xfrm>
          <a:off x="690480" y="247680"/>
          <a:ext cx="7666200" cy="9104400"/>
        </p:xfrm>
        <a:graphic>
          <a:graphicData uri="http://schemas.openxmlformats.org/presentationml/2006/ole">
            <p:oleObj progId="Word.Document.12" r:id="rId1" spid="">
              <p:embed/>
              <p:pic>
                <p:nvPicPr>
                  <p:cNvPr id="164" name="Object 2048" descr=""/>
                  <p:cNvPicPr/>
                  <p:nvPr/>
                </p:nvPicPr>
                <p:blipFill>
                  <a:blip r:embed="rId2"/>
                  <a:stretch/>
                </p:blipFill>
                <p:spPr>
                  <a:xfrm>
                    <a:off x="690480" y="247680"/>
                    <a:ext cx="7666200" cy="9104400"/>
                  </a:xfrm>
                  <a:prstGeom prst="rect">
                    <a:avLst/>
                  </a:prstGeom>
                  <a:ln w="57240">
                    <a:solidFill>
                      <a:srgbClr val="ff0000"/>
                    </a:solidFill>
                    <a:miter/>
                  </a:ln>
                </p:spPr>
              </p:pic>
            </p:oleObj>
          </a:graphicData>
        </a:graphic>
      </p:graphicFrame>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2048"/>
          <p:cNvGraphicFramePr/>
          <p:nvPr/>
        </p:nvGraphicFramePr>
        <p:xfrm>
          <a:off x="673200" y="681120"/>
          <a:ext cx="7737480" cy="5781600"/>
        </p:xfrm>
        <a:graphic>
          <a:graphicData uri="http://schemas.openxmlformats.org/presentationml/2006/ole">
            <p:oleObj progId="Word.Document.12" r:id="rId1" spid="">
              <p:embed/>
              <p:pic>
                <p:nvPicPr>
                  <p:cNvPr id="166" name="Object 2048" descr=""/>
                  <p:cNvPicPr/>
                  <p:nvPr/>
                </p:nvPicPr>
                <p:blipFill>
                  <a:blip r:embed="rId2"/>
                  <a:stretch/>
                </p:blipFill>
                <p:spPr>
                  <a:xfrm>
                    <a:off x="673200" y="681120"/>
                    <a:ext cx="7737480" cy="5781600"/>
                  </a:xfrm>
                  <a:prstGeom prst="rect">
                    <a:avLst/>
                  </a:prstGeom>
                  <a:ln w="9360">
                    <a:solidFill>
                      <a:srgbClr val="ff0000"/>
                    </a:solidFill>
                    <a:miter/>
                  </a:ln>
                </p:spPr>
              </p:pic>
            </p:oleObj>
          </a:graphicData>
        </a:graphic>
      </p:graphicFrame>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2048"/>
          <p:cNvGraphicFramePr/>
          <p:nvPr/>
        </p:nvGraphicFramePr>
        <p:xfrm>
          <a:off x="533520" y="1295280"/>
          <a:ext cx="7732440" cy="4875480"/>
        </p:xfrm>
        <a:graphic>
          <a:graphicData uri="http://schemas.openxmlformats.org/presentationml/2006/ole">
            <p:oleObj progId="Word.Document.12" r:id="rId1" spid="">
              <p:embed/>
              <p:pic>
                <p:nvPicPr>
                  <p:cNvPr id="168" name="Object 2048" descr=""/>
                  <p:cNvPicPr/>
                  <p:nvPr/>
                </p:nvPicPr>
                <p:blipFill>
                  <a:blip r:embed="rId2"/>
                  <a:stretch/>
                </p:blipFill>
                <p:spPr>
                  <a:xfrm>
                    <a:off x="533520" y="1295280"/>
                    <a:ext cx="7732440" cy="4875480"/>
                  </a:xfrm>
                  <a:prstGeom prst="rect">
                    <a:avLst/>
                  </a:prstGeom>
                  <a:ln w="9360">
                    <a:solidFill>
                      <a:srgbClr val="ff0000"/>
                    </a:solidFill>
                    <a:miter/>
                  </a:ln>
                </p:spPr>
              </p:pic>
            </p:oleObj>
          </a:graphicData>
        </a:graphic>
      </p:graphicFrame>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PROPERTIES INSURED UNDER FIRE INSURANCE</a:t>
            </a:r>
            <a:endParaRPr b="0" lang="en-US" sz="3200" spc="-1" strike="noStrike">
              <a:solidFill>
                <a:srgbClr val="000000"/>
              </a:solidFill>
              <a:latin typeface="Times New Roman"/>
            </a:endParaRPr>
          </a:p>
        </p:txBody>
      </p:sp>
      <p:sp>
        <p:nvSpPr>
          <p:cNvPr id="55" name="PlaceHolder 2"/>
          <p:cNvSpPr>
            <a:spLocks noGrp="1"/>
          </p:cNvSpPr>
          <p:nvPr>
            <p:ph type="subTitle"/>
          </p:nvPr>
        </p:nvSpPr>
        <p:spPr>
          <a:xfrm>
            <a:off x="304920" y="1371240"/>
            <a:ext cx="8610480" cy="5257800"/>
          </a:xfrm>
          <a:prstGeom prst="rect">
            <a:avLst/>
          </a:prstGeom>
          <a:noFill/>
          <a:ln w="76320">
            <a:solidFill>
              <a:srgbClr val="0000ff"/>
            </a:solidFill>
            <a:miter/>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FIXED ASSE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cc00ff"/>
                </a:solidFill>
                <a:latin typeface="Bookman Old Style"/>
              </a:rPr>
              <a:t>BUILD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FURNITURE FIXTURE &amp;FITTING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Bookman Old Style"/>
              </a:rPr>
              <a:t>	</a:t>
            </a:r>
            <a:r>
              <a:rPr b="1" lang="en-US" sz="2800" spc="-1" strike="noStrike">
                <a:solidFill>
                  <a:srgbClr val="cc00ff"/>
                </a:solidFill>
                <a:latin typeface="Bookman Old Style"/>
              </a:rPr>
              <a:t>	</a:t>
            </a:r>
            <a:r>
              <a:rPr b="1" lang="en-US" sz="2800" spc="-1" strike="noStrike">
                <a:solidFill>
                  <a:srgbClr val="cc00ff"/>
                </a:solidFill>
                <a:latin typeface="Bookman Old Style"/>
              </a:rPr>
              <a:t>PLANT &amp; MACHINER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STOCK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9900"/>
                </a:solidFill>
                <a:latin typeface="Bookman Old Style"/>
              </a:rPr>
              <a:t>RAW MATERIAL</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WORK IN PROGRES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FINISHED GOOD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	</a:t>
            </a:r>
            <a:r>
              <a:rPr b="1" lang="en-US" sz="2800" spc="-1" strike="noStrike">
                <a:solidFill>
                  <a:srgbClr val="ff9900"/>
                </a:solidFill>
                <a:latin typeface="Bookman Old Style"/>
              </a:rPr>
              <a:t>	</a:t>
            </a:r>
            <a:r>
              <a:rPr b="1" lang="en-US" sz="2800" spc="-1" strike="noStrike">
                <a:solidFill>
                  <a:srgbClr val="ff9900"/>
                </a:solidFill>
                <a:latin typeface="Bookman Old Style"/>
              </a:rPr>
              <a:t>PACKING MATERIAL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	</a:t>
            </a:r>
            <a:r>
              <a:rPr b="0" lang="en-US" sz="2800" spc="-1" strike="noStrike">
                <a:solidFill>
                  <a:srgbClr val="ff9900"/>
                </a:solidFill>
                <a:latin typeface="Times New Roman"/>
              </a:rPr>
              <a:t>	</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REINSTATEMENT VALUE POLICY</a:t>
            </a:r>
            <a:endParaRPr b="0" lang="en-US" sz="3200" spc="-1" strike="noStrike">
              <a:solidFill>
                <a:srgbClr val="000000"/>
              </a:solidFill>
              <a:latin typeface="Times New Roman"/>
            </a:endParaRPr>
          </a:p>
        </p:txBody>
      </p:sp>
      <p:sp>
        <p:nvSpPr>
          <p:cNvPr id="170" name="PlaceHolder 2"/>
          <p:cNvSpPr>
            <a:spLocks noGrp="1"/>
          </p:cNvSpPr>
          <p:nvPr>
            <p:ph type="subTitle"/>
          </p:nvPr>
        </p:nvSpPr>
        <p:spPr>
          <a:xfrm>
            <a:off x="228600" y="838080"/>
            <a:ext cx="8686800" cy="601992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ONLY FOR BLDG, P&amp;M, FFF NOT FOR STOCK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IT PAYS NEW FOR OL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COMMENCEMENT OF REINSTAMENT HAS TO BE INTIMATED TO THE INSURER WITH IN 6 MONTH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REINSTATEMENT OF THE DAMAGED PROPERTY SHOULD COMPLETE WITHIN 12 MONTHS FROM THE DATE OF LOSS</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REINSTATEMENT SHOULD BE ON SAME KIND/ TYPE BUT NOT SUPERIOR THAN THE ORIGINAL INSURED PROPER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REINSTATEMENT AT THE  SAME OR ANOTHER PLACE  IS ALLOWED</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LAIMS PAYABLE FULL &amp;  FINAL ONLY AFTER COMPLETION OF REPAIR/REINSTATEMENT</a:t>
            </a:r>
            <a:r>
              <a:rPr b="1" lang="en-US" sz="2400" spc="-1" strike="noStrike">
                <a:solidFill>
                  <a:srgbClr val="0099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FLOATER POLICY</a:t>
            </a:r>
            <a:endParaRPr b="0" lang="en-US" sz="3200" spc="-1" strike="noStrike">
              <a:solidFill>
                <a:srgbClr val="000000"/>
              </a:solidFill>
              <a:latin typeface="Times New Roman"/>
            </a:endParaRPr>
          </a:p>
        </p:txBody>
      </p:sp>
      <p:sp>
        <p:nvSpPr>
          <p:cNvPr id="172" name="PlaceHolder 2"/>
          <p:cNvSpPr>
            <a:spLocks noGrp="1"/>
          </p:cNvSpPr>
          <p:nvPr>
            <p:ph type="subTitle"/>
          </p:nvPr>
        </p:nvSpPr>
        <p:spPr>
          <a:xfrm>
            <a:off x="456840" y="1066680"/>
            <a:ext cx="8001000" cy="5181840"/>
          </a:xfrm>
          <a:prstGeom prst="rect">
            <a:avLst/>
          </a:prstGeom>
          <a:noFill/>
          <a:ln w="7632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ISSUED FOR STOCKS AT VARIOUS LOCATION UNDER ONE SUM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Bookman Old Style"/>
              </a:rPr>
              <a:t>RULINGS</a:t>
            </a:r>
            <a:r>
              <a:rPr b="1" lang="en-US" sz="2400" spc="-1" strike="noStrike">
                <a:solidFill>
                  <a:srgbClr val="cc00ff"/>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UNSPECIFIED LOCATIONS ARE NOT ALLOWED</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HIGHEST RATE PLUS FLOATER EXTRA OF 10%</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RESENCE OF KUTCHA CONST MAY BE              IGNORED</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IP in process block can be included  </a:t>
            </a:r>
            <a:r>
              <a:rPr b="1" lang="en-US" sz="2400" spc="-1" strike="noStrike">
                <a:solidFill>
                  <a:srgbClr val="000000"/>
                </a:solidFill>
                <a:latin typeface="Bookman Old Style"/>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DECLARATION POLICY</a:t>
            </a:r>
            <a:endParaRPr b="0" lang="en-US" sz="3200" spc="-1" strike="noStrike">
              <a:solidFill>
                <a:srgbClr val="000000"/>
              </a:solidFill>
              <a:latin typeface="Times New Roman"/>
            </a:endParaRPr>
          </a:p>
        </p:txBody>
      </p:sp>
      <p:sp>
        <p:nvSpPr>
          <p:cNvPr id="174" name="PlaceHolder 2"/>
          <p:cNvSpPr>
            <a:spLocks noGrp="1"/>
          </p:cNvSpPr>
          <p:nvPr>
            <p:ph type="subTitle"/>
          </p:nvPr>
        </p:nvSpPr>
        <p:spPr>
          <a:xfrm>
            <a:off x="457200" y="1371600"/>
            <a:ext cx="8153280" cy="3276720"/>
          </a:xfrm>
          <a:prstGeom prst="rect">
            <a:avLst/>
          </a:prstGeom>
          <a:noFill/>
          <a:ln w="76320">
            <a:solidFill>
              <a:srgbClr val="0099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Bookman Old Style"/>
              </a:rPr>
              <a:t>ISSUED FOR THE STOCKS WHERE THERE IS FREQUENT FLUCTUATIONS IN QUANDITY/ VALUE OF SUCH STOC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99"/>
                </a:solidFill>
                <a:latin typeface="Bookman Old Style"/>
              </a:rPr>
              <a:t>DECLARATION POLICY CONDITIONS</a:t>
            </a:r>
            <a:endParaRPr b="0" lang="en-US" sz="3200" spc="-1" strike="noStrike">
              <a:solidFill>
                <a:srgbClr val="000000"/>
              </a:solidFill>
              <a:latin typeface="Times New Roman"/>
            </a:endParaRPr>
          </a:p>
        </p:txBody>
      </p:sp>
      <p:sp>
        <p:nvSpPr>
          <p:cNvPr id="176" name="PlaceHolder 2"/>
          <p:cNvSpPr>
            <a:spLocks noGrp="1"/>
          </p:cNvSpPr>
          <p:nvPr>
            <p:ph/>
          </p:nvPr>
        </p:nvSpPr>
        <p:spPr>
          <a:xfrm>
            <a:off x="380520" y="1066320"/>
            <a:ext cx="8534520" cy="5410440"/>
          </a:xfrm>
          <a:prstGeom prst="rect">
            <a:avLst/>
          </a:prstGeom>
          <a:noFill/>
          <a:ln w="76320">
            <a:solidFill>
              <a:srgbClr val="3333cc"/>
            </a:solidFill>
            <a:miter/>
          </a:ln>
        </p:spPr>
        <p:txBody>
          <a:bodyPr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he minimum Sum Insured shall be </a:t>
            </a:r>
            <a:r>
              <a:rPr b="1" lang="en-US" sz="2400" spc="-1" strike="noStrike">
                <a:solidFill>
                  <a:srgbClr val="ff0000"/>
                </a:solidFill>
                <a:latin typeface="Bookman Old Style"/>
              </a:rPr>
              <a:t>Rs.1 Crore</a:t>
            </a:r>
            <a:r>
              <a:rPr b="1" lang="en-US" sz="2400" spc="-1" strike="noStrike">
                <a:solidFill>
                  <a:srgbClr val="3333cc"/>
                </a:solidFill>
                <a:latin typeface="Bookman Old Style"/>
              </a:rPr>
              <a:t> in one or more  location and the SI shall not be less than </a:t>
            </a:r>
            <a:r>
              <a:rPr b="1" lang="en-US" sz="2400" spc="-1" strike="noStrike">
                <a:solidFill>
                  <a:srgbClr val="ff0000"/>
                </a:solidFill>
                <a:latin typeface="Bookman Old Style"/>
              </a:rPr>
              <a:t>Rs.25 lacs</a:t>
            </a:r>
            <a:r>
              <a:rPr b="1" lang="en-US" sz="2400" spc="-1" strike="noStrike">
                <a:solidFill>
                  <a:srgbClr val="3333cc"/>
                </a:solidFill>
                <a:latin typeface="Bookman Old Style"/>
              </a:rPr>
              <a:t> in at least one of these locations.</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Monthly declarations based on </a:t>
            </a:r>
            <a:r>
              <a:rPr b="1" i="1" lang="en-US" sz="2400" spc="-1" strike="noStrike">
                <a:solidFill>
                  <a:srgbClr val="3333cc"/>
                </a:solidFill>
                <a:latin typeface="Bookman Old Style"/>
              </a:rPr>
              <a:t>the average of the values at risk on each day</a:t>
            </a:r>
            <a:r>
              <a:rPr b="1" lang="en-US" sz="2400" spc="-1" strike="noStrike">
                <a:solidFill>
                  <a:srgbClr val="3333cc"/>
                </a:solidFill>
                <a:latin typeface="Bookman Old Style"/>
              </a:rPr>
              <a:t> of </a:t>
            </a:r>
            <a:r>
              <a:rPr b="1" i="1" lang="en-US" sz="2400" spc="-1" strike="noStrike">
                <a:solidFill>
                  <a:srgbClr val="3333cc"/>
                </a:solidFill>
                <a:latin typeface="Bookman Old Style"/>
              </a:rPr>
              <a:t>the month</a:t>
            </a:r>
            <a:r>
              <a:rPr b="1" lang="en-US" sz="2400" spc="-1" strike="noStrike">
                <a:solidFill>
                  <a:srgbClr val="3333cc"/>
                </a:solidFill>
                <a:latin typeface="Bookman Old Style"/>
              </a:rPr>
              <a:t> or the </a:t>
            </a:r>
            <a:r>
              <a:rPr b="1" i="1" lang="en-US" sz="2400" spc="-1" strike="noStrike">
                <a:solidFill>
                  <a:srgbClr val="3333cc"/>
                </a:solidFill>
                <a:latin typeface="Bookman Old Style"/>
              </a:rPr>
              <a:t>highest value at risk during the month</a:t>
            </a:r>
            <a:r>
              <a:rPr b="1" lang="en-US" sz="2400" spc="-1" strike="noStrike">
                <a:solidFill>
                  <a:srgbClr val="3333cc"/>
                </a:solidFill>
                <a:latin typeface="Bookman Old Style"/>
              </a:rPr>
              <a:t> shall be submitted by the insured latest by the last day of the succeeding month. If declarations are not received within the specified period, the full sum insured under the policy shall be deemed to have been declared.</a:t>
            </a:r>
            <a:endParaRPr b="0" lang="en-US" sz="24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cc"/>
                </a:solidFill>
                <a:latin typeface="Bookman Old Style"/>
              </a:rPr>
              <a:t>DECLARATION POLICY CONDITIONS</a:t>
            </a:r>
            <a:endParaRPr b="0" lang="en-US" sz="3200" spc="-1" strike="noStrike">
              <a:solidFill>
                <a:srgbClr val="000000"/>
              </a:solidFill>
              <a:latin typeface="Times New Roman"/>
            </a:endParaRPr>
          </a:p>
        </p:txBody>
      </p:sp>
      <p:sp>
        <p:nvSpPr>
          <p:cNvPr id="178" name="PlaceHolder 2"/>
          <p:cNvSpPr>
            <a:spLocks noGrp="1"/>
          </p:cNvSpPr>
          <p:nvPr>
            <p:ph/>
          </p:nvPr>
        </p:nvSpPr>
        <p:spPr>
          <a:xfrm>
            <a:off x="228600" y="990720"/>
            <a:ext cx="8610480" cy="586728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duction in sum insured shall not be allowed under any circumstance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Refund of premium on adjustment based on the declarations / cancellations shall not exceed 50% of the total premium.</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nly on annual policy.</a:t>
            </a:r>
            <a:endParaRPr b="0" lang="en-US" sz="2400" spc="-1" strike="noStrike">
              <a:solidFill>
                <a:srgbClr val="000000"/>
              </a:solidFill>
              <a:latin typeface="Times New Roman"/>
            </a:endParaRPr>
          </a:p>
          <a:p>
            <a:pPr marL="343080" indent="-343080" algn="just">
              <a:lnSpc>
                <a:spcPct val="100000"/>
              </a:lnSpc>
              <a:spcBef>
                <a:spcPts val="601"/>
              </a:spcBef>
              <a:buClr>
                <a:srgbClr val="99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Bookman Old Style"/>
              </a:rPr>
              <a:t>The basis of value for declaration shall be the Market Value EXCLUDING PROFIT.</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t is not permissible to issue Declaration Policy in respect of</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Insurance required for a short period.</a:t>
            </a:r>
            <a:endParaRPr b="0" lang="en-US" sz="2400" spc="-1" strike="noStrike">
              <a:solidFill>
                <a:srgbClr val="000000"/>
              </a:solidFill>
              <a:latin typeface="Times New Roman"/>
            </a:endParaRPr>
          </a:p>
          <a:p>
            <a:pPr lvl="1" marL="743040" indent="-285840" algn="just">
              <a:lnSpc>
                <a:spcPct val="100000"/>
              </a:lnSpc>
              <a:spcBef>
                <a:spcPts val="601"/>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undergoing process</a:t>
            </a:r>
            <a:endParaRPr b="0" lang="en-US" sz="2400" spc="-1" strike="noStrike">
              <a:solidFill>
                <a:srgbClr val="000000"/>
              </a:solidFill>
              <a:latin typeface="Times New Roman"/>
            </a:endParaRPr>
          </a:p>
          <a:p>
            <a:pPr lvl="1" marL="743040" indent="-285840" algn="just">
              <a:lnSpc>
                <a:spcPct val="100000"/>
              </a:lnSpc>
              <a:spcBef>
                <a:spcPts val="499"/>
              </a:spcBef>
              <a:buClr>
                <a:srgbClr val="99cc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Bookman Old Style"/>
              </a:rPr>
              <a:t>Stocks at Railway sidings</a:t>
            </a:r>
            <a:r>
              <a:rPr b="0" i="1"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Under declaration will cause reduction in claim payable</a:t>
            </a: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Bookman Old Style"/>
              </a:rPr>
              <a:t>FLOATER DECLARATION POLICY</a:t>
            </a:r>
            <a:endParaRPr b="0" lang="en-US" sz="2800" spc="-1" strike="noStrike">
              <a:solidFill>
                <a:srgbClr val="000000"/>
              </a:solidFill>
              <a:latin typeface="Times New Roman"/>
            </a:endParaRPr>
          </a:p>
        </p:txBody>
      </p:sp>
      <p:sp>
        <p:nvSpPr>
          <p:cNvPr id="180" name="PlaceHolder 2"/>
          <p:cNvSpPr>
            <a:spLocks noGrp="1"/>
          </p:cNvSpPr>
          <p:nvPr>
            <p:ph type="subTitle"/>
          </p:nvPr>
        </p:nvSpPr>
        <p:spPr>
          <a:xfrm>
            <a:off x="304560" y="609120"/>
            <a:ext cx="8458200" cy="5867640"/>
          </a:xfrm>
          <a:prstGeom prst="rect">
            <a:avLst/>
          </a:prstGeom>
          <a:noFill/>
          <a:ln w="76320">
            <a:solidFill>
              <a:srgbClr val="ff0000"/>
            </a:solidFill>
            <a:miter/>
          </a:ln>
        </p:spPr>
        <p:txBody>
          <a:bodyPr anchor="t">
            <a:noAutofit/>
          </a:bodyPr>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ssued for stocks at various locations               under one sum insured anywhere in India with specified locations.</a:t>
            </a:r>
            <a:endParaRPr b="0" lang="en-US" sz="2800" spc="-1" strike="noStrike">
              <a:solidFill>
                <a:srgbClr val="000000"/>
              </a:solidFill>
              <a:latin typeface="Times New Roman"/>
            </a:endParaRPr>
          </a:p>
          <a:p>
            <a:pPr algn="just">
              <a:lnSpc>
                <a:spcPct val="100000"/>
              </a:lnSpc>
              <a:spcBef>
                <a:spcPts val="700"/>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Bookman Old Style"/>
              </a:rPr>
              <a:t>Minimum S.I. Of Rs. 2 crores under the policy.</a:t>
            </a:r>
            <a:endParaRPr b="0" lang="en-US" sz="2800" spc="-1" strike="noStrike">
              <a:solidFill>
                <a:srgbClr val="000000"/>
              </a:solidFill>
              <a:latin typeface="Times New Roman"/>
            </a:endParaRPr>
          </a:p>
          <a:p>
            <a:pPr algn="just">
              <a:lnSpc>
                <a:spcPct val="100000"/>
              </a:lnSpc>
              <a:spcBef>
                <a:spcPts val="700"/>
              </a:spcBef>
              <a:buClr>
                <a:srgbClr val="0000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man Old Style"/>
              </a:rPr>
              <a:t>Minimum retention shall be 80% of the Annual Premium.</a:t>
            </a:r>
            <a:endParaRPr b="0" lang="en-US" sz="2800" spc="-1" strike="noStrike">
              <a:solidFill>
                <a:srgbClr val="000000"/>
              </a:solidFill>
              <a:latin typeface="Times New Roman"/>
            </a:endParaRPr>
          </a:p>
          <a:p>
            <a:pPr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The rate shall be highest rate applicable to insured’s stocks at any locations with the loading of 10%.</a:t>
            </a:r>
            <a:endParaRPr b="0" lang="en-US" sz="2800" spc="-1" strike="noStrike">
              <a:solidFill>
                <a:srgbClr val="000000"/>
              </a:solidFill>
              <a:latin typeface="Times New Roman"/>
            </a:endParaRPr>
          </a:p>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16cf8"/>
                </a:solidFill>
                <a:latin typeface="Bookman Old Style"/>
              </a:rPr>
              <a:t>ADD-ON COVERS</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609480"/>
            <a:ext cx="7772400" cy="6019920"/>
          </a:xfrm>
          <a:prstGeom prst="rect">
            <a:avLst/>
          </a:prstGeom>
          <a:noFill/>
          <a:ln w="57240">
            <a:solidFill>
              <a:srgbClr val="ff00ff"/>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00"/>
                </a:solidFill>
                <a:latin typeface="Bookman Old Style"/>
              </a:rPr>
              <a:t>Standard Fire and Special Peril Policy can be extended to include the following covers.</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rchitects, Surveyors and Consulting Engineer’s Fees (in excess of 3%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bris Removal (in excess of 1% claim amount)</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Deterioration of Stocks in Cold Storage premises due to power failure following damage due to an insured peril.</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Forest Fire.</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mpact Damage due to Insured’s Own Vehicles, Fork lifts and the like and articles dropped therefrom.</a:t>
            </a:r>
            <a:endParaRPr b="0" lang="en-US" sz="2400" spc="-1" strike="noStrike">
              <a:solidFill>
                <a:srgbClr val="000000"/>
              </a:solidFill>
              <a:latin typeface="Times New Roman"/>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28240"/>
            <a:ext cx="784872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Times New Roman"/>
              </a:rPr>
              <a:t>Add on cover conti..</a:t>
            </a:r>
            <a:endParaRPr b="0" lang="en-US" sz="3600" spc="-1" strike="noStrike">
              <a:solidFill>
                <a:srgbClr val="000000"/>
              </a:solidFill>
              <a:latin typeface="Times New Roman"/>
            </a:endParaRPr>
          </a:p>
        </p:txBody>
      </p:sp>
      <p:sp>
        <p:nvSpPr>
          <p:cNvPr id="184" name="PlaceHolder 2"/>
          <p:cNvSpPr>
            <a:spLocks noGrp="1"/>
          </p:cNvSpPr>
          <p:nvPr>
            <p:ph type="subTitle"/>
          </p:nvPr>
        </p:nvSpPr>
        <p:spPr>
          <a:xfrm>
            <a:off x="457200" y="914400"/>
            <a:ext cx="8305920" cy="5562720"/>
          </a:xfrm>
          <a:prstGeom prst="rect">
            <a:avLst/>
          </a:prstGeom>
          <a:noFill/>
          <a:ln w="76320">
            <a:solidFill>
              <a:srgbClr val="ff6600"/>
            </a:solidFill>
            <a:miter/>
          </a:ln>
        </p:spPr>
        <p:txBody>
          <a:bodyPr anchor="t">
            <a:noAutofit/>
          </a:bodyPr>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ntaneous Combus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Omission to insured additions, alternations or extens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Earthquake (Fire and Shock).</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poilage Material damage cover </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eakage and Contamination cover where the Tanks are with in the Insured’s own premises and located elsewher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Temporary Removal of Stocks Clause</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Loss of Rent</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Alternate accommodation</a:t>
            </a:r>
            <a:endParaRPr b="0" lang="en-US" sz="2400" spc="-1" strike="noStrike">
              <a:solidFill>
                <a:srgbClr val="000000"/>
              </a:solidFill>
              <a:latin typeface="Times New Roman"/>
            </a:endParaRPr>
          </a:p>
          <a:p>
            <a:pPr>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Start up Expens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imes New Roman"/>
              </a:rPr>
              <a:t>Spontaneous Combustion </a:t>
            </a:r>
            <a:endParaRPr b="0" lang="en-US" sz="4400" spc="-1" strike="noStrike">
              <a:solidFill>
                <a:srgbClr val="000000"/>
              </a:solidFill>
              <a:latin typeface="Times New Roman"/>
            </a:endParaRPr>
          </a:p>
        </p:txBody>
      </p:sp>
      <p:sp>
        <p:nvSpPr>
          <p:cNvPr id="186" name="PlaceHolder 2"/>
          <p:cNvSpPr>
            <a:spLocks noGrp="1"/>
          </p:cNvSpPr>
          <p:nvPr>
            <p:ph type="subTitle"/>
          </p:nvPr>
        </p:nvSpPr>
        <p:spPr>
          <a:xfrm>
            <a:off x="228240" y="685800"/>
            <a:ext cx="8915400" cy="5943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ategory I : Low or Non- existan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gasee, Black Pepper, Grains/Seeds, Molasses, Scrap leather, Spices, Sugar, Sulphur, Saw dust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ategogry II : Moderat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rPr>
              <a:t>Cotton seed oil, Copra Cake, Urea, wheat husk, soyabean oil, Maize oil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II: Variabl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oaltar, Fire wood, Gunnies or Bardan, Paints and varnish, rags, sodium Nitrate, Yellow Phosphrous, etc</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Category IV: High</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al, Fish Meal/oil, Nitro Cellulose Lacquers, Synthetic enamels, Varnished Fabrics, oiled clothing / fabrics, Sponge Iron,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6960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INDUSTRIAL ALL RISK POLICY</a:t>
            </a:r>
            <a:endParaRPr b="0" lang="en-US" sz="2800" spc="-1" strike="noStrike">
              <a:solidFill>
                <a:srgbClr val="000000"/>
              </a:solidFill>
              <a:latin typeface="Times New Roman"/>
            </a:endParaRPr>
          </a:p>
        </p:txBody>
      </p:sp>
      <p:sp>
        <p:nvSpPr>
          <p:cNvPr id="188" name="PlaceHolder 2"/>
          <p:cNvSpPr>
            <a:spLocks noGrp="1"/>
          </p:cNvSpPr>
          <p:nvPr>
            <p:ph/>
          </p:nvPr>
        </p:nvSpPr>
        <p:spPr>
          <a:xfrm>
            <a:off x="380520" y="837720"/>
            <a:ext cx="8534520" cy="5791320"/>
          </a:xfrm>
          <a:prstGeom prst="rect">
            <a:avLst/>
          </a:prstGeom>
          <a:noFill/>
          <a:ln w="76320">
            <a:solidFill>
              <a:srgbClr val="9900cc"/>
            </a:solidFill>
            <a:miter/>
          </a:ln>
        </p:spPr>
        <p:txBody>
          <a:bodyPr anchor="t">
            <a:normAutofit/>
          </a:bodyPr>
          <a:p>
            <a:pPr marL="343080" indent="-343080">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PACKAGE COVER DESIGNED FOR INDUSTRIAL RISK WHOSE SUM INSURED IS Rs. 100 CRORES AND ABOVE IN ONE OR MORE LOCATION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FIRE &amp; SPECIAL PERIL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RGLARY</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BUSINESS INTERRUPTION</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MACHINERY BREAKDOWN/BOILER EXPLOSION/ELECTRONIC EQUIPMENTS INSURANCE</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UNDER INSURANCE TO THE EXTENT OF 15% IS WAIVED.</a:t>
            </a:r>
            <a:endParaRPr b="0" lang="en-US" sz="2400" spc="-1" strike="noStrike">
              <a:solidFill>
                <a:srgbClr val="000000"/>
              </a:solidFill>
              <a:latin typeface="Times New Roman"/>
            </a:endParaRPr>
          </a:p>
          <a:p>
            <a:pPr marL="343080" indent="-343080">
              <a:lnSpc>
                <a:spcPct val="100000"/>
              </a:lnSpc>
              <a:spcBef>
                <a:spcPts val="601"/>
              </a:spcBef>
              <a:buClr>
                <a:srgbClr val="3366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NO DEPRICIATION IS DEDUCTED IN MB TOTAL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01320"/>
            <a:ext cx="792468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DE NOTIFICATION OF SFSP AND ONTRODUCTION OF 3 NEW PRODUCTS IN FIRE LOB</a:t>
            </a:r>
            <a:endParaRPr b="0" lang="en-US" sz="2000" spc="-1" strike="noStrike">
              <a:solidFill>
                <a:srgbClr val="000000"/>
              </a:solidFill>
              <a:latin typeface="Times New Roman"/>
            </a:endParaRPr>
          </a:p>
        </p:txBody>
      </p:sp>
      <p:sp>
        <p:nvSpPr>
          <p:cNvPr id="57" name="PlaceHolder 2"/>
          <p:cNvSpPr>
            <a:spLocks noGrp="1"/>
          </p:cNvSpPr>
          <p:nvPr>
            <p:ph type="subTitle"/>
          </p:nvPr>
        </p:nvSpPr>
        <p:spPr>
          <a:xfrm>
            <a:off x="1447560" y="1218960"/>
            <a:ext cx="6553080" cy="5638680"/>
          </a:xfrm>
          <a:prstGeom prst="rect">
            <a:avLst/>
          </a:prstGeom>
          <a:noFill/>
          <a:ln w="0">
            <a:noFill/>
          </a:ln>
        </p:spPr>
        <p:txBody>
          <a:bodyPr anchor="t">
            <a:noAutofit/>
          </a:bodyPr>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NOTIFICATION DATED 28/12/2020</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ea typeface="Arial"/>
              </a:rPr>
              <a:t>AIFT 2001 TARIFF GR, TERMS,CONDITIONS, CLAUSES WARRANTIES,POLICY,ADD-ONS, ENDORSEMENT WORDINGS AND PROPOSAL FORMAPPLICABLE FOR THE NEW 3 PRODUCTS ARE DENOTIFIED WEF 01.04.2021 FORM THE EXISTING SF&amp;SP POLICY</a:t>
            </a:r>
            <a:endParaRPr b="0" lang="en-US" sz="1800" spc="-1" strike="noStrike">
              <a:solidFill>
                <a:srgbClr val="000000"/>
              </a:solidFill>
              <a:latin typeface="Times New Roman"/>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Arial"/>
              </a:rPr>
              <a:t>RISK RATEABLE SEC III (EXCL DWELLINGS),IV,V,VI AND VII WHERE THE TOTAL VALUE AT RISK NOT EXCEED Rs.50 CRORES ACROSS ALL ASSET CLASSES AT ANY ONE LOCATION</a:t>
            </a: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Bookman Old Style"/>
              </a:rPr>
              <a:t>CLAIM FORM</a:t>
            </a:r>
            <a:endParaRPr b="0" lang="en-US" sz="3200" spc="-1" strike="noStrike">
              <a:solidFill>
                <a:srgbClr val="000000"/>
              </a:solidFill>
              <a:latin typeface="Times New Roman"/>
            </a:endParaRPr>
          </a:p>
        </p:txBody>
      </p:sp>
      <p:sp>
        <p:nvSpPr>
          <p:cNvPr id="190" name="PlaceHolder 2"/>
          <p:cNvSpPr>
            <a:spLocks noGrp="1"/>
          </p:cNvSpPr>
          <p:nvPr>
            <p:ph type="subTitle"/>
          </p:nvPr>
        </p:nvSpPr>
        <p:spPr>
          <a:xfrm>
            <a:off x="457200" y="456840"/>
            <a:ext cx="8229600" cy="6172200"/>
          </a:xfrm>
          <a:prstGeom prst="rect">
            <a:avLst/>
          </a:prstGeom>
          <a:noFill/>
          <a:ln w="76320">
            <a:solidFill>
              <a:srgbClr val="0000ff"/>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NAME AND ADDRESS OF THE INSUR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2. DATE OF LOSS, TIME AND PLACE WHERE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Bookman Old Style"/>
              </a:rPr>
              <a:t>    </a:t>
            </a:r>
            <a:r>
              <a:rPr b="1" lang="en-US" sz="2400" spc="-1" strike="noStrike">
                <a:solidFill>
                  <a:srgbClr val="99cc00"/>
                </a:solidFill>
                <a:latin typeface="Bookman Old Style"/>
              </a:rPr>
              <a:t>FIRE STARTED</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3. CAUSE OF 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4. EXTENT OF DAMAGE, VALUE AT THE TIME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LOSS, SALVAGE AND THE AMOU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5. DETAILS OF OTHER POLICIES OF THE SAM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Bookman Old Style"/>
              </a:rPr>
              <a:t>    </a:t>
            </a:r>
            <a:r>
              <a:rPr b="1" lang="en-US" sz="2400" spc="-1" strike="noStrike">
                <a:solidFill>
                  <a:srgbClr val="336600"/>
                </a:solidFill>
                <a:latin typeface="Bookman Old Style"/>
              </a:rPr>
              <a:t>PROPERTY COVERED BY OTHER INSUR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SURVEY REPORT</a:t>
            </a:r>
            <a:endParaRPr b="0" lang="en-US" sz="3200" spc="-1" strike="noStrike">
              <a:solidFill>
                <a:srgbClr val="000000"/>
              </a:solidFill>
              <a:latin typeface="Times New Roman"/>
            </a:endParaRPr>
          </a:p>
        </p:txBody>
      </p:sp>
      <p:sp>
        <p:nvSpPr>
          <p:cNvPr id="192" name="PlaceHolder 2"/>
          <p:cNvSpPr>
            <a:spLocks noGrp="1"/>
          </p:cNvSpPr>
          <p:nvPr>
            <p:ph/>
          </p:nvPr>
        </p:nvSpPr>
        <p:spPr>
          <a:xfrm>
            <a:off x="762120" y="761760"/>
            <a:ext cx="8076960" cy="5562360"/>
          </a:xfrm>
          <a:prstGeom prst="rect">
            <a:avLst/>
          </a:prstGeom>
          <a:noFill/>
          <a:ln w="76320">
            <a:solidFill>
              <a:srgbClr val="cc00cc"/>
            </a:solidFill>
            <a:miter/>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ASUE OF LOS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EXTENT OF DAMAGE</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UNDER INSURANCE IF ANY</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ALVAGE DETAIL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DETAILS OF EXPENC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COMPLAINCE OF POLICY CONDITIONS AND WARRANTI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Bookman Old Style"/>
              </a:rPr>
              <a:t>SPECIFIC COMENT ON ADMISIBILITY OF THE CLAIM UNDER THE POLICY</a:t>
            </a:r>
            <a:endParaRPr b="0" lang="en-US" sz="2400" spc="-1" strike="noStrike">
              <a:solidFill>
                <a:srgbClr val="000000"/>
              </a:solidFill>
              <a:latin typeface="Times New Roman"/>
            </a:endParaRPr>
          </a:p>
        </p:txBody>
      </p:sp>
    </p:spTree>
  </p:cSld>
  <p:transition>
    <p:blinds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PETROCHEMICAL RISK</a:t>
            </a:r>
            <a:endParaRPr b="0" lang="en-US" sz="2400" spc="-1" strike="noStrike">
              <a:solidFill>
                <a:srgbClr val="000000"/>
              </a:solidFill>
              <a:latin typeface="Times New Roman"/>
            </a:endParaRPr>
          </a:p>
        </p:txBody>
      </p:sp>
      <p:sp>
        <p:nvSpPr>
          <p:cNvPr id="194" name=""/>
          <p:cNvSpPr txBox="1"/>
          <p:nvPr/>
        </p:nvSpPr>
        <p:spPr>
          <a:xfrm>
            <a:off x="533520" y="837720"/>
            <a:ext cx="8153280" cy="525780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ASSIFICATION OF INFLAMMABLE MATERIA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A: PRODUCTS ARE THOSE HAVING FLASH POINT BELOW A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 TO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B: PRODUCTS ARE THOSE HAVING FLASH POINT ABOVE 2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C: PRODUCTS ARE THOSE HAVING FLASH POINT ABOVE 65</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D UPTO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LASS D: PRODUCTS ARE THOSE HAVING FLASH POINT ABOVE 93</a:t>
            </a:r>
            <a:r>
              <a:rPr b="1" lang="en-US" sz="1800" spc="-1" strike="noStrike" baseline="30000">
                <a:solidFill>
                  <a:srgbClr val="000000"/>
                </a:solidFill>
                <a:latin typeface="Arial"/>
                <a:ea typeface="Arial"/>
              </a:rPr>
              <a:t>o</a:t>
            </a:r>
            <a:r>
              <a:rPr b="1" lang="en-US" sz="1800" spc="-1" strike="noStrike">
                <a:solidFill>
                  <a:srgbClr val="000000"/>
                </a:solidFill>
                <a:latin typeface="Arial"/>
                <a:ea typeface="Arial"/>
              </a:rPr>
              <a:t> C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Arial"/>
              </a:rPr>
              <a:t>ELIGIBILITY SCOPE FOR PC TARIFF</a:t>
            </a:r>
            <a:endParaRPr b="0" lang="en-US" sz="2400" spc="-1" strike="noStrike">
              <a:solidFill>
                <a:srgbClr val="000000"/>
              </a:solidFill>
              <a:latin typeface="Times New Roman"/>
            </a:endParaRPr>
          </a:p>
        </p:txBody>
      </p:sp>
      <p:sp>
        <p:nvSpPr>
          <p:cNvPr id="196" name=""/>
          <p:cNvSpPr txBox="1"/>
          <p:nvPr/>
        </p:nvSpPr>
        <p:spPr>
          <a:xfrm>
            <a:off x="685800" y="990360"/>
            <a:ext cx="7772400" cy="5105160"/>
          </a:xfrm>
          <a:prstGeom prst="rect">
            <a:avLst/>
          </a:prstGeom>
          <a:noFill/>
          <a:ln w="0">
            <a:noFill/>
          </a:ln>
        </p:spPr>
        <p:txBody>
          <a:bodyPr anchor="t">
            <a:normAutofit fontScale="98000"/>
          </a:bodyPr>
          <a:p>
            <a:pPr marL="447840" indent="-447840">
              <a:lnSpc>
                <a:spcPct val="100000"/>
              </a:lnSpc>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RISKS USING CLASS A AND/OR CLAS B HYDROCARBON / NATURAL GAS AS BASIC RAW MATERIAL AND</a:t>
            </a:r>
            <a:endParaRPr b="0" lang="en-US" sz="2000" spc="-1" strike="noStrike">
              <a:solidFill>
                <a:srgbClr val="000000"/>
              </a:solidFill>
              <a:latin typeface="Times New Roman"/>
            </a:endParaRPr>
          </a:p>
          <a:p>
            <a:pPr marL="447840" indent="-447840">
              <a:lnSpc>
                <a:spcPct val="100000"/>
              </a:lnSpc>
              <a:spcBef>
                <a:spcPts val="499"/>
              </a:spcBef>
              <a:buClr>
                <a:srgbClr val="d600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ea typeface="Arial"/>
              </a:rPr>
              <a:t>RISKS WHERE THE TOTAL SUM INSURED IN ONE COMPOUND/ COMPLEX EXCEEDS Rs. 50 CRORES AND</a:t>
            </a:r>
            <a:endParaRPr b="0" lang="en-US" sz="2000" spc="-1" strike="noStrike">
              <a:solidFill>
                <a:srgbClr val="000000"/>
              </a:solidFill>
              <a:latin typeface="Times New Roman"/>
            </a:endParaRPr>
          </a:p>
          <a:p>
            <a:pPr marL="447840" indent="-447840">
              <a:lnSpc>
                <a:spcPct val="100000"/>
              </a:lnSpc>
              <a:spcBef>
                <a:spcPts val="499"/>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RISKS WHERE THE SUM INSURED OF PLANT(S) USING HYDROCARBON (CLASS A/CLASS B)/ NATURAL GAS AS BASIC RAW MATERIAL IS IN EXCESS OF 35% OF THE TOTAL SUM INSURED OF THE RISK.</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AWAY FROM PC SCOPE:</a:t>
            </a: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BASIC RM ARE NOT HYDROCARBON BUT FINAL PRODUCT IS CLASS A OR B</a:t>
            </a:r>
            <a:endParaRPr b="0" lang="en-US" sz="2000" spc="-1" strike="noStrike">
              <a:solidFill>
                <a:srgbClr val="000000"/>
              </a:solidFill>
              <a:latin typeface="Times New Roman"/>
            </a:endParaRPr>
          </a:p>
          <a:p>
            <a:pPr marL="447840" indent="-447840">
              <a:lnSpc>
                <a:spcPct val="100000"/>
              </a:lnSpc>
              <a:spcBef>
                <a:spcPts val="499"/>
              </a:spcBef>
              <a:buClr>
                <a:srgbClr val="cc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LPG BOTTLING PLANT AND SIMILAR LOCATED OUTSIDE THE REFINERY</a:t>
            </a: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47840" indent="-447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PC RATING FACTORS</a:t>
            </a:r>
            <a:endParaRPr b="0" lang="en-US" sz="3200" spc="-1" strike="noStrike">
              <a:solidFill>
                <a:srgbClr val="000000"/>
              </a:solidFill>
              <a:latin typeface="Times New Roman"/>
            </a:endParaRPr>
          </a:p>
        </p:txBody>
      </p:sp>
      <p:sp>
        <p:nvSpPr>
          <p:cNvPr id="198" name=""/>
          <p:cNvSpPr txBox="1"/>
          <p:nvPr/>
        </p:nvSpPr>
        <p:spPr>
          <a:xfrm>
            <a:off x="304560" y="990360"/>
            <a:ext cx="8305560" cy="5105160"/>
          </a:xfrm>
          <a:prstGeom prst="rect">
            <a:avLst/>
          </a:prstGeom>
          <a:noFill/>
          <a:ln w="0">
            <a:noFill/>
          </a:ln>
        </p:spPr>
        <p:txBody>
          <a:bodyPr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PROCESS UNIT</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OPERATING TEMPRATUREAND PRESSUR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PROPERTIES OF CHEMICAL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QUALITY OF FLAMMABLE MATERIALS HANDLED</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TYPE OF RM, SOLVENTS, INTERMEDIATES FOR FINISHED GOODS ETC.</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FIRE CONSEQUENTIAL LOSS</a:t>
            </a:r>
            <a:endParaRPr b="0" lang="en-US" sz="2800" spc="-1" strike="noStrike">
              <a:solidFill>
                <a:srgbClr val="000000"/>
              </a:solidFill>
              <a:latin typeface="Times New Roman"/>
            </a:endParaRPr>
          </a:p>
        </p:txBody>
      </p:sp>
      <p:sp>
        <p:nvSpPr>
          <p:cNvPr id="200" name=""/>
          <p:cNvSpPr txBox="1"/>
          <p:nvPr/>
        </p:nvSpPr>
        <p:spPr>
          <a:xfrm>
            <a:off x="152280" y="990360"/>
            <a:ext cx="8763120" cy="5715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SCOPE:  CL (FIRE) INDEMNIFIES  LOSS OF GROS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ea typeface="Arial"/>
              </a:rPr>
              <a:t>                </a:t>
            </a:r>
            <a:r>
              <a:rPr b="0" lang="en-US" sz="2400" spc="-1" strike="noStrike">
                <a:solidFill>
                  <a:srgbClr val="009900"/>
                </a:solidFill>
                <a:latin typeface="Arial"/>
                <a:ea typeface="Arial"/>
              </a:rPr>
              <a:t>PROFIT (TRADING LOSSES) DUE TO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REDUCTION IN TURNOVER DURING INTERRUPTION </a:t>
            </a:r>
            <a:endParaRPr b="0" lang="en-US" sz="2400" spc="-1" strike="noStrike">
              <a:solidFill>
                <a:srgbClr val="000000"/>
              </a:solidFill>
              <a:latin typeface="Times New Roman"/>
            </a:endParaRPr>
          </a:p>
          <a:p>
            <a:pPr marL="343080" indent="-343080">
              <a:lnSpc>
                <a:spcPct val="100000"/>
              </a:lnSpc>
              <a:spcBef>
                <a:spcPts val="601"/>
              </a:spcBef>
              <a:buClr>
                <a:srgbClr val="00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ea typeface="Arial"/>
              </a:rPr>
              <a:t>INCREASE IN COST OF WORKING</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SUM INSURED: NET PROFIT +STANDING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SALES = NET PROFIT + STANDING CHARGES + VARIABLE     CHARG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STANDING CHARGES: FIXED CHARGES. SALARY, RENT ETC</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ea typeface="Arial"/>
              </a:rPr>
              <a:t>VARIABLE CHARGES : VARY DEPENDS UPON PRODUCTION . R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MPORTANT TERMS </a:t>
            </a:r>
            <a:endParaRPr b="0" lang="en-US" sz="2800" spc="-1" strike="noStrike">
              <a:solidFill>
                <a:srgbClr val="000000"/>
              </a:solidFill>
              <a:latin typeface="Times New Roman"/>
            </a:endParaRPr>
          </a:p>
        </p:txBody>
      </p:sp>
      <p:sp>
        <p:nvSpPr>
          <p:cNvPr id="202" name="PlaceHolder 2"/>
          <p:cNvSpPr>
            <a:spLocks noGrp="1"/>
          </p:cNvSpPr>
          <p:nvPr>
            <p:ph type="subTitle"/>
          </p:nvPr>
        </p:nvSpPr>
        <p:spPr>
          <a:xfrm>
            <a:off x="228600" y="685440"/>
            <a:ext cx="8686800" cy="6172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TOTAL COST = FIXED COST + SPECIFIED WORKING EXPENCE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ROSS PROFIT = TURNOVER  - VARIABLE COST  (O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                               </a:t>
            </a:r>
            <a:r>
              <a:rPr b="1" lang="en-US" sz="2000" spc="-1" strike="noStrike">
                <a:solidFill>
                  <a:srgbClr val="009900"/>
                </a:solidFill>
                <a:latin typeface="Times New Roman"/>
              </a:rPr>
              <a:t>= NET PROFIT + FIXED COS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GROSS PROFIT (L)</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INSURED STANDING CHARGES – {NET LOSS X </a:t>
            </a:r>
            <a:r>
              <a:rPr b="1" lang="en-US" sz="2000" spc="-1" strike="noStrike" u="sng">
                <a:solidFill>
                  <a:srgbClr val="d60093"/>
                </a:solidFill>
                <a:uFillTx/>
                <a:latin typeface="Times New Roman"/>
              </a:rPr>
              <a:t>INSURED SC }</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Times New Roman"/>
              </a:rPr>
              <a:t>                                                                                               </a:t>
            </a:r>
            <a:r>
              <a:rPr b="1" lang="en-US" sz="2000" spc="-1" strike="noStrike">
                <a:solidFill>
                  <a:srgbClr val="d60093"/>
                </a:solidFill>
                <a:latin typeface="Times New Roman"/>
              </a:rPr>
              <a:t>ALL SC</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GROSS PROFIT (DIFFERENCE BASI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O + CLOSING STOCK]- [OPENING STOCK + SPECIFIED WORKING EXPENCES]</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ATE OF GROSS PROFIT = </a:t>
            </a:r>
            <a:r>
              <a:rPr b="1" lang="en-US" sz="2000" spc="-1" strike="noStrike" u="sng">
                <a:solidFill>
                  <a:srgbClr val="3333cc"/>
                </a:solidFill>
                <a:uFillTx/>
                <a:latin typeface="Times New Roman"/>
              </a:rPr>
              <a:t>PREV YEAR GROSS PROFIT   </a:t>
            </a:r>
            <a:r>
              <a:rPr b="1" lang="en-US" sz="2000" spc="-1" strike="noStrike">
                <a:solidFill>
                  <a:srgbClr val="3333cc"/>
                </a:solidFill>
                <a:latin typeface="Times New Roman"/>
              </a:rPr>
              <a:t>X 100</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PREV YEAR FIN TURN 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Times New Roman"/>
              </a:rPr>
              <a:t>REDUCTION IN TURN OVER = STANDARD  TURN OVER – TURN OVER  DURING INTERRUPTION PERIOD.</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OSS OF GROSS PROFIT = RGP/100 X REDUCTION IN TURNOVER</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2400" spc="-1" strike="noStrike">
                <a:solidFill>
                  <a:srgbClr val="d60093"/>
                </a:solidFill>
                <a:latin typeface="Arial"/>
                <a:ea typeface="Arial"/>
              </a:rPr>
              <a:t>FINANCIAL  YEAR TURN OVER: </a:t>
            </a:r>
            <a:br>
              <a:rPr sz="1800"/>
            </a:br>
            <a:r>
              <a:rPr b="1" lang="en-US" sz="2000" spc="-1" strike="noStrike">
                <a:solidFill>
                  <a:srgbClr val="336600"/>
                </a:solidFill>
                <a:latin typeface="Arial"/>
                <a:ea typeface="Arial"/>
              </a:rPr>
              <a:t>IN LINE WITH INSURD’S ACCOUNTS CLOSING YEAR.</a:t>
            </a:r>
            <a:br>
              <a:rPr sz="1800"/>
            </a:br>
            <a:br>
              <a:rPr sz="1800"/>
            </a:br>
            <a:r>
              <a:rPr b="1" lang="en-US" sz="2400" spc="-1" strike="noStrike">
                <a:solidFill>
                  <a:srgbClr val="ff0000"/>
                </a:solidFill>
                <a:latin typeface="Arial"/>
                <a:ea typeface="Arial"/>
              </a:rPr>
              <a:t>% OF RATE OF GROSS PROFIT:</a:t>
            </a:r>
            <a:br>
              <a:rPr sz="2400"/>
            </a:br>
            <a:r>
              <a:rPr b="1" lang="en-US" sz="2000" spc="-1" strike="noStrike">
                <a:solidFill>
                  <a:srgbClr val="0033cc"/>
                </a:solidFill>
                <a:latin typeface="Arial"/>
                <a:ea typeface="Arial"/>
              </a:rPr>
              <a:t>= </a:t>
            </a:r>
            <a:r>
              <a:rPr b="1" lang="en-US" sz="2000" spc="-1" strike="noStrike" u="sng">
                <a:solidFill>
                  <a:srgbClr val="0033cc"/>
                </a:solidFill>
                <a:uFillTx/>
                <a:latin typeface="Arial"/>
                <a:ea typeface="Arial"/>
              </a:rPr>
              <a:t>GROSS PROFIT (PREVIOUS YEAR)              </a:t>
            </a:r>
            <a:r>
              <a:rPr b="1" lang="en-US" sz="2000" spc="-1" strike="noStrike">
                <a:solidFill>
                  <a:srgbClr val="0033cc"/>
                </a:solidFill>
                <a:latin typeface="Arial"/>
                <a:ea typeface="Arial"/>
              </a:rPr>
              <a:t>X 100</a:t>
            </a:r>
            <a:br>
              <a:rPr sz="2000"/>
            </a:br>
            <a:r>
              <a:rPr b="1" lang="en-US" sz="2000" spc="-1" strike="noStrike">
                <a:solidFill>
                  <a:srgbClr val="0033cc"/>
                </a:solidFill>
                <a:latin typeface="Arial"/>
                <a:ea typeface="Arial"/>
              </a:rPr>
              <a:t>   FINANCIAL YEAR TURNOVER (PREV YEAR)</a:t>
            </a:r>
            <a:br>
              <a:rPr sz="2000"/>
            </a:br>
            <a:br>
              <a:rPr sz="2400"/>
            </a:br>
            <a:r>
              <a:rPr b="1" lang="en-US" sz="2400" spc="-1" strike="noStrike">
                <a:solidFill>
                  <a:srgbClr val="0033cc"/>
                </a:solidFill>
                <a:latin typeface="Arial"/>
                <a:ea typeface="Arial"/>
              </a:rPr>
              <a:t>STANDARD TURNOVER: </a:t>
            </a:r>
            <a:r>
              <a:rPr b="1" lang="en-US" sz="2000" spc="-1" strike="noStrike">
                <a:solidFill>
                  <a:srgbClr val="ff0000"/>
                </a:solidFill>
                <a:latin typeface="Arial"/>
                <a:ea typeface="Arial"/>
              </a:rPr>
              <a:t>TURN OVER DURING THAT PERIOD IN THE 12 MONTHS BEFORE THE DATE OF DAMAGE WHICH CORRESPONDS  WITH THE ACTUAL INDEMNITY PERIOD.</a:t>
            </a:r>
            <a:br>
              <a:rPr sz="2000"/>
            </a:br>
            <a:br>
              <a:rPr sz="2000"/>
            </a:br>
            <a:r>
              <a:rPr b="1" lang="en-US" sz="2400" spc="-1" strike="noStrike">
                <a:solidFill>
                  <a:srgbClr val="00b050"/>
                </a:solidFill>
                <a:latin typeface="Arial"/>
                <a:ea typeface="Arial"/>
              </a:rPr>
              <a:t>ANNUAL TURNOVER:</a:t>
            </a:r>
            <a:r>
              <a:rPr b="1" lang="en-US" sz="2000" spc="-1" strike="noStrike">
                <a:solidFill>
                  <a:srgbClr val="cc0099"/>
                </a:solidFill>
                <a:latin typeface="Arial"/>
                <a:ea typeface="Arial"/>
              </a:rPr>
              <a:t>THE TURNOVER DURING 12 MONTHS IMMEDIATELY BEFORE THE DATE OF DAMAGE.</a:t>
            </a:r>
            <a:br>
              <a:rPr sz="2000"/>
            </a:br>
            <a:br>
              <a:rPr sz="2000"/>
            </a:br>
            <a:r>
              <a:rPr b="1" lang="en-US" sz="2400" spc="-1" strike="noStrike">
                <a:solidFill>
                  <a:srgbClr val="3333cc"/>
                </a:solidFill>
                <a:latin typeface="Arial"/>
                <a:ea typeface="Arial"/>
              </a:rPr>
              <a:t>ACTUAL TURN OVER: </a:t>
            </a:r>
            <a:r>
              <a:rPr b="1" lang="en-US" sz="2000" spc="-1" strike="noStrike">
                <a:solidFill>
                  <a:srgbClr val="009900"/>
                </a:solidFill>
                <a:latin typeface="Arial"/>
                <a:ea typeface="Arial"/>
              </a:rPr>
              <a:t>TURNOVER PRODUCED DURING INTERRUPTION PERIOD</a:t>
            </a:r>
            <a:br>
              <a:rPr sz="2000"/>
            </a:br>
            <a:br>
              <a:rPr sz="2000"/>
            </a:br>
            <a:r>
              <a:rPr b="1" lang="en-US" sz="2400" spc="-1" strike="noStrike">
                <a:solidFill>
                  <a:srgbClr val="ff0000"/>
                </a:solidFill>
                <a:latin typeface="Arial"/>
                <a:ea typeface="Arial"/>
              </a:rPr>
              <a:t>REDUCTION IN TURNOVER:</a:t>
            </a:r>
            <a:r>
              <a:rPr b="1" lang="en-US" sz="2000" spc="-1" strike="noStrike">
                <a:solidFill>
                  <a:srgbClr val="3333cc"/>
                </a:solidFill>
                <a:latin typeface="Arial"/>
                <a:ea typeface="Arial"/>
              </a:rPr>
              <a:t>STANDARD TURNOVER MINUS ACTUAL TURNOVER DURING INTERUPTION PERIOD</a:t>
            </a:r>
            <a:br>
              <a:rPr sz="2000"/>
            </a:b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28240" y="-360"/>
            <a:ext cx="8915400" cy="7010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1" lang="en-US" sz="3200" spc="-1" strike="noStrike">
                <a:solidFill>
                  <a:srgbClr val="0033cc"/>
                </a:solidFill>
                <a:latin typeface="Arial"/>
                <a:ea typeface="Arial"/>
              </a:rPr>
              <a:t>DEFINITIONS</a:t>
            </a:r>
            <a:br>
              <a:rPr sz="3200"/>
            </a:br>
            <a:br>
              <a:rPr sz="3200"/>
            </a:br>
            <a:r>
              <a:rPr b="1" lang="en-US" sz="2400" spc="-1" strike="noStrike">
                <a:solidFill>
                  <a:srgbClr val="d60093"/>
                </a:solidFill>
                <a:latin typeface="Arial"/>
                <a:ea typeface="Arial"/>
              </a:rPr>
              <a:t>PERIOD OF INSURANCE:  </a:t>
            </a:r>
            <a:r>
              <a:rPr b="1" lang="en-US" sz="2400" spc="-1" strike="noStrike">
                <a:solidFill>
                  <a:srgbClr val="00b0f0"/>
                </a:solidFill>
                <a:latin typeface="Arial"/>
                <a:ea typeface="Arial"/>
              </a:rPr>
              <a:t>USUALLY ONE YEAR</a:t>
            </a:r>
            <a:br>
              <a:rPr sz="2400"/>
            </a:br>
            <a:br>
              <a:rPr sz="3200"/>
            </a:br>
            <a:r>
              <a:rPr b="1" lang="en-US" sz="2400" spc="-1" strike="noStrike">
                <a:solidFill>
                  <a:srgbClr val="ff0000"/>
                </a:solidFill>
                <a:latin typeface="Arial"/>
                <a:ea typeface="Arial"/>
              </a:rPr>
              <a:t>INDEMNITY PERIOD: </a:t>
            </a:r>
            <a:br>
              <a:rPr sz="2400"/>
            </a:br>
            <a:br>
              <a:rPr sz="2400"/>
            </a:br>
            <a:r>
              <a:rPr b="0" lang="en-US" sz="2400" spc="-1" strike="noStrike">
                <a:solidFill>
                  <a:srgbClr val="009900"/>
                </a:solidFill>
                <a:latin typeface="Arial"/>
                <a:ea typeface="Arial"/>
              </a:rPr>
              <a:t>INSURER’S LIABILITY PERIOD. MINIMIMUM 3 MONTHS AND MAXIMUM OF 36 MONTHS (MULTIPLES OF THREE MONTHS. OPTED BY INSURED). It is</a:t>
            </a:r>
            <a:r>
              <a:rPr b="0" lang="en-AU" sz="2400" spc="-1" strike="noStrike">
                <a:solidFill>
                  <a:srgbClr val="009900"/>
                </a:solidFill>
                <a:latin typeface="Times New Roman"/>
              </a:rPr>
              <a:t> </a:t>
            </a:r>
            <a:r>
              <a:rPr b="0" lang="en-AU" sz="2400" spc="-1" strike="noStrike">
                <a:solidFill>
                  <a:srgbClr val="009900"/>
                </a:solidFill>
                <a:latin typeface="Arial"/>
                <a:ea typeface="Arial"/>
              </a:rPr>
              <a:t>not permissible to alter the indemnity period during the currency of the Policy</a:t>
            </a:r>
            <a:br>
              <a:rPr sz="2400"/>
            </a:br>
            <a:br>
              <a:rPr sz="2400"/>
            </a:br>
            <a:br>
              <a:rPr sz="2400"/>
            </a:br>
            <a:r>
              <a:rPr b="1" lang="en-US" sz="2400" spc="-1" strike="noStrike">
                <a:solidFill>
                  <a:srgbClr val="ff0000"/>
                </a:solidFill>
                <a:latin typeface="Arial"/>
                <a:ea typeface="Arial"/>
              </a:rPr>
              <a:t>INTERRUPTION PERIOD:</a:t>
            </a:r>
            <a:br>
              <a:rPr sz="2400"/>
            </a:br>
            <a:br>
              <a:rPr sz="2400"/>
            </a:br>
            <a:r>
              <a:rPr b="0" lang="en-US" sz="2400" spc="-1" strike="noStrike">
                <a:solidFill>
                  <a:srgbClr val="3333cc"/>
                </a:solidFill>
                <a:latin typeface="Arial"/>
                <a:ea typeface="Arial"/>
              </a:rPr>
              <a:t>INCEPTS FROM THE DATE OF OPERATION OF INSURED PERIL UNDER MD POLICY AND ENDS ON COMPLET PLANT IS BECOMES NORMAL PRODUCTION.  THE INTERRUPTION PERIOD DEPENDS UPON THE SEVEARITY OF THE PERIL OPERATED.</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60" y="228240"/>
            <a:ext cx="8915400" cy="6629400"/>
          </a:xfrm>
          <a:prstGeom prst="rect">
            <a:avLst/>
          </a:prstGeom>
          <a:noFill/>
          <a:ln w="0">
            <a:noFill/>
          </a:ln>
        </p:spPr>
        <p:txBody>
          <a:bodyPr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1" lang="en-US" sz="3600" spc="-1" strike="noStrike" u="sng">
                <a:solidFill>
                  <a:srgbClr val="7030a0"/>
                </a:solidFill>
                <a:uFillTx/>
                <a:latin typeface="Arial"/>
                <a:ea typeface="Arial"/>
              </a:rPr>
              <a:t>MATERIAL DAMAGE PROVISO</a:t>
            </a:r>
            <a:br>
              <a:rPr sz="3600"/>
            </a:br>
            <a:r>
              <a:rPr b="0" lang="en-US" sz="2100" spc="-1" strike="noStrike">
                <a:solidFill>
                  <a:srgbClr val="ff0000"/>
                </a:solidFill>
                <a:latin typeface="Arial"/>
                <a:ea typeface="Arial"/>
              </a:rPr>
              <a:t>THERE EXISTS A FIRE POLICY (MATERIAL DAMAGE), THE PROPERTY GOT DAMAGED DUE TO OPERATION OF INSURED PERIL . THE ADMISIBILITY IS ESATBILISHED/ ADMITED, THE CLAIM IS PAID OR PAYABLE.  THE REVENUE LOSS IS IDEMNIFIED UNDER LOP POLICY.THE CLAIM MAY NOT HAVE PAID DUE TO DEDUCTIBLE CLAUSE UNDER MD POLICY IS NOT RELEVANT FOR CLAIM PAYABLE UNDER FIRE CONSEQUENTIAL LOSS  POLICY</a:t>
            </a:r>
            <a:br>
              <a:rPr sz="2100"/>
            </a:br>
            <a:br>
              <a:rPr sz="2400"/>
            </a:br>
            <a:r>
              <a:rPr b="0" lang="en-US" sz="2100" spc="-1" strike="noStrike">
                <a:solidFill>
                  <a:srgbClr val="009900"/>
                </a:solidFill>
                <a:latin typeface="Arial"/>
                <a:ea typeface="Arial"/>
              </a:rPr>
              <a:t>EXISTANCE OF MD POLICY ENSURES SPEEDY RESTORATION OF DAMAGED PREOPERTY ON SETTLEMENT OF CLAIM UNDER MD POLICY. THIS HELPS LIABILITY UNDER  FLOP KEEPS UNDER CONTROL. IN THE ABSENSE OF MD INSURANCE THE RESTORATION OF THE DAMAGED PROPERTY WILL BE DELAYED DUE TO LACK OF CAPITAL AND THE  INTERRUPTION OF THE BUSINESS WILL BE PROLONGED WHICH WILL LEED TO INCREASED CLAIM OUT GO UNDER THE  FLOP POLICY.</a:t>
            </a:r>
            <a:br>
              <a:rPr sz="2100"/>
            </a:br>
            <a:r>
              <a:rPr b="0" lang="en-AU" sz="2400" spc="-1" strike="noStrike">
                <a:solidFill>
                  <a:srgbClr val="000000"/>
                </a:solidFill>
                <a:latin typeface="Times New Roman"/>
              </a:rPr>
              <a:t>The proviso shall not apply to property on which the Insured have no direct insurable interest and which they cannot be reasonably expected to insure.</a:t>
            </a:r>
            <a:br>
              <a:rPr sz="2400"/>
            </a:br>
            <a:br>
              <a:rPr sz="2400"/>
            </a:br>
            <a:br>
              <a:rPr sz="2400"/>
            </a:br>
            <a:br>
              <a:rPr sz="2400"/>
            </a:br>
            <a:br>
              <a:rPr sz="2400"/>
            </a:br>
            <a:br>
              <a:rPr sz="24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en-US" sz="3600" spc="-1" strike="noStrike">
                <a:solidFill>
                  <a:srgbClr val="7030a0"/>
                </a:solidFill>
                <a:latin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3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3 NEW PRODUCTS IN FIRE LOB</a:t>
            </a:r>
            <a:endParaRPr b="0" lang="en-US" sz="2000" spc="-1" strike="noStrike">
              <a:solidFill>
                <a:srgbClr val="000000"/>
              </a:solidFill>
              <a:latin typeface="Times New Roman"/>
            </a:endParaRPr>
          </a:p>
        </p:txBody>
      </p:sp>
      <p:sp>
        <p:nvSpPr>
          <p:cNvPr id="59" name="PlaceHolder 2"/>
          <p:cNvSpPr>
            <a:spLocks noGrp="1"/>
          </p:cNvSpPr>
          <p:nvPr>
            <p:ph type="subTitle"/>
          </p:nvPr>
        </p:nvSpPr>
        <p:spPr>
          <a:xfrm>
            <a:off x="685440" y="1143000"/>
            <a:ext cx="7543800" cy="4137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1. BHARAT GRIHA RAKSHA : </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1966"/>
                </a:solidFill>
                <a:latin typeface="Arial"/>
                <a:ea typeface="Arial"/>
              </a:rPr>
              <a:t>	</a:t>
            </a:r>
            <a:r>
              <a:rPr b="1" lang="en-US" sz="1600" spc="-1" strike="noStrike">
                <a:solidFill>
                  <a:srgbClr val="191966"/>
                </a:solidFill>
                <a:latin typeface="Arial"/>
                <a:ea typeface="Arial"/>
              </a:rPr>
              <a:t>MEANT FOR HOME BUILDING AND HOME CONTENT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2. BHARAT SOOKSHMA UDYAM SURAKSHA:</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60093"/>
                </a:solidFill>
                <a:latin typeface="Arial"/>
                <a:ea typeface="Arial"/>
              </a:rPr>
              <a:t>	</a:t>
            </a:r>
            <a:r>
              <a:rPr b="1" lang="en-US" sz="1600" spc="-1" strike="noStrike">
                <a:solidFill>
                  <a:srgbClr val="d60093"/>
                </a:solidFill>
                <a:latin typeface="Arial"/>
                <a:ea typeface="Arial"/>
              </a:rPr>
              <a:t>MEANT FOR ENTERPRISES WHERE THE TOTAL VALUE AT </a:t>
            </a:r>
            <a:r>
              <a:rPr b="1" lang="en-US" sz="1600" spc="-1" strike="noStrike">
                <a:solidFill>
                  <a:srgbClr val="d60093"/>
                </a:solidFill>
                <a:latin typeface="Arial"/>
                <a:ea typeface="Arial"/>
              </a:rPr>
              <a:t>	</a:t>
            </a:r>
            <a:r>
              <a:rPr b="1" lang="en-US" sz="1600" spc="-1" strike="noStrike">
                <a:solidFill>
                  <a:srgbClr val="d60093"/>
                </a:solidFill>
                <a:latin typeface="Arial"/>
                <a:ea typeface="Arial"/>
              </a:rPr>
              <a:t>RISK IS UP TO Rs. 5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3. BHARAT LAGHU UDYAM SURAKSH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	</a:t>
            </a:r>
            <a:r>
              <a:rPr b="1" lang="en-US" sz="1600" spc="-1" strike="noStrike">
                <a:solidFill>
                  <a:srgbClr val="009900"/>
                </a:solidFill>
                <a:latin typeface="Arial"/>
                <a:ea typeface="Arial"/>
              </a:rPr>
              <a:t>MEMEANT FOR ENTERPRISES WHERE THE TOTAL VALUE AT </a:t>
            </a:r>
            <a:r>
              <a:rPr b="1" lang="en-US" sz="1600" spc="-1" strike="noStrike">
                <a:solidFill>
                  <a:srgbClr val="009900"/>
                </a:solidFill>
                <a:latin typeface="Arial"/>
                <a:ea typeface="Arial"/>
              </a:rPr>
              <a:t>	</a:t>
            </a:r>
            <a:r>
              <a:rPr b="1" lang="en-US" sz="1600" spc="-1" strike="noStrike">
                <a:solidFill>
                  <a:srgbClr val="009900"/>
                </a:solidFill>
                <a:latin typeface="Arial"/>
                <a:ea typeface="Arial"/>
              </a:rPr>
              <a:t>RISK IS MORE THAN Rs 5 CRORES AND UP TO Rs. 50 CRORES</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3333cc"/>
                </a:solidFill>
                <a:latin typeface="Arial"/>
                <a:ea typeface="Arial"/>
              </a:rPr>
              <a:t>NUMERICAL - I</a:t>
            </a:r>
            <a:endParaRPr b="0" lang="en-US" sz="2400" spc="-1" strike="noStrike">
              <a:solidFill>
                <a:srgbClr val="000000"/>
              </a:solidFill>
              <a:latin typeface="Times New Roman"/>
            </a:endParaRPr>
          </a:p>
        </p:txBody>
      </p:sp>
      <p:graphicFrame>
        <p:nvGraphicFramePr>
          <p:cNvPr id="207" name=""/>
          <p:cNvGraphicFramePr/>
          <p:nvPr/>
        </p:nvGraphicFramePr>
        <p:xfrm>
          <a:off x="304920" y="990720"/>
          <a:ext cx="8686800" cy="4410000"/>
        </p:xfrm>
        <a:graphic>
          <a:graphicData uri="http://schemas.openxmlformats.org/drawingml/2006/table">
            <a:tbl>
              <a:tblPr/>
              <a:tblGrid>
                <a:gridCol w="4495680"/>
                <a:gridCol w="419112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INSURED F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PERIOD OF INDEMNIT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12 MONTH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STANDARD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ERIOD OF INTERUPTION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4,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INCREASED COST OF WORKING</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7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REDUCTION IN TURNOVER SAVED BY THE ABOVE CO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GROSS PROFIT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3,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RNOVER DURING THE PREV FINANCIAL YEA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ANNUAL TURNOV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ea typeface="Arial"/>
                        </a:rPr>
                        <a:t>Rs. 16,00,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a:t>
            </a:r>
            <a:endParaRPr b="0" lang="en-US" sz="2400" spc="-1" strike="noStrike">
              <a:solidFill>
                <a:srgbClr val="000000"/>
              </a:solidFill>
              <a:latin typeface="Times New Roman"/>
            </a:endParaRPr>
          </a:p>
        </p:txBody>
      </p:sp>
      <p:sp>
        <p:nvSpPr>
          <p:cNvPr id="209" name=""/>
          <p:cNvSpPr txBox="1"/>
          <p:nvPr/>
        </p:nvSpPr>
        <p:spPr>
          <a:xfrm>
            <a:off x="151920" y="762120"/>
            <a:ext cx="8991720" cy="586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1.</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 OF RATE OF GROSS PROFIT (RGP).</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GP = </a:t>
            </a:r>
            <a:r>
              <a:rPr b="0" lang="en-US" sz="2000" spc="-1" strike="noStrike" u="sng">
                <a:solidFill>
                  <a:srgbClr val="000000"/>
                </a:solidFill>
                <a:uFillTx/>
                <a:latin typeface="Arial"/>
                <a:ea typeface="Arial"/>
              </a:rPr>
              <a:t>GROSS PROFIT PREVIOUS YEAR X </a:t>
            </a:r>
            <a:r>
              <a:rPr b="0" lang="en-US" sz="2000" spc="-1" strike="noStrike">
                <a:solidFill>
                  <a:srgbClr val="000000"/>
                </a:solidFill>
                <a:latin typeface="Arial"/>
                <a:ea typeface="Arial"/>
              </a:rPr>
              <a:t>1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NANCIAL TURNOVER PREV YEAR</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a:t>
            </a:r>
            <a:r>
              <a:rPr b="0" lang="en-US" sz="2000" spc="-1" strike="noStrike">
                <a:solidFill>
                  <a:srgbClr val="000000"/>
                </a:solidFill>
                <a:latin typeface="Arial"/>
                <a:ea typeface="Arial"/>
              </a:rPr>
              <a:t>X100 = 25%</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12,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STEP 2.</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FIND REDUCTION IN TURNOVER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TO = STANDARD TURNOVER – ACTUAL TURNOVER DUR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RUPTION PERIO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10,00,000 – 4,00,000 = 6,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3.</a:t>
            </a:r>
            <a:r>
              <a:rPr b="0" lang="en-US" sz="2000" spc="-1" strike="noStrike">
                <a:solidFill>
                  <a:srgbClr val="000000"/>
                </a:solidFill>
                <a:latin typeface="Arial"/>
                <a:ea typeface="Arial"/>
              </a:rPr>
              <a:t> TO FIND LOSS OF GROSS PROFITAPPLY % OF RGP ON RTO</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25% OF 6,00,000 = 1,5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ION CONTI…..</a:t>
            </a:r>
            <a:endParaRPr b="0" lang="en-US" sz="2400" spc="-1" strike="noStrike">
              <a:solidFill>
                <a:srgbClr val="000000"/>
              </a:solidFill>
              <a:latin typeface="Times New Roman"/>
            </a:endParaRPr>
          </a:p>
        </p:txBody>
      </p:sp>
      <p:sp>
        <p:nvSpPr>
          <p:cNvPr id="211" name=""/>
          <p:cNvSpPr txBox="1"/>
          <p:nvPr/>
        </p:nvSpPr>
        <p:spPr>
          <a:xfrm>
            <a:off x="152280" y="533160"/>
            <a:ext cx="8839440" cy="609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STEP 3. </a:t>
            </a:r>
            <a:r>
              <a:rPr b="0" lang="en-US" sz="2000" spc="-1" strike="noStrike">
                <a:solidFill>
                  <a:srgbClr val="000000"/>
                </a:solidFill>
                <a:latin typeface="Arial"/>
                <a:ea typeface="Arial"/>
              </a:rPr>
              <a:t>TO FIND INCREASED COST OF WORKING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 CHECK THE ECONOMIC LIMIT APPLY % OF RGP ON TURNOVER SAVED DURING INTERRUPTION PERIOD TO DECIDE THE PAYABLE ICW AMOUNT</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OUNT SPENT IS Rs 70,000 AND TURNOVER SAVED IS Rs. 3,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TURNOVER SAVED = 25% OF Rs 3,00,000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7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XIMUM ELEGIBLE TO CLAIM ICW IS Rs 75,000. HENCE ACTUAL INCURRED AMOUNT OF Rs 70,000 IS PAYABL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STEP 4.</a:t>
            </a:r>
            <a:r>
              <a:rPr b="0" lang="en-US" sz="2000" spc="-1" strike="noStrike">
                <a:solidFill>
                  <a:srgbClr val="000000"/>
                </a:solidFill>
                <a:latin typeface="Arial"/>
                <a:ea typeface="Arial"/>
              </a:rPr>
              <a:t>TO FIND GROSS LOSS ADD LOSS OF GROSS PROFIT AND ICW</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Rs 1,50,000 + Rs. 70,000 = Rs 2,2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ea typeface="Arial"/>
              </a:rPr>
              <a:t>STEP 5.</a:t>
            </a:r>
            <a:r>
              <a:rPr b="0" lang="en-US" sz="2000" spc="-1" strike="noStrike">
                <a:solidFill>
                  <a:srgbClr val="000000"/>
                </a:solidFill>
                <a:latin typeface="Arial"/>
                <a:ea typeface="Arial"/>
              </a:rPr>
              <a:t> TO ACERTAIN ADEQUACY OF SUM INSURED</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LY % OF RGP ON ATO AND COMPARE WITH SUM INSURED UNDER THE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LUTTION CONTI….</a:t>
            </a:r>
            <a:endParaRPr b="0" lang="en-US" sz="2400" spc="-1" strike="noStrike">
              <a:solidFill>
                <a:srgbClr val="000000"/>
              </a:solidFill>
              <a:latin typeface="Times New Roman"/>
            </a:endParaRPr>
          </a:p>
        </p:txBody>
      </p:sp>
      <p:sp>
        <p:nvSpPr>
          <p:cNvPr id="213" name=""/>
          <p:cNvSpPr txBox="1"/>
          <p:nvPr/>
        </p:nvSpPr>
        <p:spPr>
          <a:xfrm>
            <a:off x="228600" y="685800"/>
            <a:ext cx="876312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5% OF Rs.16,00,000 = 4,00,000/- BUT THE SUM INSURED UNDER TH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IS Rs 3,00,000. HENCE THERE IS A UNDERINSURANC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SS PAYABLE = </a:t>
            </a:r>
            <a:r>
              <a:rPr b="0" lang="en-US" sz="2000" spc="-1" strike="noStrike" u="sng">
                <a:solidFill>
                  <a:srgbClr val="000000"/>
                </a:solidFill>
                <a:uFillTx/>
                <a:latin typeface="Arial"/>
                <a:ea typeface="Arial"/>
              </a:rPr>
              <a:t>SUM INSURED X GROSS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VALUE AT RISK ON DATE OF LOS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u="sng">
                <a:solidFill>
                  <a:srgbClr val="000000"/>
                </a:solidFill>
                <a:uFillTx/>
                <a:latin typeface="Arial"/>
                <a:ea typeface="Arial"/>
              </a:rPr>
              <a:t>3,00,000 X 2,20,000  </a:t>
            </a:r>
            <a:r>
              <a:rPr b="0" lang="en-US" sz="2000" spc="-1" strike="noStrike">
                <a:solidFill>
                  <a:srgbClr val="000000"/>
                </a:solidFill>
                <a:latin typeface="Arial"/>
                <a:ea typeface="Arial"/>
              </a:rPr>
              <a:t>= 1,65,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4,00,000</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NOTE: </a:t>
            </a:r>
            <a:r>
              <a:rPr b="0" i="1" lang="en-US" sz="2000" spc="-1" strike="noStrike">
                <a:solidFill>
                  <a:srgbClr val="0033cc"/>
                </a:solidFill>
                <a:latin typeface="Arial"/>
                <a:ea typeface="Arial"/>
              </a:rPr>
              <a:t>Assumed that all standing charges were insured. Hence under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insurance and average  which is applicable to such charges separately hav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Not been included. Similarly, it is assumed that no standing charges wer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ea typeface="Arial"/>
              </a:rPr>
              <a:t>saved as a result of the damag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ea typeface="Arial"/>
              </a:rPr>
              <a:t>NUMERICAL- II</a:t>
            </a:r>
            <a:endParaRPr b="0" lang="en-US" sz="2400" spc="-1" strike="noStrike">
              <a:solidFill>
                <a:srgbClr val="000000"/>
              </a:solidFill>
              <a:latin typeface="Times New Roman"/>
            </a:endParaRPr>
          </a:p>
        </p:txBody>
      </p:sp>
      <p:sp>
        <p:nvSpPr>
          <p:cNvPr id="215" name=""/>
          <p:cNvSpPr txBox="1"/>
          <p:nvPr/>
        </p:nvSpPr>
        <p:spPr>
          <a:xfrm>
            <a:off x="0" y="457200"/>
            <a:ext cx="9144000" cy="6400800"/>
          </a:xfrm>
          <a:prstGeom prst="rect">
            <a:avLst/>
          </a:prstGeom>
          <a:noFill/>
          <a:ln w="0">
            <a:noFill/>
          </a:ln>
        </p:spPr>
        <p:txBody>
          <a:bodyPr anchor="t">
            <a:normAutofit/>
          </a:bodyPr>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y Period : 01.04.2015 31.03.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m Insured : Rs 80,000/-</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emnity Period : 6 months</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e of Loss :  01.01. 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iod of Interruption : 01.01.2016 to 30.04.2016</a:t>
            </a:r>
            <a:endParaRPr b="0" lang="en-US" sz="2000" spc="-1" strike="noStrike">
              <a:solidFill>
                <a:srgbClr val="000000"/>
              </a:solidFill>
              <a:latin typeface="Times New Roman"/>
            </a:endParaRPr>
          </a:p>
          <a:p>
            <a:pPr marL="457200" indent="-45720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ounts for the Financial year end 31.03.2015</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t Profit : Rs 25,000/- (inclusive of Non Trading income of Rs 5,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nding Charges : Rs 1,00,000/- (including un insurd charges of Rs. 2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Rs 4,00,000/-</a:t>
            </a:r>
            <a:endParaRPr b="0" lang="en-US" sz="2000" spc="-1" strike="noStrike">
              <a:solidFill>
                <a:srgbClr val="000000"/>
              </a:solidFill>
              <a:latin typeface="Times New Roman"/>
            </a:endParaRPr>
          </a:p>
          <a:p>
            <a:pPr lvl="1" marL="85716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urnover for period 01.01.2016 to 30.04.2016 = Rs 5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 of this, turnover of Rs 20,000/- was received from other premises hired for the period of interruption @rent of Rs 900/- per month</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rnover  - Period 01.01.2015 to 30.04.2015 Rs 1,10,0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vings in insured charges during period of insurance Rs.900/-</a:t>
            </a:r>
            <a:endParaRPr b="0" lang="en-US" sz="2000" spc="-1" strike="noStrike">
              <a:solidFill>
                <a:srgbClr val="000000"/>
              </a:solidFill>
              <a:latin typeface="Times New Roman"/>
            </a:endParaRPr>
          </a:p>
          <a:p>
            <a:pPr lvl="1" marL="857160" indent="-457200">
              <a:lnSpc>
                <a:spcPct val="100000"/>
              </a:lnSpc>
              <a:spcBef>
                <a:spcPts val="49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nual Turnover Rs 4,80,000/</a:t>
            </a:r>
            <a:endParaRPr b="0" lang="en-US" sz="2000" spc="-1" strike="noStrike">
              <a:solidFill>
                <a:srgbClr val="000000"/>
              </a:solidFill>
              <a:latin typeface="Times New Roman"/>
            </a:endParaRPr>
          </a:p>
          <a:p>
            <a:pPr lvl="1" marL="85716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6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UTION</a:t>
            </a:r>
            <a:endParaRPr b="0" lang="en-US" sz="2000" spc="-1" strike="noStrike">
              <a:solidFill>
                <a:srgbClr val="000000"/>
              </a:solidFill>
              <a:latin typeface="Times New Roman"/>
            </a:endParaRPr>
          </a:p>
        </p:txBody>
      </p:sp>
      <p:sp>
        <p:nvSpPr>
          <p:cNvPr id="217" name=""/>
          <p:cNvSpPr txBox="1"/>
          <p:nvPr/>
        </p:nvSpPr>
        <p:spPr>
          <a:xfrm>
            <a:off x="685800" y="597960"/>
            <a:ext cx="7772400" cy="6248520"/>
          </a:xfrm>
          <a:prstGeom prst="rect">
            <a:avLst/>
          </a:prstGeom>
          <a:noFill/>
          <a:ln w="0">
            <a:noFill/>
          </a:ln>
        </p:spPr>
        <p:txBody>
          <a:bodyPr anchor="t">
            <a:normAutofit fontScale="8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1: TO FIND GROSS PROFIT (PREVIOUS YEAR)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 PROFIT: Rs 25,000/- LESS NON TRADING INCOME OF Rs 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5,000-5000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NDING CHARGES: Rs 1,00,000/- LESS UN INSURED STANDING CHARGES OF Rs 2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00,000 – 20,000 = 8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PROFIT = NET PROFIT + STANDING CHARG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80,000 = 1,0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2: TO FIND % OF RATE OF GROSS PROFIT (R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OF RGP =            </a:t>
            </a:r>
            <a:r>
              <a:rPr b="0" lang="en-US" sz="1600" spc="-1" strike="noStrike" u="sng">
                <a:solidFill>
                  <a:srgbClr val="000000"/>
                </a:solidFill>
                <a:uFillTx/>
                <a:latin typeface="Arial"/>
                <a:ea typeface="Arial"/>
              </a:rPr>
              <a:t>PREVIOUS YEAR GP </a:t>
            </a:r>
            <a:r>
              <a:rPr b="0" lang="en-US" sz="1600" spc="-1" strike="noStrike">
                <a:solidFill>
                  <a:srgbClr val="000000"/>
                </a:solidFill>
                <a:latin typeface="Arial"/>
                <a:ea typeface="Arial"/>
              </a:rPr>
              <a:t> X 1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PREVIUOS FINANCIAL YEAR TURN O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1,00,000 </a:t>
            </a:r>
            <a:r>
              <a:rPr b="0" lang="en-US" sz="1600" spc="-1" strike="noStrike">
                <a:solidFill>
                  <a:srgbClr val="000000"/>
                </a:solidFill>
                <a:latin typeface="Arial"/>
                <a:ea typeface="Arial"/>
              </a:rPr>
              <a:t> X 100  = 25%</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4,00,000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3: TO FIND REDUCTION TURN OVER (RTO)</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TO = STANDARD TURN OVER – ACTUAL TURN OVER DURING INTERRUPTION PERIO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10,000 – 50,000 = 60,000</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4: TO FIND GROSS LOSS OF GP</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GP ON RTO</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ROSS LOSS OF GP = 25% OF 60,000 = 15,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59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19" name=""/>
          <p:cNvSpPr txBox="1"/>
          <p:nvPr/>
        </p:nvSpPr>
        <p:spPr>
          <a:xfrm>
            <a:off x="228600" y="685440"/>
            <a:ext cx="8686800" cy="61722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5: TO FIND INCREASED COST OF WORKING (ICW)</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IS SUBJECT TO </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a:t>
            </a:r>
            <a:endParaRPr b="0" lang="en-US" sz="1600" spc="-1" strike="noStrike">
              <a:solidFill>
                <a:srgbClr val="000000"/>
              </a:solidFill>
              <a:latin typeface="Times New Roman"/>
            </a:endParaRPr>
          </a:p>
          <a:p>
            <a:pPr>
              <a:lnSpc>
                <a:spcPct val="10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L STSNDING CHARGES ARE INSUR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CONOMIC LIMIT: TURN OVER SAVED DURING INTERRUPTION  PERIOD IS Rs 20,000/- BY SPENDING Rs 3,600/- (4 MONTHS RENT X Rs 9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ARRIVE ECCONOMIC LIMT  APPLY % OF RGP ON TURN OVER SAVED AND COMPARE THE ACTUAL AMOUNT SPE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 X 20,000 = 5,000/- IS THROSHOLD LIMIT. HENCE Rs 3,600/- IS PAYABL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TH REGARD TO SC THE INSURED HAS OMITED CERTAIN SC AND NOT INSURED ALL SC. HENCE THE ICW PAYABLE SHALL BE PROPORTIONATELY REDUC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CW PAYABLE = </a:t>
            </a:r>
            <a:r>
              <a:rPr b="0" lang="en-US" sz="1600" spc="-1" strike="noStrike" u="sng">
                <a:solidFill>
                  <a:srgbClr val="000000"/>
                </a:solidFill>
                <a:uFillTx/>
                <a:latin typeface="Arial"/>
                <a:ea typeface="Arial"/>
              </a:rPr>
              <a:t>NP + INSURED SC </a:t>
            </a:r>
            <a:r>
              <a:rPr b="0" lang="en-US" sz="1600" spc="-1" strike="noStrike">
                <a:solidFill>
                  <a:srgbClr val="000000"/>
                </a:solidFill>
                <a:latin typeface="Arial"/>
                <a:ea typeface="Arial"/>
              </a:rPr>
              <a:t> X ICW</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P + ALL SC</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20,000 + 80,000</a:t>
            </a:r>
            <a:r>
              <a:rPr b="0" lang="en-US" sz="1600" spc="-1" strike="noStrike">
                <a:solidFill>
                  <a:srgbClr val="000000"/>
                </a:solidFill>
                <a:latin typeface="Arial"/>
                <a:ea typeface="Arial"/>
              </a:rPr>
              <a:t>  X 3600  = 3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0,000 + 1,00,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ea typeface="Arial"/>
              </a:rPr>
              <a:t>STEP 6: TO FIND GROSS LOS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 GROSS LOSS OF GP AND ICW = 15,000 + 3,000 = 18,0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SS SAVINGS IN INSURED SC DURING PERIOD OF INSURANCE (DATA AS GIVEN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8,000 – 900 = 17,1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SOL CONTI…..</a:t>
            </a:r>
            <a:endParaRPr b="0" lang="en-US" sz="2000" spc="-1" strike="noStrike">
              <a:solidFill>
                <a:srgbClr val="000000"/>
              </a:solidFill>
              <a:latin typeface="Times New Roman"/>
            </a:endParaRPr>
          </a:p>
        </p:txBody>
      </p:sp>
      <p:sp>
        <p:nvSpPr>
          <p:cNvPr id="221" name=""/>
          <p:cNvSpPr txBox="1"/>
          <p:nvPr/>
        </p:nvSpPr>
        <p:spPr>
          <a:xfrm>
            <a:off x="685800" y="1981080"/>
            <a:ext cx="7772400" cy="41148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ea typeface="Arial"/>
              </a:rPr>
              <a:t>STEP 7: TO FIND ADEQUACY OF SUM INSUR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ULTIPLY % OF RGP ON ANNUAL TO AND COMPARE THE SUM INSURED UNDER THE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5% OF Rs 4,80,000 = 1,20,000 WHERE AS THE SUM INSURED IS Rs 80,000 HENCE THER IS A UNDER INSURANC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NET LOSS PAYABLE BEFORE EXCESS IS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u="sng">
                <a:solidFill>
                  <a:srgbClr val="000000"/>
                </a:solidFill>
                <a:uFillTx/>
                <a:latin typeface="Arial"/>
                <a:ea typeface="Arial"/>
              </a:rPr>
              <a:t> </a:t>
            </a:r>
            <a:r>
              <a:rPr b="0" lang="en-US" sz="1600" spc="-1" strike="noStrike" u="sng">
                <a:solidFill>
                  <a:srgbClr val="000000"/>
                </a:solidFill>
                <a:uFillTx/>
                <a:latin typeface="Arial"/>
                <a:ea typeface="Arial"/>
              </a:rPr>
              <a:t>80,000  </a:t>
            </a:r>
            <a:r>
              <a:rPr b="0" lang="en-US" sz="1600" spc="-1" strike="noStrike">
                <a:solidFill>
                  <a:srgbClr val="000000"/>
                </a:solidFill>
                <a:latin typeface="Arial"/>
                <a:ea typeface="Arial"/>
              </a:rPr>
              <a:t> X 17,100 = 11,400/-.</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1,20,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Arial"/>
                <a:ea typeface="Arial"/>
              </a:rPr>
              <a:t>ADD ON / CLAUSES</a:t>
            </a:r>
            <a:endParaRPr b="0" lang="en-US" sz="2000" spc="-1" strike="noStrike">
              <a:solidFill>
                <a:srgbClr val="000000"/>
              </a:solidFill>
              <a:latin typeface="Times New Roman"/>
            </a:endParaRPr>
          </a:p>
        </p:txBody>
      </p:sp>
      <p:sp>
        <p:nvSpPr>
          <p:cNvPr id="223" name=""/>
          <p:cNvSpPr txBox="1"/>
          <p:nvPr/>
        </p:nvSpPr>
        <p:spPr>
          <a:xfrm>
            <a:off x="685440" y="1981080"/>
            <a:ext cx="8077320" cy="41148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SUPPLI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CUSTOMER PREMISES </a:t>
            </a:r>
            <a:r>
              <a:rPr b="0" lang="en-AU" sz="1600" spc="-1" strike="noStrike">
                <a:solidFill>
                  <a:srgbClr val="000000"/>
                </a:solidFill>
                <a:latin typeface="Times New Roman"/>
              </a:rPr>
              <a:t>The cover is against consequential loss to the insureds arising out of their customers not taking delivery of the products, exclusively manufactured for them, as a result of the operation of the insured perils at the customers’ premise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 indemnity period under the Suppliers/Customers extension shall be identical to that under the main Polic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FAILURE OF UTILITY SERVICES (FOUS) </a:t>
            </a:r>
            <a:r>
              <a:rPr b="1" lang="en-AU" sz="1600" spc="-1" strike="noStrike">
                <a:solidFill>
                  <a:srgbClr val="000000"/>
                </a:solidFill>
                <a:latin typeface="Arial"/>
                <a:ea typeface="Arial"/>
              </a:rPr>
              <a:t>electricity/gas/water supply</a:t>
            </a:r>
            <a:r>
              <a:rPr b="0" lang="en-AU" sz="1600" spc="-1" strike="noStrike">
                <a:solidFill>
                  <a:srgbClr val="000000"/>
                </a:solidFill>
                <a:latin typeface="Arial"/>
                <a:ea typeface="Arial"/>
              </a:rPr>
              <a:t>: IP 60 DAY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RETURN OF PREMIUM CLAU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ACCUMULATED STOCK</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partmental Clause</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3160" y="1600200"/>
            <a:ext cx="8001000" cy="2209680"/>
          </a:xfrm>
          <a:prstGeom prst="rect">
            <a:avLst/>
          </a:prstGeom>
          <a:noFill/>
          <a:ln w="76320">
            <a:solidFill>
              <a:srgbClr val="3399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Arial"/>
              </a:rPr>
              <a:t>FIRE CLAIMS MANAGEMENT</a:t>
            </a:r>
            <a:endParaRPr b="0" lang="en-US" sz="5400" spc="-1" strike="noStrike">
              <a:solidFill>
                <a:srgbClr val="000000"/>
              </a:solidFill>
              <a:latin typeface="Times New Roman"/>
            </a:endParaRPr>
          </a:p>
        </p:txBody>
      </p:sp>
      <p:sp>
        <p:nvSpPr>
          <p:cNvPr id="225" name="PlaceHolder 2"/>
          <p:cNvSpPr>
            <a:spLocks noGrp="1"/>
          </p:cNvSpPr>
          <p:nvPr>
            <p:ph type="subTitle"/>
          </p:nvPr>
        </p:nvSpPr>
        <p:spPr>
          <a:xfrm>
            <a:off x="1600200" y="688104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KEY PROVISIONS</a:t>
            </a:r>
            <a:endParaRPr b="0" lang="en-US" sz="2400" spc="-1" strike="noStrike">
              <a:solidFill>
                <a:srgbClr val="000000"/>
              </a:solidFill>
              <a:latin typeface="Times New Roman"/>
            </a:endParaRPr>
          </a:p>
        </p:txBody>
      </p:sp>
      <p:sp>
        <p:nvSpPr>
          <p:cNvPr id="61" name=""/>
          <p:cNvSpPr txBox="1"/>
          <p:nvPr/>
        </p:nvSpPr>
        <p:spPr>
          <a:xfrm>
            <a:off x="228600" y="1066680"/>
            <a:ext cx="8229600" cy="5562720"/>
          </a:xfrm>
          <a:prstGeom prst="rect">
            <a:avLst/>
          </a:prstGeom>
          <a:noFill/>
          <a:ln w="0">
            <a:noFill/>
          </a:ln>
        </p:spPr>
        <p:txBody>
          <a:bodyPr anchor="t">
            <a:normAutofit/>
          </a:bodyPr>
          <a:p>
            <a:pPr marL="343080" indent="-343080" algn="just">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EXISTING SF&amp;SP, FIRE FLOATER, FIRE DECLARATION , FIRE FLOATER DECLARATION, FIRE SIMPLE RISK,FIRE PETROCHEMICAL ARE DISCONTINUED AND SHOULD NOT ISSUED FROM 01.04.2021 FOR THE SUM INSURED BAND AS STATED IN THE PREVIOUS SLID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ea typeface="Arial"/>
              </a:rPr>
              <a:t>HOWEVER FOR ALL RISKS (OTHERTHAN DWELLINGS), WHERE THE VAR AT ONE LOCATION IS MORE THAN Rs 50 CRORE THE EXISITING SF&amp;SP SHALL CONTINU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d600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Arial"/>
                <a:ea typeface="Arial"/>
              </a:rPr>
              <a:t>IN CASE OF MULTIPLE LOCATION FIRE POLICIES WHERE THE SUM INSURED OF AT LEAST ONE OF THE LOCATIONIS MORE THAN Rs 50 CRORE CAN BE UNDERWRITTEN UNDER SF&amp;SP POLICY</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Arial"/>
              </a:rPr>
              <a:t>IF SEPARATE POLICIES ARE ISSUED THEN POLICY RELEVANT TO THE INDIVIDUAL SUM INSURED TO BE ISSUED. ALL EXISITING FIRE POLICIESWHICH FALLS UNDER NEW PRODUCTS SHALL CONTINUE TILL ITS EXPIRY AND SHALL BE RENEWED AS PER THE NEW PROVI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Comic Sans MS"/>
              </a:rPr>
              <a:t>INTRODUCTION</a:t>
            </a:r>
            <a:endParaRPr b="0" lang="en-US" sz="4400" spc="-1" strike="noStrike">
              <a:solidFill>
                <a:srgbClr val="000000"/>
              </a:solidFill>
              <a:latin typeface="Times New Roman"/>
            </a:endParaRPr>
          </a:p>
        </p:txBody>
      </p:sp>
      <p:sp>
        <p:nvSpPr>
          <p:cNvPr id="227" name="PlaceHolder 2"/>
          <p:cNvSpPr>
            <a:spLocks noGrp="1"/>
          </p:cNvSpPr>
          <p:nvPr>
            <p:ph type="subTitle"/>
          </p:nvPr>
        </p:nvSpPr>
        <p:spPr>
          <a:xfrm>
            <a:off x="228600" y="990360"/>
            <a:ext cx="8610480" cy="52578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SETTELMENT OF CLAIM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3333cc"/>
                </a:solidFill>
                <a:latin typeface="Comic Sans MS"/>
              </a:rPr>
              <a:t>PRIMARY SERVI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996633"/>
                </a:solidFill>
                <a:latin typeface="Comic Sans MS"/>
              </a:rPr>
              <a:t>PROMPTLY AND FAIRL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9900"/>
                </a:solidFill>
                <a:latin typeface="Comic Sans MS"/>
              </a:rPr>
              <a:t>BASED ON CONSIDERATIONS OF </a:t>
            </a:r>
            <a:r>
              <a:rPr b="1" lang="en-US" sz="2400" spc="-1" strike="noStrike">
                <a:solidFill>
                  <a:srgbClr val="00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Comic Sans MS"/>
              </a:rPr>
              <a:t>	</a:t>
            </a:r>
            <a:r>
              <a:rPr b="1" lang="en-US" sz="2400" spc="-1" strike="noStrike">
                <a:solidFill>
                  <a:srgbClr val="009900"/>
                </a:solidFill>
                <a:latin typeface="Comic Sans MS"/>
              </a:rPr>
              <a:t>FAIRNESS AND EQ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9900"/>
                </a:solidFill>
                <a:latin typeface="Comic Sans MS"/>
              </a:rPr>
              <a:t>OFFICIALS TO OBSERVE TACT,DIPLOMACY, </a:t>
            </a:r>
            <a:r>
              <a:rPr b="1" lang="en-US" sz="2400" spc="-1" strike="noStrike">
                <a:solidFill>
                  <a:srgbClr val="ff9900"/>
                </a:solidFill>
                <a:latin typeface="Comic Sans MS"/>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       </a:t>
            </a:r>
            <a:r>
              <a:rPr b="1" lang="en-US" sz="2400" spc="-1" strike="noStrike">
                <a:solidFill>
                  <a:srgbClr val="ff9900"/>
                </a:solidFill>
                <a:latin typeface="Comic Sans MS"/>
              </a:rPr>
              <a:t>COURTECY</a:t>
            </a:r>
            <a:r>
              <a:rPr b="1" lang="en-US" sz="2400" spc="-1" strike="noStrike">
                <a:solidFill>
                  <a:srgbClr val="ff9900"/>
                </a:solidFill>
                <a:latin typeface="Comic Sans MS"/>
              </a:rPr>
              <a:t>	</a:t>
            </a:r>
            <a:r>
              <a:rPr b="1" lang="en-US" sz="2400" spc="-1" strike="noStrike">
                <a:solidFill>
                  <a:srgbClr val="ff9900"/>
                </a:solidFill>
                <a:latin typeface="Comic Sans MS"/>
              </a:rPr>
              <a:t>AND PATIE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51" dur="500"/>
                                        <p:tgtEl>
                                          <p:spTgt spid="227">
                                            <p:txEl>
                                              <p:pRg st="2" end="2"/>
                                            </p:txEl>
                                          </p:spTgt>
                                        </p:tgtEl>
                                      </p:cBhvr>
                                    </p:animEffect>
                                  </p:childTnLst>
                                </p:cTn>
                              </p:par>
                              <p:par>
                                <p:cTn id="52" nodeType="withEffect" fill="hold" presetClass="entr" presetID="5" presetSubtype="10">
                                  <p:stCondLst>
                                    <p:cond delay="0"/>
                                  </p:stCondLst>
                                  <p:childTnLst>
                                    <p:set>
                                      <p:cBhvr>
                                        <p:cTn id="53"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54" dur="500"/>
                                        <p:tgtEl>
                                          <p:spTgt spid="227">
                                            <p:txEl>
                                              <p:pRg st="4" end="4"/>
                                            </p:txEl>
                                          </p:spTgt>
                                        </p:tgtEl>
                                      </p:cBhvr>
                                    </p:animEffect>
                                  </p:childTnLst>
                                </p:cTn>
                              </p:par>
                              <p:par>
                                <p:cTn id="55" nodeType="withEffect" fill="hold" presetClass="entr" presetID="5" presetSubtype="10">
                                  <p:stCondLst>
                                    <p:cond delay="0"/>
                                  </p:stCondLst>
                                  <p:childTnLst>
                                    <p:set>
                                      <p:cBhvr>
                                        <p:cTn id="56" dur="1" fill="hold">
                                          <p:stCondLst>
                                            <p:cond delay="0"/>
                                          </p:stCondLst>
                                        </p:cTn>
                                        <p:tgtEl>
                                          <p:spTgt spid="227">
                                            <p:txEl>
                                              <p:pRg st="6" end="6"/>
                                            </p:txEl>
                                          </p:spTgt>
                                        </p:tgtEl>
                                        <p:attrNameLst>
                                          <p:attrName>style.visibility</p:attrName>
                                        </p:attrNameLst>
                                      </p:cBhvr>
                                      <p:to>
                                        <p:strVal val="visible"/>
                                      </p:to>
                                    </p:set>
                                    <p:animEffect filter="checkerboard(across)" transition="in">
                                      <p:cBhvr additive="repl">
                                        <p:cTn id="57" dur="500"/>
                                        <p:tgtEl>
                                          <p:spTgt spid="227">
                                            <p:txEl>
                                              <p:pRg st="6" end="6"/>
                                            </p:txEl>
                                          </p:spTgt>
                                        </p:tgtEl>
                                      </p:cBhvr>
                                    </p:animEffect>
                                  </p:childTnLst>
                                </p:cTn>
                              </p:par>
                              <p:par>
                                <p:cTn id="58" nodeType="withEffect" fill="hold" presetClass="entr" presetID="5" presetSubtype="10">
                                  <p:stCondLst>
                                    <p:cond delay="0"/>
                                  </p:stCondLst>
                                  <p:childTnLst>
                                    <p:set>
                                      <p:cBhvr>
                                        <p:cTn id="59" dur="1" fill="hold">
                                          <p:stCondLst>
                                            <p:cond delay="0"/>
                                          </p:stCondLst>
                                        </p:cTn>
                                        <p:tgtEl>
                                          <p:spTgt spid="227">
                                            <p:txEl>
                                              <p:pRg st="7" end="7"/>
                                            </p:txEl>
                                          </p:spTgt>
                                        </p:tgtEl>
                                        <p:attrNameLst>
                                          <p:attrName>style.visibility</p:attrName>
                                        </p:attrNameLst>
                                      </p:cBhvr>
                                      <p:to>
                                        <p:strVal val="visible"/>
                                      </p:to>
                                    </p:set>
                                    <p:animEffect filter="checkerboard(across)" transition="in">
                                      <p:cBhvr additive="repl">
                                        <p:cTn id="60" dur="500"/>
                                        <p:tgtEl>
                                          <p:spTgt spid="227">
                                            <p:txEl>
                                              <p:pRg st="7" end="7"/>
                                            </p:txEl>
                                          </p:spTgt>
                                        </p:tgtEl>
                                      </p:cBhvr>
                                    </p:animEffect>
                                  </p:childTnLst>
                                </p:cTn>
                              </p:par>
                              <p:par>
                                <p:cTn id="61" nodeType="withEffect" fill="hold" presetClass="entr" presetID="5" presetSubtype="10">
                                  <p:stCondLst>
                                    <p:cond delay="0"/>
                                  </p:stCondLst>
                                  <p:childTnLst>
                                    <p:set>
                                      <p:cBhvr>
                                        <p:cTn id="62" dur="1" fill="hold">
                                          <p:stCondLst>
                                            <p:cond delay="0"/>
                                          </p:stCondLst>
                                        </p:cTn>
                                        <p:tgtEl>
                                          <p:spTgt spid="227">
                                            <p:txEl>
                                              <p:pRg st="9" end="9"/>
                                            </p:txEl>
                                          </p:spTgt>
                                        </p:tgtEl>
                                        <p:attrNameLst>
                                          <p:attrName>style.visibility</p:attrName>
                                        </p:attrNameLst>
                                      </p:cBhvr>
                                      <p:to>
                                        <p:strVal val="visible"/>
                                      </p:to>
                                    </p:set>
                                    <p:animEffect filter="checkerboard(across)" transition="in">
                                      <p:cBhvr additive="repl">
                                        <p:cTn id="63" dur="500"/>
                                        <p:tgtEl>
                                          <p:spTgt spid="227">
                                            <p:txEl>
                                              <p:pRg st="9" end="9"/>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27">
                                            <p:txEl>
                                              <p:pRg st="10" end="10"/>
                                            </p:txEl>
                                          </p:spTgt>
                                        </p:tgtEl>
                                        <p:attrNameLst>
                                          <p:attrName>style.visibility</p:attrName>
                                        </p:attrNameLst>
                                      </p:cBhvr>
                                      <p:to>
                                        <p:strVal val="visible"/>
                                      </p:to>
                                    </p:set>
                                    <p:animEffect filter="checkerboard(across)" transition="in">
                                      <p:cBhvr additive="repl">
                                        <p:cTn id="66" dur="500"/>
                                        <p:tgtEl>
                                          <p:spTgt spid="227">
                                            <p:txEl>
                                              <p:pRg st="10" end="1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71" dur="500"/>
                                        <p:tgtEl>
                                          <p:spTgt spid="227">
                                            <p:txEl>
                                              <p:pRg st="2" end="2"/>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74" dur="500"/>
                                        <p:tgtEl>
                                          <p:spTgt spid="227">
                                            <p:txEl>
                                              <p:pRg st="4" end="4"/>
                                            </p:txEl>
                                          </p:spTgt>
                                        </p:tgtEl>
                                      </p:cBhvr>
                                    </p:animEffect>
                                  </p:childTnLst>
                                </p:cTn>
                              </p:par>
                              <p:par>
                                <p:cTn id="75" nodeType="withEffect" fill="hold" presetClass="entr" presetID="3" presetSubtype="10">
                                  <p:stCondLst>
                                    <p:cond delay="0"/>
                                  </p:stCondLst>
                                  <p:childTnLst>
                                    <p:set>
                                      <p:cBhvr>
                                        <p:cTn id="76" dur="1" fill="hold">
                                          <p:stCondLst>
                                            <p:cond delay="0"/>
                                          </p:stCondLst>
                                        </p:cTn>
                                        <p:tgtEl>
                                          <p:spTgt spid="227">
                                            <p:txEl>
                                              <p:pRg st="6" end="6"/>
                                            </p:txEl>
                                          </p:spTgt>
                                        </p:tgtEl>
                                        <p:attrNameLst>
                                          <p:attrName>style.visibility</p:attrName>
                                        </p:attrNameLst>
                                      </p:cBhvr>
                                      <p:to>
                                        <p:strVal val="visible"/>
                                      </p:to>
                                    </p:set>
                                    <p:animEffect filter="blinds(horizontal)" transition="in">
                                      <p:cBhvr additive="repl">
                                        <p:cTn id="77" dur="500"/>
                                        <p:tgtEl>
                                          <p:spTgt spid="227">
                                            <p:txEl>
                                              <p:pRg st="6" end="6"/>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227">
                                            <p:txEl>
                                              <p:pRg st="7" end="7"/>
                                            </p:txEl>
                                          </p:spTgt>
                                        </p:tgtEl>
                                        <p:attrNameLst>
                                          <p:attrName>style.visibility</p:attrName>
                                        </p:attrNameLst>
                                      </p:cBhvr>
                                      <p:to>
                                        <p:strVal val="visible"/>
                                      </p:to>
                                    </p:set>
                                    <p:animEffect filter="blinds(horizontal)" transition="in">
                                      <p:cBhvr additive="repl">
                                        <p:cTn id="80" dur="500"/>
                                        <p:tgtEl>
                                          <p:spTgt spid="227">
                                            <p:txEl>
                                              <p:pRg st="7" end="7"/>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227">
                                            <p:txEl>
                                              <p:pRg st="9" end="9"/>
                                            </p:txEl>
                                          </p:spTgt>
                                        </p:tgtEl>
                                        <p:attrNameLst>
                                          <p:attrName>style.visibility</p:attrName>
                                        </p:attrNameLst>
                                      </p:cBhvr>
                                      <p:to>
                                        <p:strVal val="visible"/>
                                      </p:to>
                                    </p:set>
                                    <p:animEffect filter="blinds(horizontal)" transition="in">
                                      <p:cBhvr additive="repl">
                                        <p:cTn id="83" dur="500"/>
                                        <p:tgtEl>
                                          <p:spTgt spid="227">
                                            <p:txEl>
                                              <p:pRg st="9" end="9"/>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27">
                                            <p:txEl>
                                              <p:pRg st="10" end="10"/>
                                            </p:txEl>
                                          </p:spTgt>
                                        </p:tgtEl>
                                        <p:attrNameLst>
                                          <p:attrName>style.visibility</p:attrName>
                                        </p:attrNameLst>
                                      </p:cBhvr>
                                      <p:to>
                                        <p:strVal val="visible"/>
                                      </p:to>
                                    </p:set>
                                    <p:animEffect filter="blinds(horizontal)" transition="in">
                                      <p:cBhvr additive="repl">
                                        <p:cTn id="86" dur="500"/>
                                        <p:tgtEl>
                                          <p:spTgt spid="2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Bookman Old Style"/>
              </a:rPr>
              <a:t>WHEN A CLAIM IS REPORTED</a:t>
            </a:r>
            <a:endParaRPr b="0" lang="en-US" sz="3200" spc="-1" strike="noStrike">
              <a:solidFill>
                <a:srgbClr val="000000"/>
              </a:solidFill>
              <a:latin typeface="Times New Roman"/>
            </a:endParaRPr>
          </a:p>
        </p:txBody>
      </p:sp>
      <p:sp>
        <p:nvSpPr>
          <p:cNvPr id="229" name="PlaceHolder 2"/>
          <p:cNvSpPr>
            <a:spLocks noGrp="1"/>
          </p:cNvSpPr>
          <p:nvPr>
            <p:ph type="subTitle"/>
          </p:nvPr>
        </p:nvSpPr>
        <p:spPr>
          <a:xfrm>
            <a:off x="380880" y="609480"/>
            <a:ext cx="8382240" cy="6019920"/>
          </a:xfrm>
          <a:prstGeom prst="rect">
            <a:avLst/>
          </a:prstGeom>
          <a:noFill/>
          <a:ln w="76320">
            <a:solidFill>
              <a:srgbClr val="ff00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HECK </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ff3300"/>
                </a:solidFill>
                <a:latin typeface="Times New Roman"/>
              </a:rPr>
              <a:t>THE POLICY IN FORCE</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ERILS COVERED</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LOCATION OF THE RISK</a:t>
            </a:r>
            <a:endParaRPr b="0" lang="en-US" sz="2400" spc="-1" strike="noStrike">
              <a:solidFill>
                <a:srgbClr val="000000"/>
              </a:solidFill>
              <a:latin typeface="Times New Roman"/>
            </a:endParaRPr>
          </a:p>
          <a:p>
            <a:pPr>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PROPERTY COVERED</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ACTION</a:t>
            </a:r>
            <a:endParaRPr b="0" lang="en-US" sz="3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6600cc"/>
                </a:solidFill>
                <a:latin typeface="Times New Roman"/>
              </a:rPr>
              <a:t>APPOINT RIGHT SERVEYOR FOR TH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RVEY &amp; ASSESSMENT OF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SUGGEST MEASURES TO MINIMSE THE LOSS</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PRELIMINARY SURVEY REPORT</a:t>
            </a:r>
            <a:endParaRPr b="0" lang="en-US" sz="2400" spc="-1" strike="noStrike">
              <a:solidFill>
                <a:srgbClr val="000000"/>
              </a:solidFill>
              <a:latin typeface="Times New Roman"/>
            </a:endParaRPr>
          </a:p>
          <a:p>
            <a:pPr>
              <a:spcBef>
                <a:spcPts val="601"/>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rPr>
              <a:t>	</a:t>
            </a:r>
            <a:r>
              <a:rPr b="1" lang="en-US" sz="2400" spc="-1" strike="noStrike">
                <a:solidFill>
                  <a:srgbClr val="6600cc"/>
                </a:solidFill>
                <a:latin typeface="Times New Roman"/>
              </a:rPr>
              <a:t>INFORM RI ABOUT THE LOS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9900"/>
                </a:solidFill>
                <a:latin typeface="Times New Roman"/>
              </a:rPr>
              <a:t>ARRANGE FOR COMPANY OFFICIAL’S INSP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93" dur="500"/>
                                        <p:tgtEl>
                                          <p:spTgt spid="229">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96" dur="500"/>
                                        <p:tgtEl>
                                          <p:spTgt spid="229">
                                            <p:txEl>
                                              <p:pRg st="2" end="2"/>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99" dur="500"/>
                                        <p:tgtEl>
                                          <p:spTgt spid="229">
                                            <p:txEl>
                                              <p:pRg st="3" end="3"/>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02" dur="500"/>
                                        <p:tgtEl>
                                          <p:spTgt spid="229">
                                            <p:txEl>
                                              <p:pRg st="4" end="4"/>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29">
                                            <p:txEl>
                                              <p:pRg st="6" end="6"/>
                                            </p:txEl>
                                          </p:spTgt>
                                        </p:tgtEl>
                                        <p:attrNameLst>
                                          <p:attrName>style.visibility</p:attrName>
                                        </p:attrNameLst>
                                      </p:cBhvr>
                                      <p:to>
                                        <p:strVal val="visible"/>
                                      </p:to>
                                    </p:set>
                                    <p:animEffect filter="box(in)" transition="in">
                                      <p:cBhvr additive="repl">
                                        <p:cTn id="107" dur="500"/>
                                        <p:tgtEl>
                                          <p:spTgt spid="229">
                                            <p:txEl>
                                              <p:pRg st="6" end="6"/>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229">
                                            <p:txEl>
                                              <p:pRg st="7" end="7"/>
                                            </p:txEl>
                                          </p:spTgt>
                                        </p:tgtEl>
                                        <p:attrNameLst>
                                          <p:attrName>style.visibility</p:attrName>
                                        </p:attrNameLst>
                                      </p:cBhvr>
                                      <p:to>
                                        <p:strVal val="visible"/>
                                      </p:to>
                                    </p:set>
                                    <p:animEffect filter="box(in)" transition="in">
                                      <p:cBhvr additive="repl">
                                        <p:cTn id="110" dur="500"/>
                                        <p:tgtEl>
                                          <p:spTgt spid="229">
                                            <p:txEl>
                                              <p:pRg st="7" end="7"/>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229">
                                            <p:txEl>
                                              <p:pRg st="8" end="8"/>
                                            </p:txEl>
                                          </p:spTgt>
                                        </p:tgtEl>
                                        <p:attrNameLst>
                                          <p:attrName>style.visibility</p:attrName>
                                        </p:attrNameLst>
                                      </p:cBhvr>
                                      <p:to>
                                        <p:strVal val="visible"/>
                                      </p:to>
                                    </p:set>
                                    <p:animEffect filter="box(in)" transition="in">
                                      <p:cBhvr additive="repl">
                                        <p:cTn id="113" dur="500"/>
                                        <p:tgtEl>
                                          <p:spTgt spid="229">
                                            <p:txEl>
                                              <p:pRg st="8" end="8"/>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229">
                                            <p:txEl>
                                              <p:pRg st="9" end="9"/>
                                            </p:txEl>
                                          </p:spTgt>
                                        </p:tgtEl>
                                        <p:attrNameLst>
                                          <p:attrName>style.visibility</p:attrName>
                                        </p:attrNameLst>
                                      </p:cBhvr>
                                      <p:to>
                                        <p:strVal val="visible"/>
                                      </p:to>
                                    </p:set>
                                    <p:animEffect filter="box(in)" transition="in">
                                      <p:cBhvr additive="repl">
                                        <p:cTn id="116" dur="500"/>
                                        <p:tgtEl>
                                          <p:spTgt spid="229">
                                            <p:txEl>
                                              <p:pRg st="9" end="9"/>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229">
                                            <p:txEl>
                                              <p:pRg st="10" end="10"/>
                                            </p:txEl>
                                          </p:spTgt>
                                        </p:tgtEl>
                                        <p:attrNameLst>
                                          <p:attrName>style.visibility</p:attrName>
                                        </p:attrNameLst>
                                      </p:cBhvr>
                                      <p:to>
                                        <p:strVal val="visible"/>
                                      </p:to>
                                    </p:set>
                                    <p:animEffect filter="box(in)" transition="in">
                                      <p:cBhvr additive="repl">
                                        <p:cTn id="119" dur="500"/>
                                        <p:tgtEl>
                                          <p:spTgt spid="229">
                                            <p:txEl>
                                              <p:pRg st="10" end="10"/>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229">
                                            <p:txEl>
                                              <p:pRg st="11" end="11"/>
                                            </p:txEl>
                                          </p:spTgt>
                                        </p:tgtEl>
                                        <p:attrNameLst>
                                          <p:attrName>style.visibility</p:attrName>
                                        </p:attrNameLst>
                                      </p:cBhvr>
                                      <p:to>
                                        <p:strVal val="visible"/>
                                      </p:to>
                                    </p:set>
                                    <p:animEffect filter="box(in)" transition="in">
                                      <p:cBhvr additive="repl">
                                        <p:cTn id="122" dur="500"/>
                                        <p:tgtEl>
                                          <p:spTgt spid="22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160" y="-360"/>
            <a:ext cx="79246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Bookman Old Style"/>
              </a:rPr>
              <a:t>Important Conditions</a:t>
            </a:r>
            <a:endParaRPr b="0" lang="en-US" sz="3200" spc="-1" strike="noStrike">
              <a:solidFill>
                <a:srgbClr val="000000"/>
              </a:solidFill>
              <a:latin typeface="Times New Roman"/>
            </a:endParaRPr>
          </a:p>
        </p:txBody>
      </p:sp>
      <p:sp>
        <p:nvSpPr>
          <p:cNvPr id="231" name="PlaceHolder 2"/>
          <p:cNvSpPr>
            <a:spLocks noGrp="1"/>
          </p:cNvSpPr>
          <p:nvPr>
            <p:ph type="subTitle"/>
          </p:nvPr>
        </p:nvSpPr>
        <p:spPr>
          <a:xfrm>
            <a:off x="456840" y="685800"/>
            <a:ext cx="8381880" cy="5486400"/>
          </a:xfrm>
          <a:prstGeom prst="rect">
            <a:avLst/>
          </a:prstGeom>
          <a:noFill/>
          <a:ln w="76320">
            <a:solidFill>
              <a:srgbClr val="993300"/>
            </a:solidFill>
            <a:miter/>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1. </a:t>
            </a:r>
            <a:r>
              <a:rPr b="1" lang="en-US" sz="2400" spc="-1" strike="noStrike">
                <a:solidFill>
                  <a:srgbClr val="ff3300"/>
                </a:solidFill>
                <a:latin typeface="Bookman Old Style"/>
              </a:rPr>
              <a:t>Misrepresentation, Misdescription or Non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Disclosure of any Material Particula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Change of trade/manufacturing activ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3. </a:t>
            </a:r>
            <a:r>
              <a:rPr b="1" lang="en-US" sz="2400" spc="-1" strike="noStrike">
                <a:solidFill>
                  <a:srgbClr val="996633"/>
                </a:solidFill>
                <a:latin typeface="Bookman Old Style"/>
              </a:rPr>
              <a:t> Claim be in respect fraudulent or if any fals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declaration</a:t>
            </a:r>
            <a:r>
              <a:rPr b="1" lang="en-US" sz="2400" spc="-1" strike="noStrike">
                <a:solidFill>
                  <a:srgbClr val="ff3300"/>
                </a:solidFill>
                <a:latin typeface="Bookman Old Style"/>
              </a:rPr>
              <a: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4.  Reinstatement valu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5.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6.  Contribution, subrogation, Reinstatemen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     </a:t>
            </a:r>
            <a:r>
              <a:rPr b="1" lang="en-US" sz="2400" spc="-1" strike="noStrike">
                <a:solidFill>
                  <a:srgbClr val="6600cc"/>
                </a:solidFill>
                <a:latin typeface="Bookman Old Style"/>
              </a:rPr>
              <a:t>premium</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8686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Bookman Old Style"/>
              </a:rPr>
              <a:t>DOCUMENTS REQUIRED FOR SETTLEMENT OF A CLAIM</a:t>
            </a:r>
            <a:endParaRPr b="0" lang="en-US" sz="2800" spc="-1" strike="noStrike">
              <a:solidFill>
                <a:srgbClr val="000000"/>
              </a:solidFill>
              <a:latin typeface="Times New Roman"/>
            </a:endParaRPr>
          </a:p>
        </p:txBody>
      </p:sp>
      <p:sp>
        <p:nvSpPr>
          <p:cNvPr id="233" name="PlaceHolder 2"/>
          <p:cNvSpPr>
            <a:spLocks noGrp="1"/>
          </p:cNvSpPr>
          <p:nvPr>
            <p:ph type="subTitle"/>
          </p:nvPr>
        </p:nvSpPr>
        <p:spPr>
          <a:xfrm>
            <a:off x="228240" y="1143000"/>
            <a:ext cx="8458200" cy="5486400"/>
          </a:xfrm>
          <a:prstGeom prst="rect">
            <a:avLst/>
          </a:prstGeom>
          <a:noFill/>
          <a:ln w="76320">
            <a:solidFill>
              <a:srgbClr val="339966"/>
            </a:solidFill>
            <a:miter/>
          </a:ln>
        </p:spPr>
        <p:txBody>
          <a:bodyPr anchor="t">
            <a:no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Copy of Policy with complete term, condition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warranties and endorsements if any .</a:t>
            </a:r>
            <a:endParaRPr b="0" lang="en-US" sz="2400" spc="-1" strike="noStrike">
              <a:solidFill>
                <a:srgbClr val="000000"/>
              </a:solidFill>
              <a:latin typeface="Times New Roman"/>
            </a:endParaRPr>
          </a:p>
          <a:p>
            <a:pPr>
              <a:lnSpc>
                <a:spcPct val="90000"/>
              </a:lnSpc>
              <a:spcBef>
                <a:spcPts val="601"/>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Survey report (Preliminary and final)</a:t>
            </a:r>
            <a:endParaRPr b="0" lang="en-US" sz="2400" spc="-1" strike="noStrike">
              <a:solidFill>
                <a:srgbClr val="000000"/>
              </a:solidFill>
              <a:latin typeface="Times New Roman"/>
            </a:endParaRPr>
          </a:p>
          <a:p>
            <a:pPr>
              <a:lnSpc>
                <a:spcPct val="90000"/>
              </a:lnSpc>
              <a:spcBef>
                <a:spcPts val="601"/>
              </a:spcBef>
              <a:buClr>
                <a:srgbClr val="ff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Claim form duly completed by the insured.</a:t>
            </a:r>
            <a:endParaRPr b="0" lang="en-US" sz="2400" spc="-1" strike="noStrike">
              <a:solidFill>
                <a:srgbClr val="000000"/>
              </a:solidFill>
              <a:latin typeface="Times New Roman"/>
            </a:endParaRPr>
          </a:p>
          <a:p>
            <a:pPr>
              <a:lnSpc>
                <a:spcPct val="90000"/>
              </a:lnSpc>
              <a:spcBef>
                <a:spcPts val="601"/>
              </a:spcBef>
              <a:buClr>
                <a:srgbClr val="66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Bookman Old Style"/>
              </a:rPr>
              <a:t>Police Report (For RSMD &amp; terrorism claims)</a:t>
            </a:r>
            <a:endParaRPr b="0" lang="en-US" sz="2400" spc="-1" strike="noStrike">
              <a:solidFill>
                <a:srgbClr val="000000"/>
              </a:solidFill>
              <a:latin typeface="Times New Roman"/>
            </a:endParaRPr>
          </a:p>
          <a:p>
            <a:pPr>
              <a:lnSpc>
                <a:spcPct val="90000"/>
              </a:lnSpc>
              <a:spcBef>
                <a:spcPts val="601"/>
              </a:spcBef>
              <a:buClr>
                <a:srgbClr val="ff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Fire Brigade Report for fire claims</a:t>
            </a:r>
            <a:endParaRPr b="0" lang="en-US" sz="2400" spc="-1" strike="noStrike">
              <a:solidFill>
                <a:srgbClr val="000000"/>
              </a:solidFill>
              <a:latin typeface="Times New Roman"/>
            </a:endParaRPr>
          </a:p>
          <a:p>
            <a:pPr>
              <a:lnSpc>
                <a:spcPct val="90000"/>
              </a:lnSpc>
              <a:spcBef>
                <a:spcPts val="601"/>
              </a:spcBef>
              <a:buClr>
                <a:srgbClr val="9966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Meteorological Report (in case of Act of God Peril claims</a:t>
            </a:r>
            <a:r>
              <a:rPr b="1" lang="en-US" sz="2400" spc="-1" strike="noStrike">
                <a:solidFill>
                  <a:srgbClr val="000000"/>
                </a:solidFill>
                <a:latin typeface="Bookman Old Style"/>
              </a:rPr>
              <a:t>)</a:t>
            </a:r>
            <a:endParaRPr b="0" lang="en-US" sz="2400" spc="-1" strike="noStrike">
              <a:solidFill>
                <a:srgbClr val="000000"/>
              </a:solidFill>
              <a:latin typeface="Times New Roman"/>
            </a:endParaRPr>
          </a:p>
          <a:p>
            <a:pPr>
              <a:lnSpc>
                <a:spcPct val="90000"/>
              </a:lnSpc>
              <a:spcBef>
                <a:spcPts val="601"/>
              </a:spcBef>
              <a:buClr>
                <a:srgbClr val="ff33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Photographs/video clips,</a:t>
            </a:r>
            <a:endParaRPr b="0" lang="en-US" sz="2400" spc="-1" strike="noStrike">
              <a:solidFill>
                <a:srgbClr val="000000"/>
              </a:solidFill>
              <a:latin typeface="Times New Roman"/>
            </a:endParaRPr>
          </a:p>
          <a:p>
            <a:pPr>
              <a:lnSpc>
                <a:spcPct val="90000"/>
              </a:lnSpc>
              <a:spcBef>
                <a:spcPts val="601"/>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Actual bills in case of RIV policies ,Removal of Debris, Architects fees etc.</a:t>
            </a:r>
            <a:endParaRPr b="0" lang="en-US" sz="2400" spc="-1" strike="noStrike">
              <a:solidFill>
                <a:srgbClr val="000000"/>
              </a:solidFill>
              <a:latin typeface="Times New Roman"/>
            </a:endParaRPr>
          </a:p>
          <a:p>
            <a:pPr>
              <a:lnSpc>
                <a:spcPct val="9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News paper cutting.</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xit" presetID="3" presetSubtype="10">
                                  <p:stCondLst>
                                    <p:cond delay="0"/>
                                  </p:stCondLst>
                                  <p:childTnLst>
                                    <p:animEffect filter="blinds(horizontal)" transition="out">
                                      <p:cBhvr additive="repl">
                                        <p:cTn id="128" dur="500"/>
                                        <p:tgtEl>
                                          <p:spTgt spid="233">
                                            <p:txEl>
                                              <p:pRg st="1" end="1"/>
                                            </p:txEl>
                                          </p:spTgt>
                                        </p:tgtEl>
                                      </p:cBhvr>
                                    </p:animEffect>
                                    <p:set>
                                      <p:cBhvr>
                                        <p:cTn id="129" dur="1" fill="hold">
                                          <p:stCondLst>
                                            <p:cond delay="499"/>
                                          </p:stCondLst>
                                        </p:cTn>
                                        <p:tgtEl>
                                          <p:spTgt spid="233">
                                            <p:txEl>
                                              <p:pRg st="1" end="1"/>
                                            </p:txEl>
                                          </p:spTgt>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xit" presetID="3" presetSubtype="10">
                                  <p:stCondLst>
                                    <p:cond delay="0"/>
                                  </p:stCondLst>
                                  <p:childTnLst>
                                    <p:animEffect filter="blinds(horizontal)" transition="out">
                                      <p:cBhvr additive="repl">
                                        <p:cTn id="133" dur="500"/>
                                        <p:tgtEl>
                                          <p:spTgt spid="233">
                                            <p:txEl>
                                              <p:pRg st="2" end="2"/>
                                            </p:txEl>
                                          </p:spTgt>
                                        </p:tgtEl>
                                      </p:cBhvr>
                                    </p:animEffect>
                                    <p:set>
                                      <p:cBhvr>
                                        <p:cTn id="134" dur="1" fill="hold">
                                          <p:stCondLst>
                                            <p:cond delay="499"/>
                                          </p:stCondLst>
                                        </p:cTn>
                                        <p:tgtEl>
                                          <p:spTgt spid="233">
                                            <p:txEl>
                                              <p:pRg st="2" end="2"/>
                                            </p:txEl>
                                          </p:spTgt>
                                        </p:tgtEl>
                                        <p:attrNameLst>
                                          <p:attrName>style.visibility</p:attrName>
                                        </p:attrNameLst>
                                      </p:cBhvr>
                                      <p:to>
                                        <p:strVal val="hidden"/>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3" presetSubtype="10">
                                  <p:stCondLst>
                                    <p:cond delay="0"/>
                                  </p:stCondLst>
                                  <p:childTnLst>
                                    <p:animEffect filter="blinds(horizontal)" transition="out">
                                      <p:cBhvr additive="repl">
                                        <p:cTn id="138" dur="500"/>
                                        <p:tgtEl>
                                          <p:spTgt spid="233">
                                            <p:txEl>
                                              <p:pRg st="3" end="3"/>
                                            </p:txEl>
                                          </p:spTgt>
                                        </p:tgtEl>
                                      </p:cBhvr>
                                    </p:animEffect>
                                    <p:set>
                                      <p:cBhvr>
                                        <p:cTn id="139" dur="1" fill="hold">
                                          <p:stCondLst>
                                            <p:cond delay="499"/>
                                          </p:stCondLst>
                                        </p:cTn>
                                        <p:tgtEl>
                                          <p:spTgt spid="233">
                                            <p:txEl>
                                              <p:pRg st="3" end="3"/>
                                            </p:txEl>
                                          </p:spTgt>
                                        </p:tgtEl>
                                        <p:attrNameLst>
                                          <p:attrName>style.visibility</p:attrName>
                                        </p:attrNameLst>
                                      </p:cBhvr>
                                      <p:to>
                                        <p:strVal val="hidden"/>
                                      </p:to>
                                    </p:set>
                                  </p:childTnLst>
                                </p:cTn>
                              </p:par>
                              <p:par>
                                <p:cTn id="140" nodeType="withEffect" fill="hold" presetClass="exit" presetID="3" presetSubtype="10">
                                  <p:stCondLst>
                                    <p:cond delay="0"/>
                                  </p:stCondLst>
                                  <p:childTnLst>
                                    <p:animEffect filter="blinds(horizontal)" transition="out">
                                      <p:cBhvr additive="repl">
                                        <p:cTn id="141" dur="500"/>
                                        <p:tgtEl>
                                          <p:spTgt spid="233">
                                            <p:txEl>
                                              <p:pRg st="4" end="4"/>
                                            </p:txEl>
                                          </p:spTgt>
                                        </p:tgtEl>
                                      </p:cBhvr>
                                    </p:animEffect>
                                    <p:set>
                                      <p:cBhvr>
                                        <p:cTn id="142" dur="1" fill="hold">
                                          <p:stCondLst>
                                            <p:cond delay="499"/>
                                          </p:stCondLst>
                                        </p:cTn>
                                        <p:tgtEl>
                                          <p:spTgt spid="233">
                                            <p:txEl>
                                              <p:pRg st="4" end="4"/>
                                            </p:txEl>
                                          </p:spTgt>
                                        </p:tgtEl>
                                        <p:attrNameLst>
                                          <p:attrName>style.visibility</p:attrName>
                                        </p:attrNameLst>
                                      </p:cBhvr>
                                      <p:to>
                                        <p:strVal val="hidden"/>
                                      </p:to>
                                    </p:set>
                                  </p:childTnLst>
                                </p:cTn>
                              </p:par>
                              <p:par>
                                <p:cTn id="143" nodeType="withEffect" fill="hold" presetClass="exit" presetID="3" presetSubtype="10">
                                  <p:stCondLst>
                                    <p:cond delay="0"/>
                                  </p:stCondLst>
                                  <p:childTnLst>
                                    <p:animEffect filter="blinds(horizontal)" transition="out">
                                      <p:cBhvr additive="repl">
                                        <p:cTn id="144" dur="500"/>
                                        <p:tgtEl>
                                          <p:spTgt spid="233">
                                            <p:txEl>
                                              <p:pRg st="5" end="5"/>
                                            </p:txEl>
                                          </p:spTgt>
                                        </p:tgtEl>
                                      </p:cBhvr>
                                    </p:animEffect>
                                    <p:set>
                                      <p:cBhvr>
                                        <p:cTn id="145" dur="1" fill="hold">
                                          <p:stCondLst>
                                            <p:cond delay="499"/>
                                          </p:stCondLst>
                                        </p:cTn>
                                        <p:tgtEl>
                                          <p:spTgt spid="233">
                                            <p:txEl>
                                              <p:pRg st="5" end="5"/>
                                            </p:txEl>
                                          </p:spTgt>
                                        </p:tgtEl>
                                        <p:attrNameLst>
                                          <p:attrName>style.visibility</p:attrName>
                                        </p:attrNameLst>
                                      </p:cBhvr>
                                      <p:to>
                                        <p:strVal val="hidden"/>
                                      </p:to>
                                    </p:set>
                                  </p:childTnLst>
                                </p:cTn>
                              </p:par>
                              <p:par>
                                <p:cTn id="146" nodeType="withEffect" fill="hold" presetClass="exit" presetID="3" presetSubtype="10">
                                  <p:stCondLst>
                                    <p:cond delay="0"/>
                                  </p:stCondLst>
                                  <p:childTnLst>
                                    <p:animEffect filter="blinds(horizontal)" transition="out">
                                      <p:cBhvr additive="repl">
                                        <p:cTn id="147" dur="500"/>
                                        <p:tgtEl>
                                          <p:spTgt spid="233">
                                            <p:txEl>
                                              <p:pRg st="6" end="6"/>
                                            </p:txEl>
                                          </p:spTgt>
                                        </p:tgtEl>
                                      </p:cBhvr>
                                    </p:animEffect>
                                    <p:set>
                                      <p:cBhvr>
                                        <p:cTn id="148" dur="1" fill="hold">
                                          <p:stCondLst>
                                            <p:cond delay="499"/>
                                          </p:stCondLst>
                                        </p:cTn>
                                        <p:tgtEl>
                                          <p:spTgt spid="233">
                                            <p:txEl>
                                              <p:pRg st="6" end="6"/>
                                            </p:txEl>
                                          </p:spTgt>
                                        </p:tgtEl>
                                        <p:attrNameLst>
                                          <p:attrName>style.visibility</p:attrName>
                                        </p:attrNameLst>
                                      </p:cBhvr>
                                      <p:to>
                                        <p:strVal val="hidden"/>
                                      </p:to>
                                    </p:set>
                                  </p:childTnLst>
                                </p:cTn>
                              </p:par>
                              <p:par>
                                <p:cTn id="149" nodeType="withEffect" fill="hold" presetClass="exit" presetID="3" presetSubtype="10">
                                  <p:stCondLst>
                                    <p:cond delay="0"/>
                                  </p:stCondLst>
                                  <p:childTnLst>
                                    <p:animEffect filter="blinds(horizontal)" transition="out">
                                      <p:cBhvr additive="repl">
                                        <p:cTn id="150" dur="500"/>
                                        <p:tgtEl>
                                          <p:spTgt spid="233">
                                            <p:txEl>
                                              <p:pRg st="7" end="7"/>
                                            </p:txEl>
                                          </p:spTgt>
                                        </p:tgtEl>
                                      </p:cBhvr>
                                    </p:animEffect>
                                    <p:set>
                                      <p:cBhvr>
                                        <p:cTn id="151" dur="1" fill="hold">
                                          <p:stCondLst>
                                            <p:cond delay="499"/>
                                          </p:stCondLst>
                                        </p:cTn>
                                        <p:tgtEl>
                                          <p:spTgt spid="233">
                                            <p:txEl>
                                              <p:pRg st="7" end="7"/>
                                            </p:txEl>
                                          </p:spTgt>
                                        </p:tgtEl>
                                        <p:attrNameLst>
                                          <p:attrName>style.visibility</p:attrName>
                                        </p:attrNameLst>
                                      </p:cBhvr>
                                      <p:to>
                                        <p:strVal val="hidden"/>
                                      </p:to>
                                    </p:set>
                                  </p:childTnLst>
                                </p:cTn>
                              </p:par>
                              <p:par>
                                <p:cTn id="152" nodeType="withEffect" fill="hold" presetClass="exit" presetID="3" presetSubtype="10">
                                  <p:stCondLst>
                                    <p:cond delay="0"/>
                                  </p:stCondLst>
                                  <p:childTnLst>
                                    <p:animEffect filter="blinds(horizontal)" transition="out">
                                      <p:cBhvr additive="repl">
                                        <p:cTn id="153" dur="500"/>
                                        <p:tgtEl>
                                          <p:spTgt spid="233">
                                            <p:txEl>
                                              <p:pRg st="8" end="8"/>
                                            </p:txEl>
                                          </p:spTgt>
                                        </p:tgtEl>
                                      </p:cBhvr>
                                    </p:animEffect>
                                    <p:set>
                                      <p:cBhvr>
                                        <p:cTn id="154" dur="1" fill="hold">
                                          <p:stCondLst>
                                            <p:cond delay="499"/>
                                          </p:stCondLst>
                                        </p:cTn>
                                        <p:tgtEl>
                                          <p:spTgt spid="233">
                                            <p:txEl>
                                              <p:pRg st="8" end="8"/>
                                            </p:txEl>
                                          </p:spTgt>
                                        </p:tgtEl>
                                        <p:attrNameLst>
                                          <p:attrName>style.visibility</p:attrName>
                                        </p:attrNameLst>
                                      </p:cBhvr>
                                      <p:to>
                                        <p:strVal val="hidden"/>
                                      </p:to>
                                    </p:set>
                                  </p:childTnLst>
                                </p:cTn>
                              </p:par>
                              <p:par>
                                <p:cTn id="155" nodeType="withEffect" fill="hold" presetClass="exit" presetID="3" presetSubtype="10">
                                  <p:stCondLst>
                                    <p:cond delay="0"/>
                                  </p:stCondLst>
                                  <p:childTnLst>
                                    <p:animEffect filter="blinds(horizontal)" transition="out">
                                      <p:cBhvr additive="repl">
                                        <p:cTn id="156" dur="500"/>
                                        <p:tgtEl>
                                          <p:spTgt spid="233">
                                            <p:txEl>
                                              <p:pRg st="9" end="9"/>
                                            </p:txEl>
                                          </p:spTgt>
                                        </p:tgtEl>
                                      </p:cBhvr>
                                    </p:animEffect>
                                    <p:set>
                                      <p:cBhvr>
                                        <p:cTn id="157" dur="1" fill="hold">
                                          <p:stCondLst>
                                            <p:cond delay="499"/>
                                          </p:stCondLst>
                                        </p:cTn>
                                        <p:tgtEl>
                                          <p:spTgt spid="233">
                                            <p:txEl>
                                              <p:pRg st="9" end="9"/>
                                            </p:txEl>
                                          </p:spTgt>
                                        </p:tgtEl>
                                        <p:attrNameLst>
                                          <p:attrName>style.visibility</p:attrName>
                                        </p:attrNameLst>
                                      </p:cBhvr>
                                      <p:to>
                                        <p:strVal val="hidden"/>
                                      </p:to>
                                    </p:set>
                                  </p:childTnLst>
                                </p:cTn>
                              </p:par>
                              <p:par>
                                <p:cTn id="158" nodeType="withEffect" fill="hold" presetClass="exit" presetID="3" presetSubtype="10">
                                  <p:stCondLst>
                                    <p:cond delay="0"/>
                                  </p:stCondLst>
                                  <p:childTnLst>
                                    <p:animEffect filter="blinds(horizontal)" transition="out">
                                      <p:cBhvr additive="repl">
                                        <p:cTn id="159" dur="500"/>
                                        <p:tgtEl>
                                          <p:spTgt spid="233">
                                            <p:txEl>
                                              <p:pRg st="10" end="10"/>
                                            </p:txEl>
                                          </p:spTgt>
                                        </p:tgtEl>
                                      </p:cBhvr>
                                    </p:animEffect>
                                    <p:set>
                                      <p:cBhvr>
                                        <p:cTn id="160" dur="1" fill="hold">
                                          <p:stCondLst>
                                            <p:cond delay="499"/>
                                          </p:stCondLst>
                                        </p:cTn>
                                        <p:tgtEl>
                                          <p:spTgt spid="233">
                                            <p:txEl>
                                              <p:pRg st="10" end="10"/>
                                            </p:txEl>
                                          </p:spTgt>
                                        </p:tgtEl>
                                        <p:attrNameLst>
                                          <p:attrName>style.visibility</p:attrName>
                                        </p:attrNameLst>
                                      </p:cBhvr>
                                      <p:to>
                                        <p:strVal val="hidden"/>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6" presetSubtype="16">
                                  <p:stCondLst>
                                    <p:cond delay="0"/>
                                  </p:stCondLst>
                                  <p:childTnLst>
                                    <p:set>
                                      <p:cBhvr>
                                        <p:cTn id="1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165" dur="2000"/>
                                        <p:tgtEl>
                                          <p:spTgt spid="233">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6" presetSubtype="16">
                                  <p:stCondLst>
                                    <p:cond delay="0"/>
                                  </p:stCondLst>
                                  <p:childTnLst>
                                    <p:set>
                                      <p:cBhvr>
                                        <p:cTn id="169"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170" dur="2000"/>
                                        <p:tgtEl>
                                          <p:spTgt spid="233">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6" presetSubtype="16">
                                  <p:stCondLst>
                                    <p:cond delay="0"/>
                                  </p:stCondLst>
                                  <p:childTnLst>
                                    <p:set>
                                      <p:cBhvr>
                                        <p:cTn id="174"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175" dur="2000"/>
                                        <p:tgtEl>
                                          <p:spTgt spid="233">
                                            <p:txEl>
                                              <p:pRg st="3" end="3"/>
                                            </p:txEl>
                                          </p:spTgt>
                                        </p:tgtEl>
                                      </p:cBhvr>
                                    </p:animEffect>
                                  </p:childTnLst>
                                </p:cTn>
                              </p:par>
                              <p:par>
                                <p:cTn id="176" nodeType="withEffect" fill="hold" presetClass="entr" presetID="6" presetSubtype="16">
                                  <p:stCondLst>
                                    <p:cond delay="0"/>
                                  </p:stCondLst>
                                  <p:childTnLst>
                                    <p:set>
                                      <p:cBhvr>
                                        <p:cTn id="177"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178" dur="2000"/>
                                        <p:tgtEl>
                                          <p:spTgt spid="233">
                                            <p:txEl>
                                              <p:pRg st="4" end="4"/>
                                            </p:txEl>
                                          </p:spTgt>
                                        </p:tgtEl>
                                      </p:cBhvr>
                                    </p:animEffect>
                                  </p:childTnLst>
                                </p:cTn>
                              </p:par>
                              <p:par>
                                <p:cTn id="179" nodeType="withEffect" fill="hold" presetClass="entr" presetID="6" presetSubtype="16">
                                  <p:stCondLst>
                                    <p:cond delay="0"/>
                                  </p:stCondLst>
                                  <p:childTnLst>
                                    <p:set>
                                      <p:cBhvr>
                                        <p:cTn id="180" dur="1" fill="hold">
                                          <p:stCondLst>
                                            <p:cond delay="0"/>
                                          </p:stCondLst>
                                        </p:cTn>
                                        <p:tgtEl>
                                          <p:spTgt spid="233">
                                            <p:txEl>
                                              <p:pRg st="5" end="5"/>
                                            </p:txEl>
                                          </p:spTgt>
                                        </p:tgtEl>
                                        <p:attrNameLst>
                                          <p:attrName>style.visibility</p:attrName>
                                        </p:attrNameLst>
                                      </p:cBhvr>
                                      <p:to>
                                        <p:strVal val="visible"/>
                                      </p:to>
                                    </p:set>
                                    <p:animEffect filter="circle(in)" transition="in">
                                      <p:cBhvr additive="repl">
                                        <p:cTn id="181" dur="2000"/>
                                        <p:tgtEl>
                                          <p:spTgt spid="233">
                                            <p:txEl>
                                              <p:pRg st="5" end="5"/>
                                            </p:txEl>
                                          </p:spTgt>
                                        </p:tgtEl>
                                      </p:cBhvr>
                                    </p:animEffect>
                                  </p:childTnLst>
                                </p:cTn>
                              </p:par>
                              <p:par>
                                <p:cTn id="182" nodeType="withEffect" fill="hold" presetClass="entr" presetID="6" presetSubtype="16">
                                  <p:stCondLst>
                                    <p:cond delay="0"/>
                                  </p:stCondLst>
                                  <p:childTnLst>
                                    <p:set>
                                      <p:cBhvr>
                                        <p:cTn id="183" dur="1" fill="hold">
                                          <p:stCondLst>
                                            <p:cond delay="0"/>
                                          </p:stCondLst>
                                        </p:cTn>
                                        <p:tgtEl>
                                          <p:spTgt spid="233">
                                            <p:txEl>
                                              <p:pRg st="6" end="6"/>
                                            </p:txEl>
                                          </p:spTgt>
                                        </p:tgtEl>
                                        <p:attrNameLst>
                                          <p:attrName>style.visibility</p:attrName>
                                        </p:attrNameLst>
                                      </p:cBhvr>
                                      <p:to>
                                        <p:strVal val="visible"/>
                                      </p:to>
                                    </p:set>
                                    <p:animEffect filter="circle(in)" transition="in">
                                      <p:cBhvr additive="repl">
                                        <p:cTn id="184" dur="2000"/>
                                        <p:tgtEl>
                                          <p:spTgt spid="233">
                                            <p:txEl>
                                              <p:pRg st="6" end="6"/>
                                            </p:txEl>
                                          </p:spTgt>
                                        </p:tgtEl>
                                      </p:cBhvr>
                                    </p:animEffect>
                                  </p:childTnLst>
                                </p:cTn>
                              </p:par>
                              <p:par>
                                <p:cTn id="185" nodeType="withEffect" fill="hold" presetClass="entr" presetID="6" presetSubtype="16">
                                  <p:stCondLst>
                                    <p:cond delay="0"/>
                                  </p:stCondLst>
                                  <p:childTnLst>
                                    <p:set>
                                      <p:cBhvr>
                                        <p:cTn id="186" dur="1" fill="hold">
                                          <p:stCondLst>
                                            <p:cond delay="0"/>
                                          </p:stCondLst>
                                        </p:cTn>
                                        <p:tgtEl>
                                          <p:spTgt spid="233">
                                            <p:txEl>
                                              <p:pRg st="7" end="7"/>
                                            </p:txEl>
                                          </p:spTgt>
                                        </p:tgtEl>
                                        <p:attrNameLst>
                                          <p:attrName>style.visibility</p:attrName>
                                        </p:attrNameLst>
                                      </p:cBhvr>
                                      <p:to>
                                        <p:strVal val="visible"/>
                                      </p:to>
                                    </p:set>
                                    <p:animEffect filter="circle(in)" transition="in">
                                      <p:cBhvr additive="repl">
                                        <p:cTn id="187" dur="2000"/>
                                        <p:tgtEl>
                                          <p:spTgt spid="233">
                                            <p:txEl>
                                              <p:pRg st="7" end="7"/>
                                            </p:txEl>
                                          </p:spTgt>
                                        </p:tgtEl>
                                      </p:cBhvr>
                                    </p:animEffect>
                                  </p:childTnLst>
                                </p:cTn>
                              </p:par>
                              <p:par>
                                <p:cTn id="188" nodeType="withEffect" fill="hold" presetClass="entr" presetID="6" presetSubtype="16">
                                  <p:stCondLst>
                                    <p:cond delay="0"/>
                                  </p:stCondLst>
                                  <p:childTnLst>
                                    <p:set>
                                      <p:cBhvr>
                                        <p:cTn id="189" dur="1" fill="hold">
                                          <p:stCondLst>
                                            <p:cond delay="0"/>
                                          </p:stCondLst>
                                        </p:cTn>
                                        <p:tgtEl>
                                          <p:spTgt spid="233">
                                            <p:txEl>
                                              <p:pRg st="8" end="8"/>
                                            </p:txEl>
                                          </p:spTgt>
                                        </p:tgtEl>
                                        <p:attrNameLst>
                                          <p:attrName>style.visibility</p:attrName>
                                        </p:attrNameLst>
                                      </p:cBhvr>
                                      <p:to>
                                        <p:strVal val="visible"/>
                                      </p:to>
                                    </p:set>
                                    <p:animEffect filter="circle(in)" transition="in">
                                      <p:cBhvr additive="repl">
                                        <p:cTn id="190" dur="2000"/>
                                        <p:tgtEl>
                                          <p:spTgt spid="233">
                                            <p:txEl>
                                              <p:pRg st="8" end="8"/>
                                            </p:txEl>
                                          </p:spTgt>
                                        </p:tgtEl>
                                      </p:cBhvr>
                                    </p:animEffect>
                                  </p:childTnLst>
                                </p:cTn>
                              </p:par>
                              <p:par>
                                <p:cTn id="191" nodeType="withEffect" fill="hold" presetClass="entr" presetID="6" presetSubtype="16">
                                  <p:stCondLst>
                                    <p:cond delay="0"/>
                                  </p:stCondLst>
                                  <p:childTnLst>
                                    <p:set>
                                      <p:cBhvr>
                                        <p:cTn id="192" dur="1" fill="hold">
                                          <p:stCondLst>
                                            <p:cond delay="0"/>
                                          </p:stCondLst>
                                        </p:cTn>
                                        <p:tgtEl>
                                          <p:spTgt spid="233">
                                            <p:txEl>
                                              <p:pRg st="9" end="9"/>
                                            </p:txEl>
                                          </p:spTgt>
                                        </p:tgtEl>
                                        <p:attrNameLst>
                                          <p:attrName>style.visibility</p:attrName>
                                        </p:attrNameLst>
                                      </p:cBhvr>
                                      <p:to>
                                        <p:strVal val="visible"/>
                                      </p:to>
                                    </p:set>
                                    <p:animEffect filter="circle(in)" transition="in">
                                      <p:cBhvr additive="repl">
                                        <p:cTn id="193" dur="2000"/>
                                        <p:tgtEl>
                                          <p:spTgt spid="233">
                                            <p:txEl>
                                              <p:pRg st="9" end="9"/>
                                            </p:txEl>
                                          </p:spTgt>
                                        </p:tgtEl>
                                      </p:cBhvr>
                                    </p:animEffect>
                                  </p:childTnLst>
                                </p:cTn>
                              </p:par>
                              <p:par>
                                <p:cTn id="194" nodeType="withEffect" fill="hold" presetClass="entr" presetID="6" presetSubtype="16">
                                  <p:stCondLst>
                                    <p:cond delay="0"/>
                                  </p:stCondLst>
                                  <p:childTnLst>
                                    <p:set>
                                      <p:cBhvr>
                                        <p:cTn id="195" dur="1" fill="hold">
                                          <p:stCondLst>
                                            <p:cond delay="0"/>
                                          </p:stCondLst>
                                        </p:cTn>
                                        <p:tgtEl>
                                          <p:spTgt spid="233">
                                            <p:txEl>
                                              <p:pRg st="10" end="10"/>
                                            </p:txEl>
                                          </p:spTgt>
                                        </p:tgtEl>
                                        <p:attrNameLst>
                                          <p:attrName>style.visibility</p:attrName>
                                        </p:attrNameLst>
                                      </p:cBhvr>
                                      <p:to>
                                        <p:strVal val="visible"/>
                                      </p:to>
                                    </p:set>
                                    <p:animEffect filter="circle(in)" transition="in">
                                      <p:cBhvr additive="repl">
                                        <p:cTn id="196" dur="2000"/>
                                        <p:tgtEl>
                                          <p:spTgt spid="23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Bookman Old Style"/>
              </a:rPr>
              <a:t>Duties of Surveyor</a:t>
            </a:r>
            <a:endParaRPr b="0" lang="en-US" sz="3200" spc="-1" strike="noStrike">
              <a:solidFill>
                <a:srgbClr val="000000"/>
              </a:solidFill>
              <a:latin typeface="Times New Roman"/>
            </a:endParaRPr>
          </a:p>
        </p:txBody>
      </p:sp>
      <p:sp>
        <p:nvSpPr>
          <p:cNvPr id="235" name="PlaceHolder 2"/>
          <p:cNvSpPr>
            <a:spLocks noGrp="1"/>
          </p:cNvSpPr>
          <p:nvPr>
            <p:ph type="subTitle"/>
          </p:nvPr>
        </p:nvSpPr>
        <p:spPr>
          <a:xfrm>
            <a:off x="304560" y="685440"/>
            <a:ext cx="8458200" cy="6172200"/>
          </a:xfrm>
          <a:prstGeom prst="rect">
            <a:avLst/>
          </a:prstGeom>
          <a:noFill/>
          <a:ln w="76320">
            <a:solidFill>
              <a:srgbClr val="ff00ff"/>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1.  To examine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2.  To investigate into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3.  To ascertain extent of loss and assess i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o advise loss minimisation measures and th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protection of salv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5.  Disposal of salvage as per guidelin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6.  To submit detailed report mentioning absolut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ownership, cause of loss, extent of damag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under insurance, salvage and excess withou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any ambiguit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7. Confirmation of net liability, property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Bookman Old Style"/>
              </a:rPr>
              <a:t>    </a:t>
            </a:r>
            <a:r>
              <a:rPr b="1" lang="en-US" sz="2400" spc="-1" strike="noStrike">
                <a:solidFill>
                  <a:srgbClr val="0033cc"/>
                </a:solidFill>
                <a:latin typeface="Bookman Old Style"/>
              </a:rPr>
              <a:t>reinstatement and policy terms and condition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8. To suggest the insured for avoidanc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    </a:t>
            </a:r>
            <a:r>
              <a:rPr b="1" lang="en-US" sz="2400" spc="-1" strike="noStrike">
                <a:solidFill>
                  <a:srgbClr val="996633"/>
                </a:solidFill>
                <a:latin typeface="Bookman Old Style"/>
              </a:rPr>
              <a:t>reoccurrence of lo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203" dur="500"/>
                                        <p:tgtEl>
                                          <p:spTgt spid="235">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235">
                                            <p:txEl>
                                              <p:pRg st="1" end="1"/>
                                            </p:txEl>
                                          </p:spTgt>
                                        </p:tgtEl>
                                        <p:attrNameLst>
                                          <p:attrName>style.visibility</p:attrName>
                                        </p:attrNameLst>
                                      </p:cBhvr>
                                      <p:to>
                                        <p:strVal val="visible"/>
                                      </p:to>
                                    </p:set>
                                    <p:animEffect filter="checkerboard(across)" transition="in">
                                      <p:cBhvr additive="repl">
                                        <p:cTn id="208" dur="500"/>
                                        <p:tgtEl>
                                          <p:spTgt spid="235">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6" presetSubtype="16">
                                  <p:stCondLst>
                                    <p:cond delay="0"/>
                                  </p:stCondLst>
                                  <p:childTnLst>
                                    <p:set>
                                      <p:cBhvr>
                                        <p:cTn id="212" dur="1" fill="hold">
                                          <p:stCondLst>
                                            <p:cond delay="0"/>
                                          </p:stCondLst>
                                        </p:cTn>
                                        <p:tgtEl>
                                          <p:spTgt spid="235">
                                            <p:txEl>
                                              <p:pRg st="2" end="2"/>
                                            </p:txEl>
                                          </p:spTgt>
                                        </p:tgtEl>
                                        <p:attrNameLst>
                                          <p:attrName>style.visibility</p:attrName>
                                        </p:attrNameLst>
                                      </p:cBhvr>
                                      <p:to>
                                        <p:strVal val="visible"/>
                                      </p:to>
                                    </p:set>
                                    <p:animEffect filter="circle(in)" transition="in">
                                      <p:cBhvr additive="repl">
                                        <p:cTn id="213" dur="2000"/>
                                        <p:tgtEl>
                                          <p:spTgt spid="235">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8" presetSubtype="16">
                                  <p:stCondLst>
                                    <p:cond delay="0"/>
                                  </p:stCondLst>
                                  <p:childTnLst>
                                    <p:set>
                                      <p:cBhvr>
                                        <p:cTn id="217" dur="1" fill="hold">
                                          <p:stCondLst>
                                            <p:cond delay="0"/>
                                          </p:stCondLst>
                                        </p:cTn>
                                        <p:tgtEl>
                                          <p:spTgt spid="235">
                                            <p:txEl>
                                              <p:pRg st="3" end="3"/>
                                            </p:txEl>
                                          </p:spTgt>
                                        </p:tgtEl>
                                        <p:attrNameLst>
                                          <p:attrName>style.visibility</p:attrName>
                                        </p:attrNameLst>
                                      </p:cBhvr>
                                      <p:to>
                                        <p:strVal val="visible"/>
                                      </p:to>
                                    </p:set>
                                    <p:animEffect filter="diamond(in)" transition="in">
                                      <p:cBhvr additive="repl">
                                        <p:cTn id="218" dur="2000"/>
                                        <p:tgtEl>
                                          <p:spTgt spid="235">
                                            <p:txEl>
                                              <p:pRg st="3" end="3"/>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235">
                                            <p:txEl>
                                              <p:pRg st="4" end="4"/>
                                            </p:txEl>
                                          </p:spTgt>
                                        </p:tgtEl>
                                        <p:attrNameLst>
                                          <p:attrName>style.visibility</p:attrName>
                                        </p:attrNameLst>
                                      </p:cBhvr>
                                      <p:to>
                                        <p:strVal val="visible"/>
                                      </p:to>
                                    </p:set>
                                    <p:animEffect filter="diamond(in)" transition="in">
                                      <p:cBhvr additive="repl">
                                        <p:cTn id="221" dur="2000"/>
                                        <p:tgtEl>
                                          <p:spTgt spid="235">
                                            <p:txEl>
                                              <p:pRg st="4" end="4"/>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35">
                                            <p:txEl>
                                              <p:pRg st="5" end="5"/>
                                            </p:txEl>
                                          </p:spTgt>
                                        </p:tgtEl>
                                        <p:attrNameLst>
                                          <p:attrName>style.visibility</p:attrName>
                                        </p:attrNameLst>
                                      </p:cBhvr>
                                      <p:to>
                                        <p:strVal val="visible"/>
                                      </p:to>
                                    </p:set>
                                    <p:anim calcmode="lin" valueType="num">
                                      <p:cBhvr additive="base">
                                        <p:cTn id="226"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35">
                                            <p:txEl>
                                              <p:pRg st="6" end="6"/>
                                            </p:txEl>
                                          </p:spTgt>
                                        </p:tgtEl>
                                        <p:attrNameLst>
                                          <p:attrName>style.visibility</p:attrName>
                                        </p:attrNameLst>
                                      </p:cBhvr>
                                      <p:to>
                                        <p:strVal val="visible"/>
                                      </p:to>
                                    </p:set>
                                    <p:animEffect filter="strips(downLeft)" transition="in">
                                      <p:cBhvr additive="repl">
                                        <p:cTn id="232" dur="500"/>
                                        <p:tgtEl>
                                          <p:spTgt spid="235">
                                            <p:txEl>
                                              <p:pRg st="6" end="6"/>
                                            </p:txEl>
                                          </p:spTgt>
                                        </p:tgtEl>
                                      </p:cBhvr>
                                    </p:animEffect>
                                  </p:childTnLst>
                                </p:cTn>
                              </p:par>
                              <p:par>
                                <p:cTn id="233" nodeType="withEffect" fill="hold" presetClass="entr" presetID="18" presetSubtype="12">
                                  <p:stCondLst>
                                    <p:cond delay="0"/>
                                  </p:stCondLst>
                                  <p:childTnLst>
                                    <p:set>
                                      <p:cBhvr>
                                        <p:cTn id="234" dur="1" fill="hold">
                                          <p:stCondLst>
                                            <p:cond delay="0"/>
                                          </p:stCondLst>
                                        </p:cTn>
                                        <p:tgtEl>
                                          <p:spTgt spid="235">
                                            <p:txEl>
                                              <p:pRg st="7" end="7"/>
                                            </p:txEl>
                                          </p:spTgt>
                                        </p:tgtEl>
                                        <p:attrNameLst>
                                          <p:attrName>style.visibility</p:attrName>
                                        </p:attrNameLst>
                                      </p:cBhvr>
                                      <p:to>
                                        <p:strVal val="visible"/>
                                      </p:to>
                                    </p:set>
                                    <p:animEffect filter="strips(downLeft)" transition="in">
                                      <p:cBhvr additive="repl">
                                        <p:cTn id="235" dur="500"/>
                                        <p:tgtEl>
                                          <p:spTgt spid="235">
                                            <p:txEl>
                                              <p:pRg st="7" end="7"/>
                                            </p:txEl>
                                          </p:spTgt>
                                        </p:tgtEl>
                                      </p:cBhvr>
                                    </p:animEffect>
                                  </p:childTnLst>
                                </p:cTn>
                              </p:par>
                              <p:par>
                                <p:cTn id="236" nodeType="withEffect" fill="hold" presetClass="entr" presetID="18" presetSubtype="12">
                                  <p:stCondLst>
                                    <p:cond delay="0"/>
                                  </p:stCondLst>
                                  <p:childTnLst>
                                    <p:set>
                                      <p:cBhvr>
                                        <p:cTn id="237" dur="1" fill="hold">
                                          <p:stCondLst>
                                            <p:cond delay="0"/>
                                          </p:stCondLst>
                                        </p:cTn>
                                        <p:tgtEl>
                                          <p:spTgt spid="235">
                                            <p:txEl>
                                              <p:pRg st="8" end="8"/>
                                            </p:txEl>
                                          </p:spTgt>
                                        </p:tgtEl>
                                        <p:attrNameLst>
                                          <p:attrName>style.visibility</p:attrName>
                                        </p:attrNameLst>
                                      </p:cBhvr>
                                      <p:to>
                                        <p:strVal val="visible"/>
                                      </p:to>
                                    </p:set>
                                    <p:animEffect filter="strips(downLeft)" transition="in">
                                      <p:cBhvr additive="repl">
                                        <p:cTn id="238" dur="500"/>
                                        <p:tgtEl>
                                          <p:spTgt spid="235">
                                            <p:txEl>
                                              <p:pRg st="8" end="8"/>
                                            </p:txEl>
                                          </p:spTgt>
                                        </p:tgtEl>
                                      </p:cBhvr>
                                    </p:animEffect>
                                  </p:childTnLst>
                                </p:cTn>
                              </p:par>
                              <p:par>
                                <p:cTn id="239" nodeType="withEffect" fill="hold" presetClass="entr" presetID="18" presetSubtype="12">
                                  <p:stCondLst>
                                    <p:cond delay="0"/>
                                  </p:stCondLst>
                                  <p:childTnLst>
                                    <p:set>
                                      <p:cBhvr>
                                        <p:cTn id="240" dur="1" fill="hold">
                                          <p:stCondLst>
                                            <p:cond delay="0"/>
                                          </p:stCondLst>
                                        </p:cTn>
                                        <p:tgtEl>
                                          <p:spTgt spid="235">
                                            <p:txEl>
                                              <p:pRg st="9" end="9"/>
                                            </p:txEl>
                                          </p:spTgt>
                                        </p:tgtEl>
                                        <p:attrNameLst>
                                          <p:attrName>style.visibility</p:attrName>
                                        </p:attrNameLst>
                                      </p:cBhvr>
                                      <p:to>
                                        <p:strVal val="visible"/>
                                      </p:to>
                                    </p:set>
                                    <p:animEffect filter="strips(downLeft)" transition="in">
                                      <p:cBhvr additive="repl">
                                        <p:cTn id="241" dur="500"/>
                                        <p:tgtEl>
                                          <p:spTgt spid="235">
                                            <p:txEl>
                                              <p:pRg st="9" end="9"/>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9" presetSubtype="10">
                                  <p:stCondLst>
                                    <p:cond delay="0"/>
                                  </p:stCondLst>
                                  <p:childTnLst>
                                    <p:set>
                                      <p:cBhvr>
                                        <p:cTn id="245" dur="1" fill="hold">
                                          <p:stCondLst>
                                            <p:cond delay="0"/>
                                          </p:stCondLst>
                                        </p:cTn>
                                        <p:tgtEl>
                                          <p:spTgt spid="235">
                                            <p:txEl>
                                              <p:pRg st="10" end="10"/>
                                            </p:txEl>
                                          </p:spTgt>
                                        </p:tgtEl>
                                        <p:attrNameLst>
                                          <p:attrName>style.visibility</p:attrName>
                                        </p:attrNameLst>
                                      </p:cBhvr>
                                      <p:to>
                                        <p:strVal val="visible"/>
                                      </p:to>
                                    </p:set>
                                    <p:anim calcmode="lin" valueType="num">
                                      <p:cBhvr additive="repl">
                                        <p:cTn id="246" dur="5000" fill="hold"/>
                                        <p:tgtEl>
                                          <p:spTgt spid="235">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247" dur="5000" fill="hold"/>
                                        <p:tgtEl>
                                          <p:spTgt spid="235">
                                            <p:txEl>
                                              <p:pRg st="10" end="10"/>
                                            </p:txEl>
                                          </p:spTgt>
                                        </p:tgtEl>
                                        <p:attrNameLst>
                                          <p:attrName>ppt_h</p:attrName>
                                        </p:attrNameLst>
                                      </p:cBhvr>
                                      <p:tavLst>
                                        <p:tav tm="0">
                                          <p:val>
                                            <p:strVal val="#ppt_h"/>
                                          </p:val>
                                        </p:tav>
                                        <p:tav tm="100000">
                                          <p:val>
                                            <p:strVal val="#ppt_h"/>
                                          </p:val>
                                        </p:tav>
                                      </p:tavLst>
                                    </p:anim>
                                  </p:childTnLst>
                                </p:cTn>
                              </p:par>
                              <p:par>
                                <p:cTn id="248" nodeType="withEffect" fill="hold" presetClass="entr" presetID="19" presetSubtype="10">
                                  <p:stCondLst>
                                    <p:cond delay="0"/>
                                  </p:stCondLst>
                                  <p:childTnLst>
                                    <p:set>
                                      <p:cBhvr>
                                        <p:cTn id="249" dur="1" fill="hold">
                                          <p:stCondLst>
                                            <p:cond delay="0"/>
                                          </p:stCondLst>
                                        </p:cTn>
                                        <p:tgtEl>
                                          <p:spTgt spid="235">
                                            <p:txEl>
                                              <p:pRg st="11" end="11"/>
                                            </p:txEl>
                                          </p:spTgt>
                                        </p:tgtEl>
                                        <p:attrNameLst>
                                          <p:attrName>style.visibility</p:attrName>
                                        </p:attrNameLst>
                                      </p:cBhvr>
                                      <p:to>
                                        <p:strVal val="visible"/>
                                      </p:to>
                                    </p:set>
                                    <p:anim calcmode="lin" valueType="num">
                                      <p:cBhvr additive="repl">
                                        <p:cTn id="250" dur="5000" fill="hold"/>
                                        <p:tgtEl>
                                          <p:spTgt spid="235">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251" dur="5000" fill="hold"/>
                                        <p:tgtEl>
                                          <p:spTgt spid="235">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235">
                                            <p:txEl>
                                              <p:pRg st="12" end="12"/>
                                            </p:txEl>
                                          </p:spTgt>
                                        </p:tgtEl>
                                        <p:attrNameLst>
                                          <p:attrName>style.visibility</p:attrName>
                                        </p:attrNameLst>
                                      </p:cBhvr>
                                      <p:to>
                                        <p:strVal val="visible"/>
                                      </p:to>
                                    </p:set>
                                    <p:animEffect filter="dissolve" transition="in">
                                      <p:cBhvr additive="repl">
                                        <p:cTn id="256" dur="500"/>
                                        <p:tgtEl>
                                          <p:spTgt spid="235">
                                            <p:txEl>
                                              <p:pRg st="12" end="12"/>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235">
                                            <p:txEl>
                                              <p:pRg st="13" end="13"/>
                                            </p:txEl>
                                          </p:spTgt>
                                        </p:tgtEl>
                                        <p:attrNameLst>
                                          <p:attrName>style.visibility</p:attrName>
                                        </p:attrNameLst>
                                      </p:cBhvr>
                                      <p:to>
                                        <p:strVal val="visible"/>
                                      </p:to>
                                    </p:set>
                                    <p:animEffect filter="dissolve" transition="in">
                                      <p:cBhvr additive="repl">
                                        <p:cTn id="261" dur="500"/>
                                        <p:tgtEl>
                                          <p:spTgt spid="23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Bookman Old Style"/>
              </a:rPr>
              <a:t>Contents of Survey Report</a:t>
            </a:r>
            <a:endParaRPr b="0" lang="en-US" sz="3600" spc="-1" strike="noStrike">
              <a:solidFill>
                <a:srgbClr val="000000"/>
              </a:solidFill>
              <a:latin typeface="Times New Roman"/>
            </a:endParaRPr>
          </a:p>
        </p:txBody>
      </p:sp>
      <p:sp>
        <p:nvSpPr>
          <p:cNvPr id="237" name="PlaceHolder 2"/>
          <p:cNvSpPr>
            <a:spLocks noGrp="1"/>
          </p:cNvSpPr>
          <p:nvPr>
            <p:ph type="subTitle"/>
          </p:nvPr>
        </p:nvSpPr>
        <p:spPr>
          <a:xfrm>
            <a:off x="228600" y="456840"/>
            <a:ext cx="8610480" cy="6172200"/>
          </a:xfrm>
          <a:prstGeom prst="rect">
            <a:avLst/>
          </a:prstGeom>
          <a:noFill/>
          <a:ln w="76320">
            <a:solidFill>
              <a:srgbClr val="0099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rPr>
              <a:t>1</a:t>
            </a:r>
            <a:r>
              <a:rPr b="1" lang="en-US" sz="2800" spc="-1" strike="noStrike">
                <a:solidFill>
                  <a:srgbClr val="6600cc"/>
                </a:solidFill>
                <a:latin typeface="Times New Roman"/>
              </a:rPr>
              <a:t>.  </a:t>
            </a:r>
            <a:r>
              <a:rPr b="1" lang="en-US" sz="2400" spc="-1" strike="noStrike">
                <a:solidFill>
                  <a:srgbClr val="6600cc"/>
                </a:solidFill>
                <a:latin typeface="Bookman Old Style"/>
              </a:rPr>
              <a:t>Name &amp; address of the insured, name of the bank interested, name of the other financial institutions or other mortgag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2.  Description of the risk</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3.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Bookman Old Style"/>
              </a:rPr>
              <a:t>4.  Circumstances and the cause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Bookman Old Style"/>
              </a:rPr>
              <a:t>5.  Description of the dam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6.  Loss 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7.  Under insuranc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8.  Breach of warranty if an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9.  Recovery from third part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10. Final Assessment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Bookman Old Style"/>
              </a:rPr>
              <a:t>11.  Apportionment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12.  General observations and the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0"/>
            <a:ext cx="762012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Bookman Old Style"/>
              </a:rPr>
              <a:t>Duties of the Insured</a:t>
            </a:r>
            <a:endParaRPr b="0" lang="en-US" sz="3600" spc="-1" strike="noStrike">
              <a:solidFill>
                <a:srgbClr val="000000"/>
              </a:solidFill>
              <a:latin typeface="Times New Roman"/>
            </a:endParaRPr>
          </a:p>
        </p:txBody>
      </p:sp>
      <p:sp>
        <p:nvSpPr>
          <p:cNvPr id="239" name="PlaceHolder 2"/>
          <p:cNvSpPr>
            <a:spLocks noGrp="1"/>
          </p:cNvSpPr>
          <p:nvPr>
            <p:ph type="subTitle"/>
          </p:nvPr>
        </p:nvSpPr>
        <p:spPr>
          <a:xfrm>
            <a:off x="228600" y="533160"/>
            <a:ext cx="8686800" cy="6095880"/>
          </a:xfrm>
          <a:prstGeom prst="rect">
            <a:avLst/>
          </a:prstGeom>
          <a:noFill/>
          <a:ln w="76320">
            <a:solidFill>
              <a:srgbClr val="6600cc"/>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1.  Notification of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2.  Maintenance of good faith and taking off loss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Bookman Old Style"/>
              </a:rPr>
              <a:t>     </a:t>
            </a:r>
            <a:r>
              <a:rPr b="1" lang="en-US" sz="2400" spc="-1" strike="noStrike">
                <a:solidFill>
                  <a:srgbClr val="ff33cc"/>
                </a:solidFill>
                <a:latin typeface="Bookman Old Style"/>
              </a:rPr>
              <a:t>minimisation measur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3.  Submission of proof and particulars of the lo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     </a:t>
            </a:r>
            <a:r>
              <a:rPr b="1" lang="en-US" sz="2400" spc="-1" strike="noStrike">
                <a:solidFill>
                  <a:srgbClr val="3366cc"/>
                </a:solidFill>
                <a:latin typeface="Bookman Old Style"/>
              </a:rPr>
              <a:t>Insured must establish the following fac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4.  That the loss took place during the currency of</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5.  The loss caused by perils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Bookman Old Style"/>
              </a:rPr>
              <a:t>     </a:t>
            </a:r>
            <a:r>
              <a:rPr b="1" lang="en-US" sz="2400" spc="-1" strike="noStrike">
                <a:solidFill>
                  <a:srgbClr val="669900"/>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6.  The perils operated in circumstances which fall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     </a:t>
            </a:r>
            <a:r>
              <a:rPr b="1" lang="en-US" sz="2400" spc="-1" strike="noStrike">
                <a:solidFill>
                  <a:srgbClr val="ff9900"/>
                </a:solidFill>
                <a:latin typeface="Bookman Old Style"/>
              </a:rPr>
              <a:t>in the scope of the 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7.  Damaged subject matter held covered under th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olicy</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8.  Insurable intere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ookman Old Style"/>
              </a:rPr>
              <a:t>Basis of Indemnity</a:t>
            </a:r>
            <a:endParaRPr b="0" lang="en-US" sz="3600" spc="-1" strike="noStrike">
              <a:solidFill>
                <a:srgbClr val="000000"/>
              </a:solidFill>
              <a:latin typeface="Times New Roman"/>
            </a:endParaRPr>
          </a:p>
        </p:txBody>
      </p:sp>
      <p:sp>
        <p:nvSpPr>
          <p:cNvPr id="241" name="PlaceHolder 2"/>
          <p:cNvSpPr>
            <a:spLocks noGrp="1"/>
          </p:cNvSpPr>
          <p:nvPr>
            <p:ph type="subTitle"/>
          </p:nvPr>
        </p:nvSpPr>
        <p:spPr>
          <a:xfrm>
            <a:off x="380520" y="838080"/>
            <a:ext cx="8458200" cy="5639040"/>
          </a:xfrm>
          <a:prstGeom prst="rect">
            <a:avLst/>
          </a:prstGeom>
          <a:noFill/>
          <a:ln w="76320">
            <a:solidFill>
              <a:srgbClr val="339966"/>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Bookman Old Style"/>
              </a:rPr>
              <a:t>Raw Material</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Landed cost at the place of fire and time of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Bookman Old Style"/>
              </a:rPr>
              <a:t>         </a:t>
            </a:r>
            <a:r>
              <a:rPr b="1" lang="en-US" sz="2400" spc="-1" strike="noStrike">
                <a:solidFill>
                  <a:srgbClr val="ff9933"/>
                </a:solidFill>
                <a:latin typeface="Bookman Old Style"/>
              </a:rPr>
              <a:t>fir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Bookman Old Style"/>
              </a:rPr>
              <a:t>Stock in proces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ff3300"/>
                </a:solidFill>
                <a:latin typeface="Bookman Old Style"/>
              </a:rPr>
              <a:t>Landed cost + all direct cost of process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         </a:t>
            </a:r>
            <a:r>
              <a:rPr b="1" lang="en-US" sz="2400" spc="-1" strike="noStrike">
                <a:solidFill>
                  <a:srgbClr val="ff3300"/>
                </a:solidFill>
                <a:latin typeface="Bookman Old Style"/>
              </a:rPr>
              <a:t>upto that stag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Bookman Old Style"/>
              </a:rPr>
              <a:t>Finished Good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3366ff"/>
                </a:solidFill>
                <a:latin typeface="Bookman Old Style"/>
              </a:rPr>
              <a:t>Manufacturers ex Factory price less Ne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Bookman Old Style"/>
              </a:rPr>
              <a:t>         </a:t>
            </a:r>
            <a:r>
              <a:rPr b="1" lang="en-US" sz="2400" spc="-1" strike="noStrike">
                <a:solidFill>
                  <a:srgbClr val="3366ff"/>
                </a:solidFill>
                <a:latin typeface="Bookman Old Style"/>
              </a:rPr>
              <a:t>Profi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man Old Style"/>
              </a:rPr>
              <a:t>Fixed Asset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	</a:t>
            </a:r>
            <a:r>
              <a:rPr b="1" lang="en-US" sz="2400" spc="-1" strike="noStrike">
                <a:solidFill>
                  <a:srgbClr val="cc0099"/>
                </a:solidFill>
                <a:latin typeface="Bookman Old Style"/>
              </a:rPr>
              <a:t>Cost of repairs/replacement/reinstatemen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Bookman Old Style"/>
              </a:rPr>
              <a:t>         </a:t>
            </a:r>
            <a:r>
              <a:rPr b="1" lang="en-US" sz="2400" spc="-1" strike="noStrike">
                <a:solidFill>
                  <a:srgbClr val="cc0099"/>
                </a:solidFill>
                <a:latin typeface="Bookman Old Style"/>
              </a:rPr>
              <a:t>in case of RIV Polici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41">
                                            <p:txEl>
                                              <p:pRg st="1" end="1"/>
                                            </p:txEl>
                                          </p:spTgt>
                                        </p:tgtEl>
                                        <p:attrNameLst>
                                          <p:attrName>style.visibility</p:attrName>
                                        </p:attrNameLst>
                                      </p:cBhvr>
                                      <p:to>
                                        <p:strVal val="visible"/>
                                      </p:to>
                                    </p:set>
                                    <p:animEffect filter="checkerboard(across)" transition="in">
                                      <p:cBhvr additive="repl">
                                        <p:cTn id="268" dur="500"/>
                                        <p:tgtEl>
                                          <p:spTgt spid="241">
                                            <p:txEl>
                                              <p:pRg st="1" end="1"/>
                                            </p:txEl>
                                          </p:spTgt>
                                        </p:tgtEl>
                                      </p:cBhvr>
                                    </p:animEffect>
                                  </p:childTnLst>
                                </p:cTn>
                              </p:par>
                              <p:par>
                                <p:cTn id="269" nodeType="withEffect" fill="hold" presetClass="entr" presetID="5" presetSubtype="10">
                                  <p:stCondLst>
                                    <p:cond delay="0"/>
                                  </p:stCondLst>
                                  <p:childTnLst>
                                    <p:set>
                                      <p:cBhvr>
                                        <p:cTn id="270" dur="1" fill="hold">
                                          <p:stCondLst>
                                            <p:cond delay="0"/>
                                          </p:stCondLst>
                                        </p:cTn>
                                        <p:tgtEl>
                                          <p:spTgt spid="241">
                                            <p:txEl>
                                              <p:pRg st="2" end="2"/>
                                            </p:txEl>
                                          </p:spTgt>
                                        </p:tgtEl>
                                        <p:attrNameLst>
                                          <p:attrName>style.visibility</p:attrName>
                                        </p:attrNameLst>
                                      </p:cBhvr>
                                      <p:to>
                                        <p:strVal val="visible"/>
                                      </p:to>
                                    </p:set>
                                    <p:animEffect filter="checkerboard(across)" transition="in">
                                      <p:cBhvr additive="repl">
                                        <p:cTn id="271" dur="500"/>
                                        <p:tgtEl>
                                          <p:spTgt spid="241">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276" dur="500"/>
                                        <p:tgtEl>
                                          <p:spTgt spid="241">
                                            <p:txEl>
                                              <p:pRg st="4" end="4"/>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241">
                                            <p:txEl>
                                              <p:pRg st="5" end="5"/>
                                            </p:txEl>
                                          </p:spTgt>
                                        </p:tgtEl>
                                        <p:attrNameLst>
                                          <p:attrName>style.visibility</p:attrName>
                                        </p:attrNameLst>
                                      </p:cBhvr>
                                      <p:to>
                                        <p:strVal val="visible"/>
                                      </p:to>
                                    </p:set>
                                    <p:animEffect filter="blinds(horizontal)" transition="in">
                                      <p:cBhvr additive="repl">
                                        <p:cTn id="279" dur="500"/>
                                        <p:tgtEl>
                                          <p:spTgt spid="241">
                                            <p:txEl>
                                              <p:pRg st="5" end="5"/>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241">
                                            <p:txEl>
                                              <p:pRg st="7" end="7"/>
                                            </p:txEl>
                                          </p:spTgt>
                                        </p:tgtEl>
                                        <p:attrNameLst>
                                          <p:attrName>style.visibility</p:attrName>
                                        </p:attrNameLst>
                                      </p:cBhvr>
                                      <p:to>
                                        <p:strVal val="visible"/>
                                      </p:to>
                                    </p:set>
                                    <p:animEffect filter="diamond(in)" transition="in">
                                      <p:cBhvr additive="repl">
                                        <p:cTn id="284" dur="2000"/>
                                        <p:tgtEl>
                                          <p:spTgt spid="241">
                                            <p:txEl>
                                              <p:pRg st="7" end="7"/>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241">
                                            <p:txEl>
                                              <p:pRg st="8" end="8"/>
                                            </p:txEl>
                                          </p:spTgt>
                                        </p:tgtEl>
                                        <p:attrNameLst>
                                          <p:attrName>style.visibility</p:attrName>
                                        </p:attrNameLst>
                                      </p:cBhvr>
                                      <p:to>
                                        <p:strVal val="visible"/>
                                      </p:to>
                                    </p:set>
                                    <p:animEffect filter="diamond(in)" transition="in">
                                      <p:cBhvr additive="repl">
                                        <p:cTn id="287" dur="2000"/>
                                        <p:tgtEl>
                                          <p:spTgt spid="241">
                                            <p:txEl>
                                              <p:pRg st="8" end="8"/>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10" end="10"/>
                                            </p:txEl>
                                          </p:spTgt>
                                        </p:tgtEl>
                                        <p:attrNameLst>
                                          <p:attrName>style.visibility</p:attrName>
                                        </p:attrNameLst>
                                      </p:cBhvr>
                                      <p:to>
                                        <p:strVal val="visible"/>
                                      </p:to>
                                    </p:set>
                                    <p:anim calcmode="lin" valueType="num">
                                      <p:cBhvr additive="base">
                                        <p:cTn id="292" dur="500" fill="hold"/>
                                        <p:tgtEl>
                                          <p:spTgt spid="241">
                                            <p:txEl>
                                              <p:pRg st="10" end="1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10" end="10"/>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4">
                                  <p:stCondLst>
                                    <p:cond delay="0"/>
                                  </p:stCondLst>
                                  <p:childTnLst>
                                    <p:set>
                                      <p:cBhvr>
                                        <p:cTn id="295" dur="1" fill="hold">
                                          <p:stCondLst>
                                            <p:cond delay="0"/>
                                          </p:stCondLst>
                                        </p:cTn>
                                        <p:tgtEl>
                                          <p:spTgt spid="241">
                                            <p:txEl>
                                              <p:pRg st="11" end="11"/>
                                            </p:txEl>
                                          </p:spTgt>
                                        </p:tgtEl>
                                        <p:attrNameLst>
                                          <p:attrName>style.visibility</p:attrName>
                                        </p:attrNameLst>
                                      </p:cBhvr>
                                      <p:to>
                                        <p:strVal val="visible"/>
                                      </p:to>
                                    </p:set>
                                    <p:anim calcmode="lin" valueType="num">
                                      <p:cBhvr additive="base">
                                        <p:cTn id="296" dur="500" fill="hold"/>
                                        <p:tgtEl>
                                          <p:spTgt spid="241">
                                            <p:txEl>
                                              <p:pRg st="11" end="1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4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Bookman Old Style"/>
              </a:rPr>
              <a:t>LOSS ASSESSMENT</a:t>
            </a:r>
            <a:endParaRPr b="0" lang="en-US" sz="3600" spc="-1" strike="noStrike">
              <a:solidFill>
                <a:srgbClr val="000000"/>
              </a:solidFill>
              <a:latin typeface="Times New Roman"/>
            </a:endParaRPr>
          </a:p>
        </p:txBody>
      </p:sp>
      <p:sp>
        <p:nvSpPr>
          <p:cNvPr id="243" name="PlaceHolder 2"/>
          <p:cNvSpPr>
            <a:spLocks noGrp="1"/>
          </p:cNvSpPr>
          <p:nvPr>
            <p:ph type="subTitle"/>
          </p:nvPr>
        </p:nvSpPr>
        <p:spPr>
          <a:xfrm>
            <a:off x="457200" y="837720"/>
            <a:ext cx="8305920" cy="5791320"/>
          </a:xfrm>
          <a:prstGeom prst="rect">
            <a:avLst/>
          </a:prstGeom>
          <a:noFill/>
          <a:ln w="57240">
            <a:solidFill>
              <a:srgbClr val="ff0000"/>
            </a:solidFill>
            <a:miter/>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Bookman Old Style"/>
              </a:rPr>
              <a:t>BUILDING:</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Class of construction, age,measurement and estimate for reconstruction.</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cc"/>
                </a:solidFill>
                <a:latin typeface="Bookman Old Style"/>
              </a:rPr>
              <a:t>STOCK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Quantity of damaged stock by count,weight or measurement and cost at the time and place of loss assessed by Market/ Government pric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MACHINERY:</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33"/>
                </a:solidFill>
                <a:latin typeface="Bookman Old Style"/>
              </a:rPr>
              <a:t>Replacement cost, age and use,extent of damage estimate of repai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3">
                                            <p:txEl>
                                              <p:pRg st="2" end="2"/>
                                            </p:txEl>
                                          </p:spTgt>
                                        </p:tgtEl>
                                        <p:attrNameLst>
                                          <p:attrName>style.visibility</p:attrName>
                                        </p:attrNameLst>
                                      </p:cBhvr>
                                      <p:to>
                                        <p:strVal val="visible"/>
                                      </p:to>
                                    </p:set>
                                    <p:anim calcmode="lin" valueType="num">
                                      <p:cBhvr additive="base">
                                        <p:cTn id="304"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3">
                                            <p:txEl>
                                              <p:pRg st="5" end="5"/>
                                            </p:txEl>
                                          </p:spTgt>
                                        </p:tgtEl>
                                        <p:attrNameLst>
                                          <p:attrName>style.visibility</p:attrName>
                                        </p:attrNameLst>
                                      </p:cBhvr>
                                      <p:to>
                                        <p:strVal val="visible"/>
                                      </p:to>
                                    </p:set>
                                    <p:anim calcmode="lin" valueType="num">
                                      <p:cBhvr additive="base">
                                        <p:cTn id="310"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43">
                                            <p:txEl>
                                              <p:pRg st="8" end="8"/>
                                            </p:txEl>
                                          </p:spTgt>
                                        </p:tgtEl>
                                        <p:attrNameLst>
                                          <p:attrName>style.visibility</p:attrName>
                                        </p:attrNameLst>
                                      </p:cBhvr>
                                      <p:to>
                                        <p:strVal val="visible"/>
                                      </p:to>
                                    </p:set>
                                    <p:anim calcmode="lin" valueType="num">
                                      <p:cBhvr additive="base">
                                        <p:cTn id="316"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Bookman Old Style"/>
              </a:rPr>
              <a:t>On-Account Payment</a:t>
            </a:r>
            <a:endParaRPr b="0" lang="en-US" sz="3600" spc="-1" strike="noStrike">
              <a:solidFill>
                <a:srgbClr val="000000"/>
              </a:solidFill>
              <a:latin typeface="Times New Roman"/>
            </a:endParaRPr>
          </a:p>
        </p:txBody>
      </p:sp>
      <p:sp>
        <p:nvSpPr>
          <p:cNvPr id="245" name="PlaceHolder 2"/>
          <p:cNvSpPr>
            <a:spLocks noGrp="1"/>
          </p:cNvSpPr>
          <p:nvPr>
            <p:ph/>
          </p:nvPr>
        </p:nvSpPr>
        <p:spPr>
          <a:xfrm>
            <a:off x="304920" y="990360"/>
            <a:ext cx="8534160" cy="5105160"/>
          </a:xfrm>
          <a:prstGeom prst="rect">
            <a:avLst/>
          </a:prstGeom>
          <a:noFill/>
          <a:ln w="76320">
            <a:solidFill>
              <a:srgbClr val="0000ff"/>
            </a:solidFill>
            <a:miter/>
          </a:ln>
        </p:spPr>
        <p:txBody>
          <a:bodyPr anchor="t">
            <a:normAutofit/>
          </a:bodyPr>
          <a:p>
            <a:pPr marL="343080" indent="-343080" algn="just">
              <a:lnSpc>
                <a:spcPct val="100000"/>
              </a:lnSpc>
              <a:spcBef>
                <a:spcPts val="700"/>
              </a:spcBef>
              <a:buClr>
                <a:srgbClr val="33cc33"/>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Bookman Old Style"/>
              </a:rPr>
              <a:t>Establishment of Absolute liability </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Loss is Admitted but yet to Quantified</a:t>
            </a:r>
            <a:endParaRPr b="0" lang="en-US" sz="2800" spc="-1" strike="noStrike">
              <a:solidFill>
                <a:srgbClr val="000000"/>
              </a:solidFill>
              <a:latin typeface="Times New Roman"/>
            </a:endParaRPr>
          </a:p>
          <a:p>
            <a:pPr marL="343080" indent="-343080" algn="just">
              <a:lnSpc>
                <a:spcPct val="100000"/>
              </a:lnSpc>
              <a:spcBef>
                <a:spcPts val="700"/>
              </a:spcBef>
              <a:buClr>
                <a:srgbClr val="ff66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Bookman Old Style"/>
              </a:rPr>
              <a:t>Pending final Assessment</a:t>
            </a:r>
            <a:endParaRPr b="0" lang="en-US" sz="2800" spc="-1" strike="noStrike">
              <a:solidFill>
                <a:srgbClr val="000000"/>
              </a:solidFill>
              <a:latin typeface="Times New Roman"/>
            </a:endParaRPr>
          </a:p>
          <a:p>
            <a:pPr marL="343080" indent="-343080" algn="just">
              <a:lnSpc>
                <a:spcPct val="100000"/>
              </a:lnSpc>
              <a:spcBef>
                <a:spcPts val="700"/>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Bookman Old Style"/>
              </a:rPr>
              <a:t>Insured has commenced repair/replacement of affected property</a:t>
            </a:r>
            <a:endParaRPr b="0" lang="en-US" sz="2800" spc="-1" strike="noStrike">
              <a:solidFill>
                <a:srgbClr val="000000"/>
              </a:solidFill>
              <a:latin typeface="Times New Roman"/>
            </a:endParaRPr>
          </a:p>
          <a:p>
            <a:pPr marL="343080" indent="-343080" algn="just">
              <a:lnSpc>
                <a:spcPct val="100000"/>
              </a:lnSpc>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Bookman Old Style"/>
              </a:rPr>
              <a:t>Intermediary Payment made out of Minimum liability.</a:t>
            </a:r>
            <a:endParaRPr b="0" lang="en-US" sz="2800" spc="-1" strike="noStrike">
              <a:solidFill>
                <a:srgbClr val="000000"/>
              </a:solidFill>
              <a:latin typeface="Times New Roman"/>
            </a:endParaRPr>
          </a:p>
          <a:p>
            <a:pPr marL="343080" indent="-343080" algn="just">
              <a:lnSpc>
                <a:spcPct val="100000"/>
              </a:lnSpc>
              <a:spcBef>
                <a:spcPts val="700"/>
              </a:spcBef>
              <a:buClr>
                <a:srgbClr val="0099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Bookman Old Style"/>
              </a:rPr>
              <a:t>Balance amount paid after submission of Final Survey repor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245">
                                            <p:txEl>
                                              <p:pRg st="0" end="0"/>
                                            </p:txEl>
                                          </p:spTgt>
                                        </p:tgtEl>
                                        <p:attrNameLst>
                                          <p:attrName>style.visibility</p:attrName>
                                        </p:attrNameLst>
                                      </p:cBhvr>
                                      <p:to>
                                        <p:strVal val="visible"/>
                                      </p:to>
                                    </p:set>
                                    <p:animEffect filter="box(in)" transition="in">
                                      <p:cBhvr additive="repl">
                                        <p:cTn id="324" dur="500"/>
                                        <p:tgtEl>
                                          <p:spTgt spid="245">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245">
                                            <p:txEl>
                                              <p:pRg st="1" end="1"/>
                                            </p:txEl>
                                          </p:spTgt>
                                        </p:tgtEl>
                                        <p:attrNameLst>
                                          <p:attrName>style.visibility</p:attrName>
                                        </p:attrNameLst>
                                      </p:cBhvr>
                                      <p:to>
                                        <p:strVal val="visible"/>
                                      </p:to>
                                    </p:set>
                                    <p:animEffect filter="checkerboard(across)" transition="in">
                                      <p:cBhvr additive="repl">
                                        <p:cTn id="329" dur="500"/>
                                        <p:tgtEl>
                                          <p:spTgt spid="245">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12">
                                  <p:stCondLst>
                                    <p:cond delay="0"/>
                                  </p:stCondLst>
                                  <p:childTnLst>
                                    <p:set>
                                      <p:cBhvr>
                                        <p:cTn id="333" dur="1" fill="hold">
                                          <p:stCondLst>
                                            <p:cond delay="0"/>
                                          </p:stCondLst>
                                        </p:cTn>
                                        <p:tgtEl>
                                          <p:spTgt spid="245">
                                            <p:txEl>
                                              <p:pRg st="2" end="2"/>
                                            </p:txEl>
                                          </p:spTgt>
                                        </p:tgtEl>
                                        <p:attrNameLst>
                                          <p:attrName>style.visibility</p:attrName>
                                        </p:attrNameLst>
                                      </p:cBhvr>
                                      <p:to>
                                        <p:strVal val="visible"/>
                                      </p:to>
                                    </p:set>
                                    <p:animEffect filter="strips(downLeft)" transition="in">
                                      <p:cBhvr additive="repl">
                                        <p:cTn id="334" dur="500"/>
                                        <p:tgtEl>
                                          <p:spTgt spid="245">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245">
                                            <p:txEl>
                                              <p:pRg st="3" end="3"/>
                                            </p:txEl>
                                          </p:spTgt>
                                        </p:tgtEl>
                                        <p:attrNameLst>
                                          <p:attrName>style.visibility</p:attrName>
                                        </p:attrNameLst>
                                      </p:cBhvr>
                                      <p:to>
                                        <p:strVal val="visible"/>
                                      </p:to>
                                    </p:set>
                                    <p:animEffect filter="circle(in)" transition="in">
                                      <p:cBhvr additive="repl">
                                        <p:cTn id="339" dur="2000"/>
                                        <p:tgtEl>
                                          <p:spTgt spid="245">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245">
                                            <p:txEl>
                                              <p:pRg st="4" end="4"/>
                                            </p:txEl>
                                          </p:spTgt>
                                        </p:tgtEl>
                                        <p:attrNameLst>
                                          <p:attrName>style.visibility</p:attrName>
                                        </p:attrNameLst>
                                      </p:cBhvr>
                                      <p:to>
                                        <p:strVal val="visible"/>
                                      </p:to>
                                    </p:set>
                                    <p:animEffect filter="strips(downLeft)" transition="in">
                                      <p:cBhvr additive="repl">
                                        <p:cTn id="344" dur="500"/>
                                        <p:tgtEl>
                                          <p:spTgt spid="245">
                                            <p:txEl>
                                              <p:pRg st="4" end="4"/>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245">
                                            <p:txEl>
                                              <p:pRg st="5" end="5"/>
                                            </p:txEl>
                                          </p:spTgt>
                                        </p:tgtEl>
                                        <p:attrNameLst>
                                          <p:attrName>style.visibility</p:attrName>
                                        </p:attrNameLst>
                                      </p:cBhvr>
                                      <p:to>
                                        <p:strVal val="visible"/>
                                      </p:to>
                                    </p:set>
                                    <p:animEffect filter="checkerboard(across)" transition="in">
                                      <p:cBhvr additive="repl">
                                        <p:cTn id="349"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object 2"/>
          <p:cNvGrpSpPr/>
          <p:nvPr/>
        </p:nvGrpSpPr>
        <p:grpSpPr>
          <a:xfrm>
            <a:off x="0" y="1150920"/>
            <a:ext cx="9144000" cy="4648320"/>
            <a:chOff x="0" y="1150920"/>
            <a:chExt cx="9144000" cy="4648320"/>
          </a:xfrm>
        </p:grpSpPr>
        <p:pic>
          <p:nvPicPr>
            <p:cNvPr id="63" name="object 3" descr=""/>
            <p:cNvPicPr/>
            <p:nvPr/>
          </p:nvPicPr>
          <p:blipFill>
            <a:blip r:embed="rId1"/>
            <a:stretch/>
          </p:blipFill>
          <p:spPr>
            <a:xfrm>
              <a:off x="0" y="1150920"/>
              <a:ext cx="9144000" cy="4648320"/>
            </a:xfrm>
            <a:prstGeom prst="rect">
              <a:avLst/>
            </a:prstGeom>
            <a:ln w="0">
              <a:noFill/>
            </a:ln>
          </p:spPr>
        </p:pic>
        <p:pic>
          <p:nvPicPr>
            <p:cNvPr id="64" name="object 5" descr=""/>
            <p:cNvPicPr/>
            <p:nvPr/>
          </p:nvPicPr>
          <p:blipFill>
            <a:blip r:embed="rId2"/>
            <a:stretch/>
          </p:blipFill>
          <p:spPr>
            <a:xfrm>
              <a:off x="5245200" y="1743120"/>
              <a:ext cx="366840" cy="469440"/>
            </a:xfrm>
            <a:prstGeom prst="rect">
              <a:avLst/>
            </a:prstGeom>
            <a:ln w="0">
              <a:noFill/>
            </a:ln>
          </p:spPr>
        </p:pic>
        <p:pic>
          <p:nvPicPr>
            <p:cNvPr id="65" name="object 6" descr=""/>
            <p:cNvPicPr/>
            <p:nvPr/>
          </p:nvPicPr>
          <p:blipFill>
            <a:blip r:embed="rId3"/>
            <a:stretch/>
          </p:blipFill>
          <p:spPr>
            <a:xfrm>
              <a:off x="5372280" y="1852560"/>
              <a:ext cx="160920" cy="207000"/>
            </a:xfrm>
            <a:prstGeom prst="rect">
              <a:avLst/>
            </a:prstGeom>
            <a:ln w="0">
              <a:noFill/>
            </a:ln>
          </p:spPr>
        </p:pic>
        <p:pic>
          <p:nvPicPr>
            <p:cNvPr id="66" name="object 7" descr=""/>
            <p:cNvPicPr/>
            <p:nvPr/>
          </p:nvPicPr>
          <p:blipFill>
            <a:blip r:embed="rId4"/>
            <a:stretch/>
          </p:blipFill>
          <p:spPr>
            <a:xfrm>
              <a:off x="5591520" y="2834640"/>
              <a:ext cx="366840" cy="469440"/>
            </a:xfrm>
            <a:prstGeom prst="rect">
              <a:avLst/>
            </a:prstGeom>
            <a:ln w="0">
              <a:noFill/>
            </a:ln>
          </p:spPr>
        </p:pic>
        <p:pic>
          <p:nvPicPr>
            <p:cNvPr id="67" name="object 8" descr=""/>
            <p:cNvPicPr/>
            <p:nvPr/>
          </p:nvPicPr>
          <p:blipFill>
            <a:blip r:embed="rId5"/>
            <a:stretch/>
          </p:blipFill>
          <p:spPr>
            <a:xfrm>
              <a:off x="5718600" y="2944080"/>
              <a:ext cx="160920" cy="207000"/>
            </a:xfrm>
            <a:prstGeom prst="rect">
              <a:avLst/>
            </a:prstGeom>
            <a:ln w="0">
              <a:noFill/>
            </a:ln>
          </p:spPr>
        </p:pic>
        <p:pic>
          <p:nvPicPr>
            <p:cNvPr id="68" name="object 9" descr=""/>
            <p:cNvPicPr/>
            <p:nvPr/>
          </p:nvPicPr>
          <p:blipFill>
            <a:blip r:embed="rId6"/>
            <a:stretch/>
          </p:blipFill>
          <p:spPr>
            <a:xfrm>
              <a:off x="5268240" y="3951000"/>
              <a:ext cx="366840" cy="468000"/>
            </a:xfrm>
            <a:prstGeom prst="rect">
              <a:avLst/>
            </a:prstGeom>
            <a:ln w="0">
              <a:noFill/>
            </a:ln>
          </p:spPr>
        </p:pic>
        <p:pic>
          <p:nvPicPr>
            <p:cNvPr id="69" name="object 10" descr=""/>
            <p:cNvPicPr/>
            <p:nvPr/>
          </p:nvPicPr>
          <p:blipFill>
            <a:blip r:embed="rId7"/>
            <a:stretch/>
          </p:blipFill>
          <p:spPr>
            <a:xfrm>
              <a:off x="5394960" y="4060440"/>
              <a:ext cx="160920" cy="205920"/>
            </a:xfrm>
            <a:prstGeom prst="rect">
              <a:avLst/>
            </a:prstGeom>
            <a:ln w="0">
              <a:noFill/>
            </a:ln>
          </p:spPr>
        </p:pic>
        <p:pic>
          <p:nvPicPr>
            <p:cNvPr id="70" name="object 11" descr=""/>
            <p:cNvPicPr/>
            <p:nvPr/>
          </p:nvPicPr>
          <p:blipFill>
            <a:blip r:embed="rId8"/>
            <a:stretch/>
          </p:blipFill>
          <p:spPr>
            <a:xfrm>
              <a:off x="3459960" y="3902760"/>
              <a:ext cx="366840" cy="468000"/>
            </a:xfrm>
            <a:prstGeom prst="rect">
              <a:avLst/>
            </a:prstGeom>
            <a:ln w="0">
              <a:noFill/>
            </a:ln>
          </p:spPr>
        </p:pic>
        <p:pic>
          <p:nvPicPr>
            <p:cNvPr id="71" name="object 12" descr=""/>
            <p:cNvPicPr/>
            <p:nvPr/>
          </p:nvPicPr>
          <p:blipFill>
            <a:blip r:embed="rId9"/>
            <a:stretch/>
          </p:blipFill>
          <p:spPr>
            <a:xfrm>
              <a:off x="3585960" y="4013280"/>
              <a:ext cx="161640" cy="205560"/>
            </a:xfrm>
            <a:prstGeom prst="rect">
              <a:avLst/>
            </a:prstGeom>
            <a:ln w="0">
              <a:noFill/>
            </a:ln>
          </p:spPr>
        </p:pic>
        <p:pic>
          <p:nvPicPr>
            <p:cNvPr id="72" name="object 13" descr=""/>
            <p:cNvPicPr/>
            <p:nvPr/>
          </p:nvPicPr>
          <p:blipFill>
            <a:blip r:embed="rId10"/>
            <a:stretch/>
          </p:blipFill>
          <p:spPr>
            <a:xfrm>
              <a:off x="3155760" y="2834640"/>
              <a:ext cx="366840" cy="468000"/>
            </a:xfrm>
            <a:prstGeom prst="rect">
              <a:avLst/>
            </a:prstGeom>
            <a:ln w="0">
              <a:noFill/>
            </a:ln>
          </p:spPr>
        </p:pic>
        <p:pic>
          <p:nvPicPr>
            <p:cNvPr id="73" name="object 14" descr=""/>
            <p:cNvPicPr/>
            <p:nvPr/>
          </p:nvPicPr>
          <p:blipFill>
            <a:blip r:embed="rId11"/>
            <a:stretch/>
          </p:blipFill>
          <p:spPr>
            <a:xfrm>
              <a:off x="3282120" y="2944440"/>
              <a:ext cx="160920" cy="206280"/>
            </a:xfrm>
            <a:prstGeom prst="rect">
              <a:avLst/>
            </a:prstGeom>
            <a:ln w="0">
              <a:noFill/>
            </a:ln>
          </p:spPr>
        </p:pic>
        <p:pic>
          <p:nvPicPr>
            <p:cNvPr id="74" name="object 15" descr=""/>
            <p:cNvPicPr/>
            <p:nvPr/>
          </p:nvPicPr>
          <p:blipFill>
            <a:blip r:embed="rId12"/>
            <a:stretch/>
          </p:blipFill>
          <p:spPr>
            <a:xfrm>
              <a:off x="3449520" y="1784160"/>
              <a:ext cx="366840" cy="469440"/>
            </a:xfrm>
            <a:prstGeom prst="rect">
              <a:avLst/>
            </a:prstGeom>
            <a:ln w="0">
              <a:noFill/>
            </a:ln>
          </p:spPr>
        </p:pic>
        <p:pic>
          <p:nvPicPr>
            <p:cNvPr id="75" name="object 16" descr=""/>
            <p:cNvPicPr/>
            <p:nvPr/>
          </p:nvPicPr>
          <p:blipFill>
            <a:blip r:embed="rId13"/>
            <a:stretch/>
          </p:blipFill>
          <p:spPr>
            <a:xfrm>
              <a:off x="3575880" y="1894680"/>
              <a:ext cx="160920" cy="206280"/>
            </a:xfrm>
            <a:prstGeom prst="rect">
              <a:avLst/>
            </a:prstGeom>
            <a:ln w="0">
              <a:noFill/>
            </a:ln>
          </p:spPr>
        </p:pic>
        <p:sp>
          <p:nvSpPr>
            <p:cNvPr id="76" name="object 17"/>
            <p:cNvSpPr/>
            <p:nvPr/>
          </p:nvSpPr>
          <p:spPr>
            <a:xfrm>
              <a:off x="446040" y="1447560"/>
              <a:ext cx="2739960" cy="927000"/>
            </a:xfrm>
            <a:custGeom>
              <a:avLst/>
              <a:gdLst/>
              <a:ahLst/>
              <a:rect l="l" t="t" r="r" b="b"/>
              <a:pathLst>
                <a:path w="3653154" h="967739">
                  <a:moveTo>
                    <a:pt x="3491738" y="0"/>
                  </a:moveTo>
                  <a:lnTo>
                    <a:pt x="161290" y="0"/>
                  </a:lnTo>
                  <a:lnTo>
                    <a:pt x="118412" y="5764"/>
                  </a:lnTo>
                  <a:lnTo>
                    <a:pt x="79883" y="22032"/>
                  </a:lnTo>
                  <a:lnTo>
                    <a:pt x="47240" y="47259"/>
                  </a:lnTo>
                  <a:lnTo>
                    <a:pt x="22020" y="79906"/>
                  </a:lnTo>
                  <a:lnTo>
                    <a:pt x="5761" y="118430"/>
                  </a:lnTo>
                  <a:lnTo>
                    <a:pt x="0" y="161289"/>
                  </a:lnTo>
                  <a:lnTo>
                    <a:pt x="0" y="806450"/>
                  </a:lnTo>
                  <a:lnTo>
                    <a:pt x="5761" y="849309"/>
                  </a:lnTo>
                  <a:lnTo>
                    <a:pt x="22020" y="887833"/>
                  </a:lnTo>
                  <a:lnTo>
                    <a:pt x="47240" y="920480"/>
                  </a:lnTo>
                  <a:lnTo>
                    <a:pt x="79883" y="945707"/>
                  </a:lnTo>
                  <a:lnTo>
                    <a:pt x="118412" y="961975"/>
                  </a:lnTo>
                  <a:lnTo>
                    <a:pt x="161290" y="967739"/>
                  </a:lnTo>
                  <a:lnTo>
                    <a:pt x="3491738" y="967739"/>
                  </a:lnTo>
                  <a:lnTo>
                    <a:pt x="3534597" y="961975"/>
                  </a:lnTo>
                  <a:lnTo>
                    <a:pt x="3573121" y="945707"/>
                  </a:lnTo>
                  <a:lnTo>
                    <a:pt x="3605768" y="920480"/>
                  </a:lnTo>
                  <a:lnTo>
                    <a:pt x="3630995" y="887833"/>
                  </a:lnTo>
                  <a:lnTo>
                    <a:pt x="3647263" y="849309"/>
                  </a:lnTo>
                  <a:lnTo>
                    <a:pt x="3653028" y="806450"/>
                  </a:lnTo>
                  <a:lnTo>
                    <a:pt x="3653028" y="161289"/>
                  </a:lnTo>
                  <a:lnTo>
                    <a:pt x="3647263" y="118430"/>
                  </a:lnTo>
                  <a:lnTo>
                    <a:pt x="3630995" y="79906"/>
                  </a:lnTo>
                  <a:lnTo>
                    <a:pt x="3605768" y="47259"/>
                  </a:lnTo>
                  <a:lnTo>
                    <a:pt x="3573121" y="22032"/>
                  </a:lnTo>
                  <a:lnTo>
                    <a:pt x="3534597" y="5764"/>
                  </a:lnTo>
                  <a:lnTo>
                    <a:pt x="3491738"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7" name="object 19"/>
          <p:cNvSpPr/>
          <p:nvPr/>
        </p:nvSpPr>
        <p:spPr>
          <a:xfrm>
            <a:off x="2778120" y="582480"/>
            <a:ext cx="3760920" cy="741960"/>
          </a:xfrm>
          <a:prstGeom prst="rect">
            <a:avLst/>
          </a:prstGeom>
          <a:noFill/>
          <a:ln w="0">
            <a:noFill/>
          </a:ln>
        </p:spPr>
        <p:style>
          <a:lnRef idx="0"/>
          <a:fillRef idx="0"/>
          <a:effectRef idx="0"/>
          <a:fontRef idx="minor"/>
        </p:style>
        <p:txBody>
          <a:bodyPr lIns="0" rIns="0" tIns="10080" bIns="0" anchor="t">
            <a:spAutoFit/>
          </a:bodyPr>
          <a:p>
            <a:pPr marL="7920" algn="ctr">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BHARAT GRIHA  RAKSHA  POLICY</a:t>
            </a:r>
            <a:endParaRPr b="0" lang="en-US" sz="2400" spc="-1" strike="noStrike">
              <a:solidFill>
                <a:srgbClr val="000000"/>
              </a:solidFill>
              <a:latin typeface="Times New Roman"/>
            </a:endParaRPr>
          </a:p>
        </p:txBody>
      </p:sp>
      <p:grpSp>
        <p:nvGrpSpPr>
          <p:cNvPr id="78" name="object 20"/>
          <p:cNvGrpSpPr/>
          <p:nvPr/>
        </p:nvGrpSpPr>
        <p:grpSpPr>
          <a:xfrm>
            <a:off x="201600" y="2517840"/>
            <a:ext cx="3105000" cy="2293920"/>
            <a:chOff x="201600" y="2517840"/>
            <a:chExt cx="3105000" cy="2293920"/>
          </a:xfrm>
        </p:grpSpPr>
        <p:sp>
          <p:nvSpPr>
            <p:cNvPr id="79" name="object 21"/>
            <p:cNvSpPr/>
            <p:nvPr/>
          </p:nvSpPr>
          <p:spPr>
            <a:xfrm>
              <a:off x="201600" y="3191040"/>
              <a:ext cx="2984400" cy="1620720"/>
            </a:xfrm>
            <a:custGeom>
              <a:avLst/>
              <a:gdLst/>
              <a:ahLst/>
              <a:rect l="l" t="t" r="r" b="b"/>
              <a:pathLst>
                <a:path w="3979545" h="2161540">
                  <a:moveTo>
                    <a:pt x="3653028" y="161036"/>
                  </a:moveTo>
                  <a:lnTo>
                    <a:pt x="3647262" y="118249"/>
                  </a:lnTo>
                  <a:lnTo>
                    <a:pt x="3631031" y="79781"/>
                  </a:lnTo>
                  <a:lnTo>
                    <a:pt x="3605834" y="47180"/>
                  </a:lnTo>
                  <a:lnTo>
                    <a:pt x="3573246" y="21996"/>
                  </a:lnTo>
                  <a:lnTo>
                    <a:pt x="3534778" y="5765"/>
                  </a:lnTo>
                  <a:lnTo>
                    <a:pt x="3491992" y="0"/>
                  </a:lnTo>
                  <a:lnTo>
                    <a:pt x="161036" y="0"/>
                  </a:lnTo>
                  <a:lnTo>
                    <a:pt x="118224" y="5765"/>
                  </a:lnTo>
                  <a:lnTo>
                    <a:pt x="79756" y="21996"/>
                  </a:lnTo>
                  <a:lnTo>
                    <a:pt x="47155" y="47193"/>
                  </a:lnTo>
                  <a:lnTo>
                    <a:pt x="21983" y="79781"/>
                  </a:lnTo>
                  <a:lnTo>
                    <a:pt x="5740" y="118249"/>
                  </a:lnTo>
                  <a:lnTo>
                    <a:pt x="0" y="161036"/>
                  </a:lnTo>
                  <a:lnTo>
                    <a:pt x="0" y="805180"/>
                  </a:lnTo>
                  <a:lnTo>
                    <a:pt x="5740" y="847979"/>
                  </a:lnTo>
                  <a:lnTo>
                    <a:pt x="21983" y="886447"/>
                  </a:lnTo>
                  <a:lnTo>
                    <a:pt x="47155" y="919035"/>
                  </a:lnTo>
                  <a:lnTo>
                    <a:pt x="79756" y="944232"/>
                  </a:lnTo>
                  <a:lnTo>
                    <a:pt x="118224"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2161540">
                  <a:moveTo>
                    <a:pt x="3979164" y="1355852"/>
                  </a:moveTo>
                  <a:lnTo>
                    <a:pt x="3973398" y="1313065"/>
                  </a:lnTo>
                  <a:lnTo>
                    <a:pt x="3957167" y="1274597"/>
                  </a:lnTo>
                  <a:lnTo>
                    <a:pt x="3931970" y="1242009"/>
                  </a:lnTo>
                  <a:lnTo>
                    <a:pt x="3899382" y="1216812"/>
                  </a:lnTo>
                  <a:lnTo>
                    <a:pt x="3860914" y="1200581"/>
                  </a:lnTo>
                  <a:lnTo>
                    <a:pt x="3818128" y="1194816"/>
                  </a:lnTo>
                  <a:lnTo>
                    <a:pt x="485648" y="1194816"/>
                  </a:lnTo>
                  <a:lnTo>
                    <a:pt x="442836" y="1200581"/>
                  </a:lnTo>
                  <a:lnTo>
                    <a:pt x="404368" y="1216812"/>
                  </a:lnTo>
                  <a:lnTo>
                    <a:pt x="371767" y="1241996"/>
                  </a:lnTo>
                  <a:lnTo>
                    <a:pt x="346595" y="1274597"/>
                  </a:lnTo>
                  <a:lnTo>
                    <a:pt x="330352" y="1313065"/>
                  </a:lnTo>
                  <a:lnTo>
                    <a:pt x="324612" y="1355852"/>
                  </a:lnTo>
                  <a:lnTo>
                    <a:pt x="324612" y="1999996"/>
                  </a:lnTo>
                  <a:lnTo>
                    <a:pt x="330352" y="2042795"/>
                  </a:lnTo>
                  <a:lnTo>
                    <a:pt x="346595" y="2081263"/>
                  </a:lnTo>
                  <a:lnTo>
                    <a:pt x="371767" y="2113864"/>
                  </a:lnTo>
                  <a:lnTo>
                    <a:pt x="404368" y="2139048"/>
                  </a:lnTo>
                  <a:lnTo>
                    <a:pt x="442836" y="2155279"/>
                  </a:lnTo>
                  <a:lnTo>
                    <a:pt x="485648" y="2161032"/>
                  </a:lnTo>
                  <a:lnTo>
                    <a:pt x="3818128" y="2161032"/>
                  </a:lnTo>
                  <a:lnTo>
                    <a:pt x="3860914" y="2155279"/>
                  </a:lnTo>
                  <a:lnTo>
                    <a:pt x="3899382" y="2139048"/>
                  </a:lnTo>
                  <a:lnTo>
                    <a:pt x="3931983" y="2113864"/>
                  </a:lnTo>
                  <a:lnTo>
                    <a:pt x="3957167" y="2081263"/>
                  </a:lnTo>
                  <a:lnTo>
                    <a:pt x="3973398" y="2042795"/>
                  </a:lnTo>
                  <a:lnTo>
                    <a:pt x="3979164" y="1999996"/>
                  </a:lnTo>
                  <a:lnTo>
                    <a:pt x="3979164" y="135585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 name="object 22"/>
            <p:cNvSpPr/>
            <p:nvPr/>
          </p:nvSpPr>
          <p:spPr>
            <a:xfrm>
              <a:off x="2811600" y="2517840"/>
              <a:ext cx="495000" cy="2044800"/>
            </a:xfrm>
            <a:custGeom>
              <a:avLst/>
              <a:gdLst/>
              <a:ahLst/>
              <a:rect l="l" t="t" r="r" b="b"/>
              <a:pathLst>
                <a:path w="661670" h="2726690">
                  <a:moveTo>
                    <a:pt x="283718" y="1334389"/>
                  </a:moveTo>
                  <a:lnTo>
                    <a:pt x="263144" y="1334389"/>
                  </a:lnTo>
                  <a:lnTo>
                    <a:pt x="263144" y="1381899"/>
                  </a:lnTo>
                  <a:lnTo>
                    <a:pt x="283718" y="1381899"/>
                  </a:lnTo>
                  <a:lnTo>
                    <a:pt x="283718" y="1334389"/>
                  </a:lnTo>
                  <a:close/>
                </a:path>
                <a:path w="661670" h="2726690">
                  <a:moveTo>
                    <a:pt x="348996" y="1214628"/>
                  </a:moveTo>
                  <a:lnTo>
                    <a:pt x="175387" y="1214628"/>
                  </a:lnTo>
                  <a:lnTo>
                    <a:pt x="175387" y="1187958"/>
                  </a:lnTo>
                  <a:lnTo>
                    <a:pt x="46609" y="1187958"/>
                  </a:lnTo>
                  <a:lnTo>
                    <a:pt x="46609" y="1165098"/>
                  </a:lnTo>
                  <a:lnTo>
                    <a:pt x="154940" y="1165098"/>
                  </a:lnTo>
                  <a:lnTo>
                    <a:pt x="154940" y="1187831"/>
                  </a:lnTo>
                  <a:lnTo>
                    <a:pt x="175387" y="1187831"/>
                  </a:lnTo>
                  <a:lnTo>
                    <a:pt x="175387" y="1165098"/>
                  </a:lnTo>
                  <a:lnTo>
                    <a:pt x="175387" y="1115568"/>
                  </a:lnTo>
                  <a:lnTo>
                    <a:pt x="22352" y="1115568"/>
                  </a:lnTo>
                  <a:lnTo>
                    <a:pt x="22352" y="1478788"/>
                  </a:lnTo>
                  <a:lnTo>
                    <a:pt x="0" y="1478788"/>
                  </a:lnTo>
                  <a:lnTo>
                    <a:pt x="0" y="1505458"/>
                  </a:lnTo>
                  <a:lnTo>
                    <a:pt x="348996" y="1505458"/>
                  </a:lnTo>
                  <a:lnTo>
                    <a:pt x="348996" y="1478788"/>
                  </a:lnTo>
                  <a:lnTo>
                    <a:pt x="348996" y="1454658"/>
                  </a:lnTo>
                  <a:lnTo>
                    <a:pt x="220218" y="1454658"/>
                  </a:lnTo>
                  <a:lnTo>
                    <a:pt x="220218" y="1431798"/>
                  </a:lnTo>
                  <a:lnTo>
                    <a:pt x="220218" y="1408938"/>
                  </a:lnTo>
                  <a:lnTo>
                    <a:pt x="263144" y="1408938"/>
                  </a:lnTo>
                  <a:lnTo>
                    <a:pt x="263144" y="1454150"/>
                  </a:lnTo>
                  <a:lnTo>
                    <a:pt x="283718" y="1454150"/>
                  </a:lnTo>
                  <a:lnTo>
                    <a:pt x="283718" y="1408938"/>
                  </a:lnTo>
                  <a:lnTo>
                    <a:pt x="328422" y="1408938"/>
                  </a:lnTo>
                  <a:lnTo>
                    <a:pt x="328422" y="1454150"/>
                  </a:lnTo>
                  <a:lnTo>
                    <a:pt x="348996" y="1454150"/>
                  </a:lnTo>
                  <a:lnTo>
                    <a:pt x="348996" y="1237488"/>
                  </a:lnTo>
                  <a:lnTo>
                    <a:pt x="328422" y="1237488"/>
                  </a:lnTo>
                  <a:lnTo>
                    <a:pt x="328422" y="1261618"/>
                  </a:lnTo>
                  <a:lnTo>
                    <a:pt x="328422" y="1311148"/>
                  </a:lnTo>
                  <a:lnTo>
                    <a:pt x="328422" y="1334008"/>
                  </a:lnTo>
                  <a:lnTo>
                    <a:pt x="328422" y="1382268"/>
                  </a:lnTo>
                  <a:lnTo>
                    <a:pt x="132461" y="1382268"/>
                  </a:lnTo>
                  <a:lnTo>
                    <a:pt x="132461" y="1431798"/>
                  </a:lnTo>
                  <a:lnTo>
                    <a:pt x="132461" y="1454658"/>
                  </a:lnTo>
                  <a:lnTo>
                    <a:pt x="132461" y="1478788"/>
                  </a:lnTo>
                  <a:lnTo>
                    <a:pt x="67183" y="1478788"/>
                  </a:lnTo>
                  <a:lnTo>
                    <a:pt x="67183" y="1431798"/>
                  </a:lnTo>
                  <a:lnTo>
                    <a:pt x="132461" y="1431798"/>
                  </a:lnTo>
                  <a:lnTo>
                    <a:pt x="132461" y="1382268"/>
                  </a:lnTo>
                  <a:lnTo>
                    <a:pt x="46609" y="1382268"/>
                  </a:lnTo>
                  <a:lnTo>
                    <a:pt x="46609" y="1359408"/>
                  </a:lnTo>
                  <a:lnTo>
                    <a:pt x="154940" y="1359408"/>
                  </a:lnTo>
                  <a:lnTo>
                    <a:pt x="154940" y="1381899"/>
                  </a:lnTo>
                  <a:lnTo>
                    <a:pt x="220218" y="1381899"/>
                  </a:lnTo>
                  <a:lnTo>
                    <a:pt x="220218" y="1359408"/>
                  </a:lnTo>
                  <a:lnTo>
                    <a:pt x="220218" y="1359154"/>
                  </a:lnTo>
                  <a:lnTo>
                    <a:pt x="220218" y="1334008"/>
                  </a:lnTo>
                  <a:lnTo>
                    <a:pt x="328422" y="1334008"/>
                  </a:lnTo>
                  <a:lnTo>
                    <a:pt x="328422" y="1311148"/>
                  </a:lnTo>
                  <a:lnTo>
                    <a:pt x="283718" y="1311148"/>
                  </a:lnTo>
                  <a:lnTo>
                    <a:pt x="283718" y="1262126"/>
                  </a:lnTo>
                  <a:lnTo>
                    <a:pt x="263144" y="1262126"/>
                  </a:lnTo>
                  <a:lnTo>
                    <a:pt x="263144" y="1311148"/>
                  </a:lnTo>
                  <a:lnTo>
                    <a:pt x="220218" y="1311148"/>
                  </a:lnTo>
                  <a:lnTo>
                    <a:pt x="220218" y="1284859"/>
                  </a:lnTo>
                  <a:lnTo>
                    <a:pt x="220218" y="1284478"/>
                  </a:lnTo>
                  <a:lnTo>
                    <a:pt x="220218" y="1262126"/>
                  </a:lnTo>
                  <a:lnTo>
                    <a:pt x="154940" y="1262126"/>
                  </a:lnTo>
                  <a:lnTo>
                    <a:pt x="154940" y="1284478"/>
                  </a:lnTo>
                  <a:lnTo>
                    <a:pt x="154940" y="1311148"/>
                  </a:lnTo>
                  <a:lnTo>
                    <a:pt x="154940" y="1334008"/>
                  </a:lnTo>
                  <a:lnTo>
                    <a:pt x="46609" y="1334008"/>
                  </a:lnTo>
                  <a:lnTo>
                    <a:pt x="46609" y="1311148"/>
                  </a:lnTo>
                  <a:lnTo>
                    <a:pt x="154940" y="1311148"/>
                  </a:lnTo>
                  <a:lnTo>
                    <a:pt x="154940" y="1284478"/>
                  </a:lnTo>
                  <a:lnTo>
                    <a:pt x="46609" y="1284478"/>
                  </a:lnTo>
                  <a:lnTo>
                    <a:pt x="46609" y="1261618"/>
                  </a:lnTo>
                  <a:lnTo>
                    <a:pt x="328422" y="1261618"/>
                  </a:lnTo>
                  <a:lnTo>
                    <a:pt x="328422" y="1237488"/>
                  </a:lnTo>
                  <a:lnTo>
                    <a:pt x="46609" y="1237488"/>
                  </a:lnTo>
                  <a:lnTo>
                    <a:pt x="46609" y="1214628"/>
                  </a:lnTo>
                  <a:lnTo>
                    <a:pt x="154940" y="1214628"/>
                  </a:lnTo>
                  <a:lnTo>
                    <a:pt x="154940" y="1237361"/>
                  </a:lnTo>
                  <a:lnTo>
                    <a:pt x="348996" y="1237361"/>
                  </a:lnTo>
                  <a:lnTo>
                    <a:pt x="348996" y="1214628"/>
                  </a:lnTo>
                  <a:close/>
                </a:path>
                <a:path w="661670" h="2726690">
                  <a:moveTo>
                    <a:pt x="364236" y="2653284"/>
                  </a:moveTo>
                  <a:lnTo>
                    <a:pt x="292608" y="2653284"/>
                  </a:lnTo>
                  <a:lnTo>
                    <a:pt x="292608" y="2726436"/>
                  </a:lnTo>
                  <a:lnTo>
                    <a:pt x="364236" y="2726436"/>
                  </a:lnTo>
                  <a:lnTo>
                    <a:pt x="364236" y="2653284"/>
                  </a:lnTo>
                  <a:close/>
                </a:path>
                <a:path w="661670" h="2726690">
                  <a:moveTo>
                    <a:pt x="460248" y="2604516"/>
                  </a:moveTo>
                  <a:lnTo>
                    <a:pt x="388620" y="2604516"/>
                  </a:lnTo>
                  <a:lnTo>
                    <a:pt x="388620" y="2726436"/>
                  </a:lnTo>
                  <a:lnTo>
                    <a:pt x="460248" y="2726436"/>
                  </a:lnTo>
                  <a:lnTo>
                    <a:pt x="460248" y="2604516"/>
                  </a:lnTo>
                  <a:close/>
                </a:path>
                <a:path w="661670" h="2726690">
                  <a:moveTo>
                    <a:pt x="556260" y="2557272"/>
                  </a:moveTo>
                  <a:lnTo>
                    <a:pt x="481584" y="2557272"/>
                  </a:lnTo>
                  <a:lnTo>
                    <a:pt x="481584" y="2726436"/>
                  </a:lnTo>
                  <a:lnTo>
                    <a:pt x="556260" y="2726436"/>
                  </a:lnTo>
                  <a:lnTo>
                    <a:pt x="556260" y="2557272"/>
                  </a:lnTo>
                  <a:close/>
                </a:path>
                <a:path w="661670" h="2726690">
                  <a:moveTo>
                    <a:pt x="571500" y="42926"/>
                  </a:moveTo>
                  <a:lnTo>
                    <a:pt x="567334" y="27165"/>
                  </a:lnTo>
                  <a:lnTo>
                    <a:pt x="556552" y="13423"/>
                  </a:lnTo>
                  <a:lnTo>
                    <a:pt x="541756" y="3695"/>
                  </a:lnTo>
                  <a:lnTo>
                    <a:pt x="525526" y="0"/>
                  </a:lnTo>
                  <a:lnTo>
                    <a:pt x="347726" y="0"/>
                  </a:lnTo>
                  <a:lnTo>
                    <a:pt x="331952" y="3695"/>
                  </a:lnTo>
                  <a:lnTo>
                    <a:pt x="318211" y="13423"/>
                  </a:lnTo>
                  <a:lnTo>
                    <a:pt x="308483" y="27165"/>
                  </a:lnTo>
                  <a:lnTo>
                    <a:pt x="304800" y="42926"/>
                  </a:lnTo>
                  <a:lnTo>
                    <a:pt x="304800" y="131826"/>
                  </a:lnTo>
                  <a:lnTo>
                    <a:pt x="308483" y="149428"/>
                  </a:lnTo>
                  <a:lnTo>
                    <a:pt x="318211" y="164122"/>
                  </a:lnTo>
                  <a:lnTo>
                    <a:pt x="331952" y="174193"/>
                  </a:lnTo>
                  <a:lnTo>
                    <a:pt x="347726" y="177927"/>
                  </a:lnTo>
                  <a:lnTo>
                    <a:pt x="347726" y="245364"/>
                  </a:lnTo>
                  <a:lnTo>
                    <a:pt x="415163" y="177927"/>
                  </a:lnTo>
                  <a:lnTo>
                    <a:pt x="525526" y="177927"/>
                  </a:lnTo>
                  <a:lnTo>
                    <a:pt x="541756" y="174193"/>
                  </a:lnTo>
                  <a:lnTo>
                    <a:pt x="556552" y="164122"/>
                  </a:lnTo>
                  <a:lnTo>
                    <a:pt x="567334" y="149428"/>
                  </a:lnTo>
                  <a:lnTo>
                    <a:pt x="571500" y="131826"/>
                  </a:lnTo>
                  <a:lnTo>
                    <a:pt x="571500" y="42926"/>
                  </a:lnTo>
                  <a:close/>
                </a:path>
                <a:path w="661670" h="2726690">
                  <a:moveTo>
                    <a:pt x="650748" y="2508504"/>
                  </a:moveTo>
                  <a:lnTo>
                    <a:pt x="579120" y="2508504"/>
                  </a:lnTo>
                  <a:lnTo>
                    <a:pt x="579120" y="2726436"/>
                  </a:lnTo>
                  <a:lnTo>
                    <a:pt x="650748" y="2726436"/>
                  </a:lnTo>
                  <a:lnTo>
                    <a:pt x="650748" y="2508504"/>
                  </a:lnTo>
                  <a:close/>
                </a:path>
                <a:path w="661670" h="2726690">
                  <a:moveTo>
                    <a:pt x="650748" y="2377440"/>
                  </a:moveTo>
                  <a:lnTo>
                    <a:pt x="599567" y="2428621"/>
                  </a:lnTo>
                  <a:lnTo>
                    <a:pt x="525907" y="2428621"/>
                  </a:lnTo>
                  <a:lnTo>
                    <a:pt x="433959" y="2498090"/>
                  </a:lnTo>
                  <a:lnTo>
                    <a:pt x="388874" y="2475611"/>
                  </a:lnTo>
                  <a:lnTo>
                    <a:pt x="268224" y="2573782"/>
                  </a:lnTo>
                  <a:lnTo>
                    <a:pt x="268224" y="2604516"/>
                  </a:lnTo>
                  <a:lnTo>
                    <a:pt x="390906" y="2504313"/>
                  </a:lnTo>
                  <a:lnTo>
                    <a:pt x="438023" y="2528824"/>
                  </a:lnTo>
                  <a:lnTo>
                    <a:pt x="536194" y="2453132"/>
                  </a:lnTo>
                  <a:lnTo>
                    <a:pt x="607822" y="2453132"/>
                  </a:lnTo>
                  <a:lnTo>
                    <a:pt x="650748" y="2410206"/>
                  </a:lnTo>
                  <a:lnTo>
                    <a:pt x="650748" y="2377440"/>
                  </a:lnTo>
                  <a:close/>
                </a:path>
                <a:path w="661670" h="2726690">
                  <a:moveTo>
                    <a:pt x="661416" y="157226"/>
                  </a:moveTo>
                  <a:lnTo>
                    <a:pt x="657250" y="139712"/>
                  </a:lnTo>
                  <a:lnTo>
                    <a:pt x="646468" y="125056"/>
                  </a:lnTo>
                  <a:lnTo>
                    <a:pt x="631672" y="114998"/>
                  </a:lnTo>
                  <a:lnTo>
                    <a:pt x="615442" y="111252"/>
                  </a:lnTo>
                  <a:lnTo>
                    <a:pt x="593979" y="111252"/>
                  </a:lnTo>
                  <a:lnTo>
                    <a:pt x="593979" y="132715"/>
                  </a:lnTo>
                  <a:lnTo>
                    <a:pt x="588162" y="158800"/>
                  </a:lnTo>
                  <a:lnTo>
                    <a:pt x="572871" y="180251"/>
                  </a:lnTo>
                  <a:lnTo>
                    <a:pt x="551268" y="194805"/>
                  </a:lnTo>
                  <a:lnTo>
                    <a:pt x="526542" y="200152"/>
                  </a:lnTo>
                  <a:lnTo>
                    <a:pt x="425323" y="200152"/>
                  </a:lnTo>
                  <a:lnTo>
                    <a:pt x="394716" y="230886"/>
                  </a:lnTo>
                  <a:lnTo>
                    <a:pt x="394716" y="246253"/>
                  </a:lnTo>
                  <a:lnTo>
                    <a:pt x="398399" y="262026"/>
                  </a:lnTo>
                  <a:lnTo>
                    <a:pt x="408127" y="275767"/>
                  </a:lnTo>
                  <a:lnTo>
                    <a:pt x="421868" y="285496"/>
                  </a:lnTo>
                  <a:lnTo>
                    <a:pt x="437642" y="289179"/>
                  </a:lnTo>
                  <a:lnTo>
                    <a:pt x="548005" y="289179"/>
                  </a:lnTo>
                  <a:lnTo>
                    <a:pt x="615442" y="356616"/>
                  </a:lnTo>
                  <a:lnTo>
                    <a:pt x="615442" y="289179"/>
                  </a:lnTo>
                  <a:lnTo>
                    <a:pt x="631672" y="285496"/>
                  </a:lnTo>
                  <a:lnTo>
                    <a:pt x="646468" y="275767"/>
                  </a:lnTo>
                  <a:lnTo>
                    <a:pt x="657250" y="262026"/>
                  </a:lnTo>
                  <a:lnTo>
                    <a:pt x="661416" y="246253"/>
                  </a:lnTo>
                  <a:lnTo>
                    <a:pt x="661416" y="157226"/>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1" name="object 23"/>
          <p:cNvSpPr/>
          <p:nvPr/>
        </p:nvSpPr>
        <p:spPr>
          <a:xfrm>
            <a:off x="260280" y="2282760"/>
            <a:ext cx="255420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Standard policy developed by</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IRDAI. For Home building and</a:t>
            </a:r>
            <a:endParaRPr b="0" lang="en-US" sz="13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Arial"/>
                <a:ea typeface="Arial"/>
              </a:rPr>
              <a:t>/or Home Contents</a:t>
            </a:r>
            <a:endParaRPr b="0" lang="en-US" sz="1300" spc="-1" strike="noStrike">
              <a:solidFill>
                <a:srgbClr val="000000"/>
              </a:solidFill>
              <a:latin typeface="Times New Roman"/>
            </a:endParaRPr>
          </a:p>
        </p:txBody>
      </p:sp>
      <p:sp>
        <p:nvSpPr>
          <p:cNvPr id="82" name="object 24"/>
          <p:cNvSpPr/>
          <p:nvPr/>
        </p:nvSpPr>
        <p:spPr>
          <a:xfrm>
            <a:off x="220680" y="3201840"/>
            <a:ext cx="2454120" cy="603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To be effective from 1.4.2021-  </a:t>
            </a:r>
            <a:r>
              <a:rPr b="1" lang="en-US" sz="1300" spc="-1" strike="noStrike">
                <a:solidFill>
                  <a:srgbClr val="000000"/>
                </a:solidFill>
                <a:latin typeface="Arial"/>
                <a:ea typeface="Arial"/>
              </a:rPr>
              <a:t>and</a:t>
            </a:r>
            <a:r>
              <a:rPr b="1" lang="en-US" sz="1300" spc="-1" strike="noStrike">
                <a:solidFill>
                  <a:srgbClr val="000000"/>
                </a:solidFill>
                <a:latin typeface="Century Gothic"/>
                <a:ea typeface="Century Gothic"/>
              </a:rPr>
              <a:t> will fall under Retail  category of products</a:t>
            </a:r>
            <a:endParaRPr b="0" lang="en-US" sz="1300" spc="-1" strike="noStrike">
              <a:solidFill>
                <a:srgbClr val="000000"/>
              </a:solidFill>
              <a:latin typeface="Times New Roman"/>
            </a:endParaRPr>
          </a:p>
        </p:txBody>
      </p:sp>
      <p:grpSp>
        <p:nvGrpSpPr>
          <p:cNvPr id="83" name="object 25"/>
          <p:cNvGrpSpPr/>
          <p:nvPr/>
        </p:nvGrpSpPr>
        <p:grpSpPr>
          <a:xfrm>
            <a:off x="5765760" y="2260440"/>
            <a:ext cx="3049560" cy="2527560"/>
            <a:chOff x="5765760" y="2260440"/>
            <a:chExt cx="3049560" cy="2527560"/>
          </a:xfrm>
        </p:grpSpPr>
        <p:sp>
          <p:nvSpPr>
            <p:cNvPr id="84" name="object 26"/>
            <p:cNvSpPr/>
            <p:nvPr/>
          </p:nvSpPr>
          <p:spPr>
            <a:xfrm>
              <a:off x="5829120" y="2260440"/>
              <a:ext cx="2986200" cy="2527560"/>
            </a:xfrm>
            <a:custGeom>
              <a:avLst/>
              <a:gdLst/>
              <a:ahLst/>
              <a:rect l="l" t="t" r="r" b="b"/>
              <a:pathLst>
                <a:path w="3979545" h="3369945">
                  <a:moveTo>
                    <a:pt x="3653028" y="161036"/>
                  </a:moveTo>
                  <a:lnTo>
                    <a:pt x="3647262" y="118249"/>
                  </a:lnTo>
                  <a:lnTo>
                    <a:pt x="3631031" y="79781"/>
                  </a:lnTo>
                  <a:lnTo>
                    <a:pt x="3605847" y="47180"/>
                  </a:lnTo>
                  <a:lnTo>
                    <a:pt x="3573246" y="21996"/>
                  </a:lnTo>
                  <a:lnTo>
                    <a:pt x="3534778" y="5765"/>
                  </a:lnTo>
                  <a:lnTo>
                    <a:pt x="3491992" y="0"/>
                  </a:lnTo>
                  <a:lnTo>
                    <a:pt x="161036" y="0"/>
                  </a:lnTo>
                  <a:lnTo>
                    <a:pt x="118237" y="5765"/>
                  </a:lnTo>
                  <a:lnTo>
                    <a:pt x="79768" y="21996"/>
                  </a:lnTo>
                  <a:lnTo>
                    <a:pt x="47180" y="47193"/>
                  </a:lnTo>
                  <a:lnTo>
                    <a:pt x="21983" y="79781"/>
                  </a:lnTo>
                  <a:lnTo>
                    <a:pt x="5753" y="118249"/>
                  </a:lnTo>
                  <a:lnTo>
                    <a:pt x="0" y="161036"/>
                  </a:lnTo>
                  <a:lnTo>
                    <a:pt x="0" y="805180"/>
                  </a:lnTo>
                  <a:lnTo>
                    <a:pt x="5753" y="847979"/>
                  </a:lnTo>
                  <a:lnTo>
                    <a:pt x="21983" y="886447"/>
                  </a:lnTo>
                  <a:lnTo>
                    <a:pt x="47167" y="919035"/>
                  </a:lnTo>
                  <a:lnTo>
                    <a:pt x="79768" y="944232"/>
                  </a:lnTo>
                  <a:lnTo>
                    <a:pt x="118237" y="960462"/>
                  </a:lnTo>
                  <a:lnTo>
                    <a:pt x="161036" y="966216"/>
                  </a:lnTo>
                  <a:lnTo>
                    <a:pt x="3491992" y="966216"/>
                  </a:lnTo>
                  <a:lnTo>
                    <a:pt x="3534778" y="960462"/>
                  </a:lnTo>
                  <a:lnTo>
                    <a:pt x="3573246" y="944232"/>
                  </a:lnTo>
                  <a:lnTo>
                    <a:pt x="3605847" y="919035"/>
                  </a:lnTo>
                  <a:lnTo>
                    <a:pt x="3631031" y="886447"/>
                  </a:lnTo>
                  <a:lnTo>
                    <a:pt x="3647262" y="847979"/>
                  </a:lnTo>
                  <a:lnTo>
                    <a:pt x="3653028" y="805180"/>
                  </a:lnTo>
                  <a:lnTo>
                    <a:pt x="3653028" y="161036"/>
                  </a:lnTo>
                  <a:close/>
                </a:path>
                <a:path w="3979545" h="3369945">
                  <a:moveTo>
                    <a:pt x="3654552" y="2564384"/>
                  </a:moveTo>
                  <a:lnTo>
                    <a:pt x="3648786" y="2521597"/>
                  </a:lnTo>
                  <a:lnTo>
                    <a:pt x="3632555" y="2483129"/>
                  </a:lnTo>
                  <a:lnTo>
                    <a:pt x="3607371" y="2450541"/>
                  </a:lnTo>
                  <a:lnTo>
                    <a:pt x="3574770" y="2425344"/>
                  </a:lnTo>
                  <a:lnTo>
                    <a:pt x="3536302" y="2409113"/>
                  </a:lnTo>
                  <a:lnTo>
                    <a:pt x="3493516" y="2403348"/>
                  </a:lnTo>
                  <a:lnTo>
                    <a:pt x="161036" y="2403348"/>
                  </a:lnTo>
                  <a:lnTo>
                    <a:pt x="118237" y="2409113"/>
                  </a:lnTo>
                  <a:lnTo>
                    <a:pt x="79768" y="2425344"/>
                  </a:lnTo>
                  <a:lnTo>
                    <a:pt x="47180" y="2450528"/>
                  </a:lnTo>
                  <a:lnTo>
                    <a:pt x="21983" y="2483129"/>
                  </a:lnTo>
                  <a:lnTo>
                    <a:pt x="5753" y="2521597"/>
                  </a:lnTo>
                  <a:lnTo>
                    <a:pt x="0" y="2564384"/>
                  </a:lnTo>
                  <a:lnTo>
                    <a:pt x="0" y="3208528"/>
                  </a:lnTo>
                  <a:lnTo>
                    <a:pt x="5753" y="3251327"/>
                  </a:lnTo>
                  <a:lnTo>
                    <a:pt x="21983" y="3289795"/>
                  </a:lnTo>
                  <a:lnTo>
                    <a:pt x="47167" y="3322383"/>
                  </a:lnTo>
                  <a:lnTo>
                    <a:pt x="79768" y="3347580"/>
                  </a:lnTo>
                  <a:lnTo>
                    <a:pt x="118237" y="3363811"/>
                  </a:lnTo>
                  <a:lnTo>
                    <a:pt x="161036" y="3369564"/>
                  </a:lnTo>
                  <a:lnTo>
                    <a:pt x="3493516" y="3369564"/>
                  </a:lnTo>
                  <a:lnTo>
                    <a:pt x="3536302" y="3363811"/>
                  </a:lnTo>
                  <a:lnTo>
                    <a:pt x="3574770" y="3347580"/>
                  </a:lnTo>
                  <a:lnTo>
                    <a:pt x="3607371" y="3322383"/>
                  </a:lnTo>
                  <a:lnTo>
                    <a:pt x="3632555" y="3289795"/>
                  </a:lnTo>
                  <a:lnTo>
                    <a:pt x="3648786" y="3251327"/>
                  </a:lnTo>
                  <a:lnTo>
                    <a:pt x="3654552" y="3208528"/>
                  </a:lnTo>
                  <a:lnTo>
                    <a:pt x="3654552" y="2564384"/>
                  </a:lnTo>
                  <a:close/>
                </a:path>
                <a:path w="3979545" h="3369945">
                  <a:moveTo>
                    <a:pt x="3979164" y="1371092"/>
                  </a:moveTo>
                  <a:lnTo>
                    <a:pt x="3973398" y="1328305"/>
                  </a:lnTo>
                  <a:lnTo>
                    <a:pt x="3957167" y="1289837"/>
                  </a:lnTo>
                  <a:lnTo>
                    <a:pt x="3931983" y="1257236"/>
                  </a:lnTo>
                  <a:lnTo>
                    <a:pt x="3899382" y="1232052"/>
                  </a:lnTo>
                  <a:lnTo>
                    <a:pt x="3860914" y="1215821"/>
                  </a:lnTo>
                  <a:lnTo>
                    <a:pt x="3818128" y="1210056"/>
                  </a:lnTo>
                  <a:lnTo>
                    <a:pt x="487172" y="1210056"/>
                  </a:lnTo>
                  <a:lnTo>
                    <a:pt x="444373" y="1215821"/>
                  </a:lnTo>
                  <a:lnTo>
                    <a:pt x="405904" y="1232052"/>
                  </a:lnTo>
                  <a:lnTo>
                    <a:pt x="373316" y="1257236"/>
                  </a:lnTo>
                  <a:lnTo>
                    <a:pt x="348119" y="1289837"/>
                  </a:lnTo>
                  <a:lnTo>
                    <a:pt x="331889" y="1328305"/>
                  </a:lnTo>
                  <a:lnTo>
                    <a:pt x="326136" y="1371092"/>
                  </a:lnTo>
                  <a:lnTo>
                    <a:pt x="326136" y="2015236"/>
                  </a:lnTo>
                  <a:lnTo>
                    <a:pt x="331889" y="2058035"/>
                  </a:lnTo>
                  <a:lnTo>
                    <a:pt x="348119" y="2096503"/>
                  </a:lnTo>
                  <a:lnTo>
                    <a:pt x="373316" y="2129091"/>
                  </a:lnTo>
                  <a:lnTo>
                    <a:pt x="405904" y="2154288"/>
                  </a:lnTo>
                  <a:lnTo>
                    <a:pt x="444373" y="2170519"/>
                  </a:lnTo>
                  <a:lnTo>
                    <a:pt x="487172" y="2176272"/>
                  </a:lnTo>
                  <a:lnTo>
                    <a:pt x="3818128" y="2176272"/>
                  </a:lnTo>
                  <a:lnTo>
                    <a:pt x="3860914" y="2170519"/>
                  </a:lnTo>
                  <a:lnTo>
                    <a:pt x="3899382" y="2154288"/>
                  </a:lnTo>
                  <a:lnTo>
                    <a:pt x="3931983" y="2129091"/>
                  </a:lnTo>
                  <a:lnTo>
                    <a:pt x="3957167" y="2096503"/>
                  </a:lnTo>
                  <a:lnTo>
                    <a:pt x="3973398" y="2058035"/>
                  </a:lnTo>
                  <a:lnTo>
                    <a:pt x="3979164" y="2015236"/>
                  </a:lnTo>
                  <a:lnTo>
                    <a:pt x="3979164" y="1371092"/>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5" name="object 27"/>
            <p:cNvSpPr/>
            <p:nvPr/>
          </p:nvSpPr>
          <p:spPr>
            <a:xfrm>
              <a:off x="5765760" y="2527200"/>
              <a:ext cx="569880" cy="2035440"/>
            </a:xfrm>
            <a:custGeom>
              <a:avLst/>
              <a:gdLst/>
              <a:ahLst/>
              <a:rect l="l" t="t" r="r" b="b"/>
              <a:pathLst>
                <a:path w="759459" h="2714625">
                  <a:moveTo>
                    <a:pt x="271780" y="2503678"/>
                  </a:moveTo>
                  <a:lnTo>
                    <a:pt x="267589" y="2499614"/>
                  </a:lnTo>
                  <a:lnTo>
                    <a:pt x="267589" y="2495423"/>
                  </a:lnTo>
                  <a:lnTo>
                    <a:pt x="197485" y="2429383"/>
                  </a:lnTo>
                  <a:lnTo>
                    <a:pt x="193421" y="2425319"/>
                  </a:lnTo>
                  <a:lnTo>
                    <a:pt x="193421" y="2503678"/>
                  </a:lnTo>
                  <a:lnTo>
                    <a:pt x="271780" y="2503678"/>
                  </a:lnTo>
                  <a:close/>
                </a:path>
                <a:path w="759459" h="2714625">
                  <a:moveTo>
                    <a:pt x="275844" y="2524379"/>
                  </a:moveTo>
                  <a:lnTo>
                    <a:pt x="213995" y="2524379"/>
                  </a:lnTo>
                  <a:lnTo>
                    <a:pt x="213995" y="2549144"/>
                  </a:lnTo>
                  <a:lnTo>
                    <a:pt x="213995" y="2565654"/>
                  </a:lnTo>
                  <a:lnTo>
                    <a:pt x="213995" y="2590419"/>
                  </a:lnTo>
                  <a:lnTo>
                    <a:pt x="213995" y="2606929"/>
                  </a:lnTo>
                  <a:lnTo>
                    <a:pt x="213995" y="2631694"/>
                  </a:lnTo>
                  <a:lnTo>
                    <a:pt x="213995" y="2648204"/>
                  </a:lnTo>
                  <a:lnTo>
                    <a:pt x="209931" y="2652268"/>
                  </a:lnTo>
                  <a:lnTo>
                    <a:pt x="90297" y="2652268"/>
                  </a:lnTo>
                  <a:lnTo>
                    <a:pt x="86233" y="2648204"/>
                  </a:lnTo>
                  <a:lnTo>
                    <a:pt x="86233" y="2631694"/>
                  </a:lnTo>
                  <a:lnTo>
                    <a:pt x="213995" y="2631694"/>
                  </a:lnTo>
                  <a:lnTo>
                    <a:pt x="213995" y="2606929"/>
                  </a:lnTo>
                  <a:lnTo>
                    <a:pt x="209931" y="2610993"/>
                  </a:lnTo>
                  <a:lnTo>
                    <a:pt x="90297" y="2610993"/>
                  </a:lnTo>
                  <a:lnTo>
                    <a:pt x="86233" y="2606929"/>
                  </a:lnTo>
                  <a:lnTo>
                    <a:pt x="86233" y="2590419"/>
                  </a:lnTo>
                  <a:lnTo>
                    <a:pt x="90297" y="2586228"/>
                  </a:lnTo>
                  <a:lnTo>
                    <a:pt x="209931" y="2586228"/>
                  </a:lnTo>
                  <a:lnTo>
                    <a:pt x="213995" y="2590419"/>
                  </a:lnTo>
                  <a:lnTo>
                    <a:pt x="213995" y="2565654"/>
                  </a:lnTo>
                  <a:lnTo>
                    <a:pt x="86233" y="2565654"/>
                  </a:lnTo>
                  <a:lnTo>
                    <a:pt x="86233" y="2549144"/>
                  </a:lnTo>
                  <a:lnTo>
                    <a:pt x="90297" y="2544953"/>
                  </a:lnTo>
                  <a:lnTo>
                    <a:pt x="209931" y="2544953"/>
                  </a:lnTo>
                  <a:lnTo>
                    <a:pt x="213995" y="2549144"/>
                  </a:lnTo>
                  <a:lnTo>
                    <a:pt x="213995" y="2524379"/>
                  </a:lnTo>
                  <a:lnTo>
                    <a:pt x="176911" y="2524379"/>
                  </a:lnTo>
                  <a:lnTo>
                    <a:pt x="172847" y="2516124"/>
                  </a:lnTo>
                  <a:lnTo>
                    <a:pt x="172847" y="2417064"/>
                  </a:lnTo>
                  <a:lnTo>
                    <a:pt x="28448" y="2417064"/>
                  </a:lnTo>
                  <a:lnTo>
                    <a:pt x="24384" y="2425319"/>
                  </a:lnTo>
                  <a:lnTo>
                    <a:pt x="24384" y="2710053"/>
                  </a:lnTo>
                  <a:lnTo>
                    <a:pt x="28448" y="2714244"/>
                  </a:lnTo>
                  <a:lnTo>
                    <a:pt x="271780" y="2714244"/>
                  </a:lnTo>
                  <a:lnTo>
                    <a:pt x="275844" y="2710053"/>
                  </a:lnTo>
                  <a:lnTo>
                    <a:pt x="275844" y="2652268"/>
                  </a:lnTo>
                  <a:lnTo>
                    <a:pt x="275844" y="2631694"/>
                  </a:lnTo>
                  <a:lnTo>
                    <a:pt x="275844" y="2610993"/>
                  </a:lnTo>
                  <a:lnTo>
                    <a:pt x="275844" y="2586228"/>
                  </a:lnTo>
                  <a:lnTo>
                    <a:pt x="275844" y="2565654"/>
                  </a:lnTo>
                  <a:lnTo>
                    <a:pt x="275844" y="2544953"/>
                  </a:lnTo>
                  <a:lnTo>
                    <a:pt x="275844" y="2524379"/>
                  </a:lnTo>
                  <a:close/>
                </a:path>
                <a:path w="759459" h="2714625">
                  <a:moveTo>
                    <a:pt x="282194" y="225933"/>
                  </a:moveTo>
                  <a:lnTo>
                    <a:pt x="274320" y="221996"/>
                  </a:lnTo>
                  <a:lnTo>
                    <a:pt x="262509" y="221996"/>
                  </a:lnTo>
                  <a:lnTo>
                    <a:pt x="262509" y="101219"/>
                  </a:lnTo>
                  <a:lnTo>
                    <a:pt x="219456" y="101219"/>
                  </a:lnTo>
                  <a:lnTo>
                    <a:pt x="219456" y="221996"/>
                  </a:lnTo>
                  <a:lnTo>
                    <a:pt x="199898" y="221996"/>
                  </a:lnTo>
                  <a:lnTo>
                    <a:pt x="199898" y="101219"/>
                  </a:lnTo>
                  <a:lnTo>
                    <a:pt x="160655" y="101219"/>
                  </a:lnTo>
                  <a:lnTo>
                    <a:pt x="160655" y="221996"/>
                  </a:lnTo>
                  <a:lnTo>
                    <a:pt x="141097" y="221996"/>
                  </a:lnTo>
                  <a:lnTo>
                    <a:pt x="141097" y="101219"/>
                  </a:lnTo>
                  <a:lnTo>
                    <a:pt x="97917" y="101219"/>
                  </a:lnTo>
                  <a:lnTo>
                    <a:pt x="97917" y="221996"/>
                  </a:lnTo>
                  <a:lnTo>
                    <a:pt x="78359" y="221996"/>
                  </a:lnTo>
                  <a:lnTo>
                    <a:pt x="78359" y="101219"/>
                  </a:lnTo>
                  <a:lnTo>
                    <a:pt x="39243" y="101219"/>
                  </a:lnTo>
                  <a:lnTo>
                    <a:pt x="39243" y="221996"/>
                  </a:lnTo>
                  <a:lnTo>
                    <a:pt x="23495" y="221996"/>
                  </a:lnTo>
                  <a:lnTo>
                    <a:pt x="19558" y="225933"/>
                  </a:lnTo>
                  <a:lnTo>
                    <a:pt x="19558" y="241427"/>
                  </a:lnTo>
                  <a:lnTo>
                    <a:pt x="282194" y="241427"/>
                  </a:lnTo>
                  <a:lnTo>
                    <a:pt x="282194" y="225933"/>
                  </a:lnTo>
                  <a:close/>
                </a:path>
                <a:path w="759459" h="2714625">
                  <a:moveTo>
                    <a:pt x="301752" y="257048"/>
                  </a:moveTo>
                  <a:lnTo>
                    <a:pt x="297815" y="253111"/>
                  </a:lnTo>
                  <a:lnTo>
                    <a:pt x="3937" y="253111"/>
                  </a:lnTo>
                  <a:lnTo>
                    <a:pt x="0" y="257048"/>
                  </a:lnTo>
                  <a:lnTo>
                    <a:pt x="0" y="280416"/>
                  </a:lnTo>
                  <a:lnTo>
                    <a:pt x="301752" y="280416"/>
                  </a:lnTo>
                  <a:lnTo>
                    <a:pt x="301752" y="257048"/>
                  </a:lnTo>
                  <a:close/>
                </a:path>
                <a:path w="759459" h="2714625">
                  <a:moveTo>
                    <a:pt x="301752" y="62357"/>
                  </a:moveTo>
                  <a:lnTo>
                    <a:pt x="148971" y="0"/>
                  </a:lnTo>
                  <a:lnTo>
                    <a:pt x="0" y="62357"/>
                  </a:lnTo>
                  <a:lnTo>
                    <a:pt x="0" y="81788"/>
                  </a:lnTo>
                  <a:lnTo>
                    <a:pt x="19558" y="81788"/>
                  </a:lnTo>
                  <a:lnTo>
                    <a:pt x="19558" y="85725"/>
                  </a:lnTo>
                  <a:lnTo>
                    <a:pt x="23495" y="89535"/>
                  </a:lnTo>
                  <a:lnTo>
                    <a:pt x="274320" y="89535"/>
                  </a:lnTo>
                  <a:lnTo>
                    <a:pt x="282194" y="85725"/>
                  </a:lnTo>
                  <a:lnTo>
                    <a:pt x="282194" y="81788"/>
                  </a:lnTo>
                  <a:lnTo>
                    <a:pt x="301752" y="81788"/>
                  </a:lnTo>
                  <a:lnTo>
                    <a:pt x="301752" y="62357"/>
                  </a:lnTo>
                  <a:close/>
                </a:path>
                <a:path w="759459" h="2714625">
                  <a:moveTo>
                    <a:pt x="639572" y="1275588"/>
                  </a:moveTo>
                  <a:lnTo>
                    <a:pt x="635000" y="1275588"/>
                  </a:lnTo>
                  <a:lnTo>
                    <a:pt x="635000" y="1270508"/>
                  </a:lnTo>
                  <a:lnTo>
                    <a:pt x="607441" y="1270508"/>
                  </a:lnTo>
                  <a:lnTo>
                    <a:pt x="602869" y="1261618"/>
                  </a:lnTo>
                  <a:lnTo>
                    <a:pt x="602869" y="1256538"/>
                  </a:lnTo>
                  <a:lnTo>
                    <a:pt x="598297" y="1252728"/>
                  </a:lnTo>
                  <a:lnTo>
                    <a:pt x="604367" y="1247648"/>
                  </a:lnTo>
                  <a:lnTo>
                    <a:pt x="609155" y="1243838"/>
                  </a:lnTo>
                  <a:lnTo>
                    <a:pt x="613079" y="1238758"/>
                  </a:lnTo>
                  <a:lnTo>
                    <a:pt x="616585" y="1233678"/>
                  </a:lnTo>
                  <a:lnTo>
                    <a:pt x="616585" y="1229868"/>
                  </a:lnTo>
                  <a:lnTo>
                    <a:pt x="612914" y="1223518"/>
                  </a:lnTo>
                  <a:lnTo>
                    <a:pt x="606615" y="1215898"/>
                  </a:lnTo>
                  <a:lnTo>
                    <a:pt x="604520" y="1213358"/>
                  </a:lnTo>
                  <a:lnTo>
                    <a:pt x="595249" y="1203198"/>
                  </a:lnTo>
                  <a:lnTo>
                    <a:pt x="589026" y="1196848"/>
                  </a:lnTo>
                  <a:lnTo>
                    <a:pt x="584454" y="1196848"/>
                  </a:lnTo>
                  <a:lnTo>
                    <a:pt x="566166" y="1212011"/>
                  </a:lnTo>
                  <a:lnTo>
                    <a:pt x="566166" y="1293368"/>
                  </a:lnTo>
                  <a:lnTo>
                    <a:pt x="562851" y="1313688"/>
                  </a:lnTo>
                  <a:lnTo>
                    <a:pt x="553504" y="1328928"/>
                  </a:lnTo>
                  <a:lnTo>
                    <a:pt x="539000" y="1340358"/>
                  </a:lnTo>
                  <a:lnTo>
                    <a:pt x="520192" y="1344168"/>
                  </a:lnTo>
                  <a:lnTo>
                    <a:pt x="503301" y="1340358"/>
                  </a:lnTo>
                  <a:lnTo>
                    <a:pt x="488581" y="1328928"/>
                  </a:lnTo>
                  <a:lnTo>
                    <a:pt x="478167" y="1313688"/>
                  </a:lnTo>
                  <a:lnTo>
                    <a:pt x="474218" y="1293368"/>
                  </a:lnTo>
                  <a:lnTo>
                    <a:pt x="478167" y="1276858"/>
                  </a:lnTo>
                  <a:lnTo>
                    <a:pt x="488581" y="1261618"/>
                  </a:lnTo>
                  <a:lnTo>
                    <a:pt x="503301" y="1251458"/>
                  </a:lnTo>
                  <a:lnTo>
                    <a:pt x="520192" y="1247648"/>
                  </a:lnTo>
                  <a:lnTo>
                    <a:pt x="539000" y="1251458"/>
                  </a:lnTo>
                  <a:lnTo>
                    <a:pt x="553504" y="1261618"/>
                  </a:lnTo>
                  <a:lnTo>
                    <a:pt x="562851" y="1276858"/>
                  </a:lnTo>
                  <a:lnTo>
                    <a:pt x="566166" y="1293368"/>
                  </a:lnTo>
                  <a:lnTo>
                    <a:pt x="566166" y="1212011"/>
                  </a:lnTo>
                  <a:lnTo>
                    <a:pt x="561467" y="1215898"/>
                  </a:lnTo>
                  <a:lnTo>
                    <a:pt x="556895" y="1215898"/>
                  </a:lnTo>
                  <a:lnTo>
                    <a:pt x="552323" y="1210818"/>
                  </a:lnTo>
                  <a:lnTo>
                    <a:pt x="547751" y="1210818"/>
                  </a:lnTo>
                  <a:lnTo>
                    <a:pt x="543179" y="1182878"/>
                  </a:lnTo>
                  <a:lnTo>
                    <a:pt x="543179" y="1179068"/>
                  </a:lnTo>
                  <a:lnTo>
                    <a:pt x="497205" y="1179068"/>
                  </a:lnTo>
                  <a:lnTo>
                    <a:pt x="497128" y="1190498"/>
                  </a:lnTo>
                  <a:lnTo>
                    <a:pt x="496633" y="1196848"/>
                  </a:lnTo>
                  <a:lnTo>
                    <a:pt x="495274" y="1204468"/>
                  </a:lnTo>
                  <a:lnTo>
                    <a:pt x="492633" y="1210818"/>
                  </a:lnTo>
                  <a:lnTo>
                    <a:pt x="488061" y="1210818"/>
                  </a:lnTo>
                  <a:lnTo>
                    <a:pt x="483489" y="1215898"/>
                  </a:lnTo>
                  <a:lnTo>
                    <a:pt x="478917" y="1215898"/>
                  </a:lnTo>
                  <a:lnTo>
                    <a:pt x="460502" y="1196848"/>
                  </a:lnTo>
                  <a:lnTo>
                    <a:pt x="455930" y="1196848"/>
                  </a:lnTo>
                  <a:lnTo>
                    <a:pt x="449618" y="1200658"/>
                  </a:lnTo>
                  <a:lnTo>
                    <a:pt x="430098" y="1218438"/>
                  </a:lnTo>
                  <a:lnTo>
                    <a:pt x="423799" y="1224788"/>
                  </a:lnTo>
                  <a:lnTo>
                    <a:pt x="423799" y="1233678"/>
                  </a:lnTo>
                  <a:lnTo>
                    <a:pt x="429869" y="1238758"/>
                  </a:lnTo>
                  <a:lnTo>
                    <a:pt x="434657" y="1242568"/>
                  </a:lnTo>
                  <a:lnTo>
                    <a:pt x="438581" y="1247648"/>
                  </a:lnTo>
                  <a:lnTo>
                    <a:pt x="442087" y="1252728"/>
                  </a:lnTo>
                  <a:lnTo>
                    <a:pt x="437515" y="1256538"/>
                  </a:lnTo>
                  <a:lnTo>
                    <a:pt x="437515" y="1266698"/>
                  </a:lnTo>
                  <a:lnTo>
                    <a:pt x="405384" y="1270508"/>
                  </a:lnTo>
                  <a:lnTo>
                    <a:pt x="400812" y="1275588"/>
                  </a:lnTo>
                  <a:lnTo>
                    <a:pt x="400812" y="1316228"/>
                  </a:lnTo>
                  <a:lnTo>
                    <a:pt x="405384" y="1316228"/>
                  </a:lnTo>
                  <a:lnTo>
                    <a:pt x="437515" y="1321308"/>
                  </a:lnTo>
                  <a:lnTo>
                    <a:pt x="437515" y="1330198"/>
                  </a:lnTo>
                  <a:lnTo>
                    <a:pt x="442087" y="1335278"/>
                  </a:lnTo>
                  <a:lnTo>
                    <a:pt x="438581" y="1341628"/>
                  </a:lnTo>
                  <a:lnTo>
                    <a:pt x="434657" y="1346708"/>
                  </a:lnTo>
                  <a:lnTo>
                    <a:pt x="429869" y="1351788"/>
                  </a:lnTo>
                  <a:lnTo>
                    <a:pt x="423799" y="1358138"/>
                  </a:lnTo>
                  <a:lnTo>
                    <a:pt x="423799" y="1363218"/>
                  </a:lnTo>
                  <a:lnTo>
                    <a:pt x="427456" y="1368298"/>
                  </a:lnTo>
                  <a:lnTo>
                    <a:pt x="435864" y="1375918"/>
                  </a:lnTo>
                  <a:lnTo>
                    <a:pt x="445122" y="1384808"/>
                  </a:lnTo>
                  <a:lnTo>
                    <a:pt x="451358" y="1389888"/>
                  </a:lnTo>
                  <a:lnTo>
                    <a:pt x="460502" y="1389888"/>
                  </a:lnTo>
                  <a:lnTo>
                    <a:pt x="478917" y="1375918"/>
                  </a:lnTo>
                  <a:lnTo>
                    <a:pt x="483489" y="1375918"/>
                  </a:lnTo>
                  <a:lnTo>
                    <a:pt x="488061" y="1380998"/>
                  </a:lnTo>
                  <a:lnTo>
                    <a:pt x="492633" y="1380998"/>
                  </a:lnTo>
                  <a:lnTo>
                    <a:pt x="497205" y="1408938"/>
                  </a:lnTo>
                  <a:lnTo>
                    <a:pt x="497205" y="1412748"/>
                  </a:lnTo>
                  <a:lnTo>
                    <a:pt x="543179" y="1412748"/>
                  </a:lnTo>
                  <a:lnTo>
                    <a:pt x="543179" y="1408938"/>
                  </a:lnTo>
                  <a:lnTo>
                    <a:pt x="545820" y="1401318"/>
                  </a:lnTo>
                  <a:lnTo>
                    <a:pt x="547179" y="1394968"/>
                  </a:lnTo>
                  <a:lnTo>
                    <a:pt x="547674" y="1387348"/>
                  </a:lnTo>
                  <a:lnTo>
                    <a:pt x="547751" y="1380998"/>
                  </a:lnTo>
                  <a:lnTo>
                    <a:pt x="552323" y="1375918"/>
                  </a:lnTo>
                  <a:lnTo>
                    <a:pt x="561467" y="1375918"/>
                  </a:lnTo>
                  <a:lnTo>
                    <a:pt x="584454" y="1389888"/>
                  </a:lnTo>
                  <a:lnTo>
                    <a:pt x="589026" y="1389888"/>
                  </a:lnTo>
                  <a:lnTo>
                    <a:pt x="594614" y="1387348"/>
                  </a:lnTo>
                  <a:lnTo>
                    <a:pt x="602805" y="1379728"/>
                  </a:lnTo>
                  <a:lnTo>
                    <a:pt x="606310" y="1375918"/>
                  </a:lnTo>
                  <a:lnTo>
                    <a:pt x="610984" y="1370838"/>
                  </a:lnTo>
                  <a:lnTo>
                    <a:pt x="616585" y="1363218"/>
                  </a:lnTo>
                  <a:lnTo>
                    <a:pt x="616585" y="1358138"/>
                  </a:lnTo>
                  <a:lnTo>
                    <a:pt x="613079" y="1351788"/>
                  </a:lnTo>
                  <a:lnTo>
                    <a:pt x="609155" y="1346708"/>
                  </a:lnTo>
                  <a:lnTo>
                    <a:pt x="606755" y="1344168"/>
                  </a:lnTo>
                  <a:lnTo>
                    <a:pt x="604367" y="1341628"/>
                  </a:lnTo>
                  <a:lnTo>
                    <a:pt x="598297" y="1335278"/>
                  </a:lnTo>
                  <a:lnTo>
                    <a:pt x="602869" y="1330198"/>
                  </a:lnTo>
                  <a:lnTo>
                    <a:pt x="602869" y="1326388"/>
                  </a:lnTo>
                  <a:lnTo>
                    <a:pt x="607441" y="1321308"/>
                  </a:lnTo>
                  <a:lnTo>
                    <a:pt x="635000" y="1316228"/>
                  </a:lnTo>
                  <a:lnTo>
                    <a:pt x="639572" y="1316228"/>
                  </a:lnTo>
                  <a:lnTo>
                    <a:pt x="639572" y="1275588"/>
                  </a:lnTo>
                  <a:close/>
                </a:path>
                <a:path w="759459" h="2714625">
                  <a:moveTo>
                    <a:pt x="758952" y="1375918"/>
                  </a:moveTo>
                  <a:lnTo>
                    <a:pt x="754634" y="1373378"/>
                  </a:lnTo>
                  <a:lnTo>
                    <a:pt x="745159" y="1372108"/>
                  </a:lnTo>
                  <a:lnTo>
                    <a:pt x="731393" y="1372108"/>
                  </a:lnTo>
                  <a:lnTo>
                    <a:pt x="726821" y="1367028"/>
                  </a:lnTo>
                  <a:lnTo>
                    <a:pt x="726821" y="1363218"/>
                  </a:lnTo>
                  <a:lnTo>
                    <a:pt x="722249" y="1363218"/>
                  </a:lnTo>
                  <a:lnTo>
                    <a:pt x="725601" y="1356868"/>
                  </a:lnTo>
                  <a:lnTo>
                    <a:pt x="728535" y="1349248"/>
                  </a:lnTo>
                  <a:lnTo>
                    <a:pt x="729716" y="1344168"/>
                  </a:lnTo>
                  <a:lnTo>
                    <a:pt x="730605" y="1340358"/>
                  </a:lnTo>
                  <a:lnTo>
                    <a:pt x="708406" y="1321308"/>
                  </a:lnTo>
                  <a:lnTo>
                    <a:pt x="708406" y="1389888"/>
                  </a:lnTo>
                  <a:lnTo>
                    <a:pt x="706755" y="1400048"/>
                  </a:lnTo>
                  <a:lnTo>
                    <a:pt x="702119" y="1406398"/>
                  </a:lnTo>
                  <a:lnTo>
                    <a:pt x="694893" y="1411478"/>
                  </a:lnTo>
                  <a:lnTo>
                    <a:pt x="685546" y="1412748"/>
                  </a:lnTo>
                  <a:lnTo>
                    <a:pt x="676109" y="1411478"/>
                  </a:lnTo>
                  <a:lnTo>
                    <a:pt x="668858" y="1406398"/>
                  </a:lnTo>
                  <a:lnTo>
                    <a:pt x="664197" y="1400048"/>
                  </a:lnTo>
                  <a:lnTo>
                    <a:pt x="662559" y="1389888"/>
                  </a:lnTo>
                  <a:lnTo>
                    <a:pt x="664197" y="1380998"/>
                  </a:lnTo>
                  <a:lnTo>
                    <a:pt x="668858" y="1373378"/>
                  </a:lnTo>
                  <a:lnTo>
                    <a:pt x="676109" y="1368298"/>
                  </a:lnTo>
                  <a:lnTo>
                    <a:pt x="685546" y="1367028"/>
                  </a:lnTo>
                  <a:lnTo>
                    <a:pt x="694893" y="1368298"/>
                  </a:lnTo>
                  <a:lnTo>
                    <a:pt x="702119" y="1373378"/>
                  </a:lnTo>
                  <a:lnTo>
                    <a:pt x="706755" y="1380998"/>
                  </a:lnTo>
                  <a:lnTo>
                    <a:pt x="708406" y="1389888"/>
                  </a:lnTo>
                  <a:lnTo>
                    <a:pt x="708406" y="1321308"/>
                  </a:lnTo>
                  <a:lnTo>
                    <a:pt x="704253" y="1327658"/>
                  </a:lnTo>
                  <a:lnTo>
                    <a:pt x="694258" y="1337818"/>
                  </a:lnTo>
                  <a:lnTo>
                    <a:pt x="690118" y="1344168"/>
                  </a:lnTo>
                  <a:lnTo>
                    <a:pt x="680847" y="1344168"/>
                  </a:lnTo>
                  <a:lnTo>
                    <a:pt x="678624" y="1339088"/>
                  </a:lnTo>
                  <a:lnTo>
                    <a:pt x="673417" y="1331468"/>
                  </a:lnTo>
                  <a:lnTo>
                    <a:pt x="667334" y="1323848"/>
                  </a:lnTo>
                  <a:lnTo>
                    <a:pt x="662559" y="1321308"/>
                  </a:lnTo>
                  <a:lnTo>
                    <a:pt x="659599" y="1323848"/>
                  </a:lnTo>
                  <a:lnTo>
                    <a:pt x="652780" y="1327658"/>
                  </a:lnTo>
                  <a:lnTo>
                    <a:pt x="645083" y="1332738"/>
                  </a:lnTo>
                  <a:lnTo>
                    <a:pt x="639572" y="1335278"/>
                  </a:lnTo>
                  <a:lnTo>
                    <a:pt x="640994" y="1340358"/>
                  </a:lnTo>
                  <a:lnTo>
                    <a:pt x="647280" y="1356868"/>
                  </a:lnTo>
                  <a:lnTo>
                    <a:pt x="648716" y="1363218"/>
                  </a:lnTo>
                  <a:lnTo>
                    <a:pt x="644144" y="1363218"/>
                  </a:lnTo>
                  <a:lnTo>
                    <a:pt x="644144" y="1372108"/>
                  </a:lnTo>
                  <a:lnTo>
                    <a:pt x="628650" y="1372108"/>
                  </a:lnTo>
                  <a:lnTo>
                    <a:pt x="620242" y="1373378"/>
                  </a:lnTo>
                  <a:lnTo>
                    <a:pt x="616585" y="1375918"/>
                  </a:lnTo>
                  <a:lnTo>
                    <a:pt x="616585" y="1403858"/>
                  </a:lnTo>
                  <a:lnTo>
                    <a:pt x="620242" y="1405128"/>
                  </a:lnTo>
                  <a:lnTo>
                    <a:pt x="628650" y="1406398"/>
                  </a:lnTo>
                  <a:lnTo>
                    <a:pt x="637908" y="1407668"/>
                  </a:lnTo>
                  <a:lnTo>
                    <a:pt x="644144" y="1408938"/>
                  </a:lnTo>
                  <a:lnTo>
                    <a:pt x="644144" y="1412748"/>
                  </a:lnTo>
                  <a:lnTo>
                    <a:pt x="648716" y="1417828"/>
                  </a:lnTo>
                  <a:lnTo>
                    <a:pt x="647280" y="1422908"/>
                  </a:lnTo>
                  <a:lnTo>
                    <a:pt x="640994" y="1439418"/>
                  </a:lnTo>
                  <a:lnTo>
                    <a:pt x="639572" y="1445768"/>
                  </a:lnTo>
                  <a:lnTo>
                    <a:pt x="645083" y="1447038"/>
                  </a:lnTo>
                  <a:lnTo>
                    <a:pt x="652780" y="1452118"/>
                  </a:lnTo>
                  <a:lnTo>
                    <a:pt x="659599" y="1457198"/>
                  </a:lnTo>
                  <a:lnTo>
                    <a:pt x="662559" y="1458468"/>
                  </a:lnTo>
                  <a:lnTo>
                    <a:pt x="667334" y="1455928"/>
                  </a:lnTo>
                  <a:lnTo>
                    <a:pt x="673417" y="1449578"/>
                  </a:lnTo>
                  <a:lnTo>
                    <a:pt x="678624" y="1441958"/>
                  </a:lnTo>
                  <a:lnTo>
                    <a:pt x="680847" y="1435608"/>
                  </a:lnTo>
                  <a:lnTo>
                    <a:pt x="690118" y="1435608"/>
                  </a:lnTo>
                  <a:lnTo>
                    <a:pt x="694893" y="1441958"/>
                  </a:lnTo>
                  <a:lnTo>
                    <a:pt x="700976" y="1449578"/>
                  </a:lnTo>
                  <a:lnTo>
                    <a:pt x="706183" y="1455928"/>
                  </a:lnTo>
                  <a:lnTo>
                    <a:pt x="708406" y="1458468"/>
                  </a:lnTo>
                  <a:lnTo>
                    <a:pt x="713917" y="1457198"/>
                  </a:lnTo>
                  <a:lnTo>
                    <a:pt x="721614" y="1452118"/>
                  </a:lnTo>
                  <a:lnTo>
                    <a:pt x="728433" y="1447038"/>
                  </a:lnTo>
                  <a:lnTo>
                    <a:pt x="731393" y="1445768"/>
                  </a:lnTo>
                  <a:lnTo>
                    <a:pt x="730605" y="1439418"/>
                  </a:lnTo>
                  <a:lnTo>
                    <a:pt x="729564" y="1435608"/>
                  </a:lnTo>
                  <a:lnTo>
                    <a:pt x="728535" y="1431798"/>
                  </a:lnTo>
                  <a:lnTo>
                    <a:pt x="725601" y="1422908"/>
                  </a:lnTo>
                  <a:lnTo>
                    <a:pt x="722249" y="1417828"/>
                  </a:lnTo>
                  <a:lnTo>
                    <a:pt x="727468" y="1412748"/>
                  </a:lnTo>
                  <a:lnTo>
                    <a:pt x="731393" y="1408938"/>
                  </a:lnTo>
                  <a:lnTo>
                    <a:pt x="758952" y="1403858"/>
                  </a:lnTo>
                  <a:lnTo>
                    <a:pt x="758952" y="1375918"/>
                  </a:lnTo>
                  <a:close/>
                </a:path>
                <a:path w="759459" h="2714625">
                  <a:moveTo>
                    <a:pt x="758952" y="1187958"/>
                  </a:moveTo>
                  <a:lnTo>
                    <a:pt x="754634" y="1185418"/>
                  </a:lnTo>
                  <a:lnTo>
                    <a:pt x="745159" y="1184148"/>
                  </a:lnTo>
                  <a:lnTo>
                    <a:pt x="735698" y="1184148"/>
                  </a:lnTo>
                  <a:lnTo>
                    <a:pt x="731393" y="1182878"/>
                  </a:lnTo>
                  <a:lnTo>
                    <a:pt x="726821" y="1179068"/>
                  </a:lnTo>
                  <a:lnTo>
                    <a:pt x="726821" y="1173988"/>
                  </a:lnTo>
                  <a:lnTo>
                    <a:pt x="722249" y="1173988"/>
                  </a:lnTo>
                  <a:lnTo>
                    <a:pt x="725601" y="1168908"/>
                  </a:lnTo>
                  <a:lnTo>
                    <a:pt x="728535" y="1160018"/>
                  </a:lnTo>
                  <a:lnTo>
                    <a:pt x="729564" y="1156208"/>
                  </a:lnTo>
                  <a:lnTo>
                    <a:pt x="730605" y="1152398"/>
                  </a:lnTo>
                  <a:lnTo>
                    <a:pt x="708406" y="1133348"/>
                  </a:lnTo>
                  <a:lnTo>
                    <a:pt x="708406" y="1201928"/>
                  </a:lnTo>
                  <a:lnTo>
                    <a:pt x="706755" y="1210818"/>
                  </a:lnTo>
                  <a:lnTo>
                    <a:pt x="702119" y="1218438"/>
                  </a:lnTo>
                  <a:lnTo>
                    <a:pt x="694893" y="1223518"/>
                  </a:lnTo>
                  <a:lnTo>
                    <a:pt x="685546" y="1224788"/>
                  </a:lnTo>
                  <a:lnTo>
                    <a:pt x="676109" y="1223518"/>
                  </a:lnTo>
                  <a:lnTo>
                    <a:pt x="668858" y="1218438"/>
                  </a:lnTo>
                  <a:lnTo>
                    <a:pt x="664197" y="1210818"/>
                  </a:lnTo>
                  <a:lnTo>
                    <a:pt x="662559" y="1201928"/>
                  </a:lnTo>
                  <a:lnTo>
                    <a:pt x="664197" y="1193038"/>
                  </a:lnTo>
                  <a:lnTo>
                    <a:pt x="668858" y="1185418"/>
                  </a:lnTo>
                  <a:lnTo>
                    <a:pt x="676109" y="1180338"/>
                  </a:lnTo>
                  <a:lnTo>
                    <a:pt x="685546" y="1179068"/>
                  </a:lnTo>
                  <a:lnTo>
                    <a:pt x="694893" y="1180338"/>
                  </a:lnTo>
                  <a:lnTo>
                    <a:pt x="702119" y="1185418"/>
                  </a:lnTo>
                  <a:lnTo>
                    <a:pt x="706755" y="1193038"/>
                  </a:lnTo>
                  <a:lnTo>
                    <a:pt x="708406" y="1201928"/>
                  </a:lnTo>
                  <a:lnTo>
                    <a:pt x="708406" y="1133348"/>
                  </a:lnTo>
                  <a:lnTo>
                    <a:pt x="704253" y="1137158"/>
                  </a:lnTo>
                  <a:lnTo>
                    <a:pt x="699249" y="1142238"/>
                  </a:lnTo>
                  <a:lnTo>
                    <a:pt x="694258" y="1148588"/>
                  </a:lnTo>
                  <a:lnTo>
                    <a:pt x="690118" y="1156208"/>
                  </a:lnTo>
                  <a:lnTo>
                    <a:pt x="690118" y="1151128"/>
                  </a:lnTo>
                  <a:lnTo>
                    <a:pt x="680847" y="1151128"/>
                  </a:lnTo>
                  <a:lnTo>
                    <a:pt x="680847" y="1156208"/>
                  </a:lnTo>
                  <a:lnTo>
                    <a:pt x="678624" y="1149858"/>
                  </a:lnTo>
                  <a:lnTo>
                    <a:pt x="673417" y="1142238"/>
                  </a:lnTo>
                  <a:lnTo>
                    <a:pt x="667334" y="1135888"/>
                  </a:lnTo>
                  <a:lnTo>
                    <a:pt x="662559" y="1133348"/>
                  </a:lnTo>
                  <a:lnTo>
                    <a:pt x="659599" y="1134618"/>
                  </a:lnTo>
                  <a:lnTo>
                    <a:pt x="652780" y="1139698"/>
                  </a:lnTo>
                  <a:lnTo>
                    <a:pt x="645083" y="1144778"/>
                  </a:lnTo>
                  <a:lnTo>
                    <a:pt x="639572" y="1147318"/>
                  </a:lnTo>
                  <a:lnTo>
                    <a:pt x="640994" y="1152398"/>
                  </a:lnTo>
                  <a:lnTo>
                    <a:pt x="647280" y="1168908"/>
                  </a:lnTo>
                  <a:lnTo>
                    <a:pt x="648716" y="1173988"/>
                  </a:lnTo>
                  <a:lnTo>
                    <a:pt x="644144" y="1173988"/>
                  </a:lnTo>
                  <a:lnTo>
                    <a:pt x="644144" y="1182878"/>
                  </a:lnTo>
                  <a:lnTo>
                    <a:pt x="637908" y="1184148"/>
                  </a:lnTo>
                  <a:lnTo>
                    <a:pt x="628650" y="1184148"/>
                  </a:lnTo>
                  <a:lnTo>
                    <a:pt x="620242" y="1185418"/>
                  </a:lnTo>
                  <a:lnTo>
                    <a:pt x="616585" y="1187958"/>
                  </a:lnTo>
                  <a:lnTo>
                    <a:pt x="616585" y="1215898"/>
                  </a:lnTo>
                  <a:lnTo>
                    <a:pt x="620242" y="1215898"/>
                  </a:lnTo>
                  <a:lnTo>
                    <a:pt x="628650" y="1218438"/>
                  </a:lnTo>
                  <a:lnTo>
                    <a:pt x="637908" y="1219708"/>
                  </a:lnTo>
                  <a:lnTo>
                    <a:pt x="644144" y="1219708"/>
                  </a:lnTo>
                  <a:lnTo>
                    <a:pt x="644144" y="1224788"/>
                  </a:lnTo>
                  <a:lnTo>
                    <a:pt x="648716" y="1229868"/>
                  </a:lnTo>
                  <a:lnTo>
                    <a:pt x="648716" y="1233678"/>
                  </a:lnTo>
                  <a:lnTo>
                    <a:pt x="639572" y="1252728"/>
                  </a:lnTo>
                  <a:lnTo>
                    <a:pt x="639572" y="1256538"/>
                  </a:lnTo>
                  <a:lnTo>
                    <a:pt x="645083" y="1259078"/>
                  </a:lnTo>
                  <a:lnTo>
                    <a:pt x="652780" y="1264158"/>
                  </a:lnTo>
                  <a:lnTo>
                    <a:pt x="659599" y="1269238"/>
                  </a:lnTo>
                  <a:lnTo>
                    <a:pt x="662559" y="1270508"/>
                  </a:lnTo>
                  <a:lnTo>
                    <a:pt x="667334" y="1267968"/>
                  </a:lnTo>
                  <a:lnTo>
                    <a:pt x="673417" y="1261618"/>
                  </a:lnTo>
                  <a:lnTo>
                    <a:pt x="678624" y="1252728"/>
                  </a:lnTo>
                  <a:lnTo>
                    <a:pt x="680847" y="1247648"/>
                  </a:lnTo>
                  <a:lnTo>
                    <a:pt x="690118" y="1247648"/>
                  </a:lnTo>
                  <a:lnTo>
                    <a:pt x="694893" y="1252728"/>
                  </a:lnTo>
                  <a:lnTo>
                    <a:pt x="700976" y="1261618"/>
                  </a:lnTo>
                  <a:lnTo>
                    <a:pt x="706183" y="1267968"/>
                  </a:lnTo>
                  <a:lnTo>
                    <a:pt x="708406" y="1270508"/>
                  </a:lnTo>
                  <a:lnTo>
                    <a:pt x="713917" y="1269238"/>
                  </a:lnTo>
                  <a:lnTo>
                    <a:pt x="721614" y="1264158"/>
                  </a:lnTo>
                  <a:lnTo>
                    <a:pt x="728433" y="1259078"/>
                  </a:lnTo>
                  <a:lnTo>
                    <a:pt x="731393" y="1256538"/>
                  </a:lnTo>
                  <a:lnTo>
                    <a:pt x="731393" y="1252728"/>
                  </a:lnTo>
                  <a:lnTo>
                    <a:pt x="730173" y="1247648"/>
                  </a:lnTo>
                  <a:lnTo>
                    <a:pt x="726821" y="1233678"/>
                  </a:lnTo>
                  <a:lnTo>
                    <a:pt x="722249" y="1229868"/>
                  </a:lnTo>
                  <a:lnTo>
                    <a:pt x="726821" y="1224788"/>
                  </a:lnTo>
                  <a:lnTo>
                    <a:pt x="731393" y="1219708"/>
                  </a:lnTo>
                  <a:lnTo>
                    <a:pt x="758952" y="1215898"/>
                  </a:lnTo>
                  <a:lnTo>
                    <a:pt x="758952" y="1187958"/>
                  </a:lnTo>
                  <a:close/>
                </a:path>
              </a:pathLst>
            </a:custGeom>
            <a:solidFill>
              <a:srgbClr val="00000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6" name="object 28"/>
          <p:cNvSpPr/>
          <p:nvPr/>
        </p:nvSpPr>
        <p:spPr>
          <a:xfrm>
            <a:off x="252360" y="4159080"/>
            <a:ext cx="2460600" cy="92268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Policy can be for one year  or more than one year  (Maxm -10 years </a:t>
            </a:r>
            <a:r>
              <a:rPr b="0" lang="en-US" sz="1500" spc="-1" strike="noStrike">
                <a:solidFill>
                  <a:srgbClr val="22228b"/>
                </a:solidFill>
                <a:latin typeface="Gill Sans MT"/>
              </a:rPr>
              <a:t>only for Individual owners</a:t>
            </a:r>
            <a:r>
              <a:rPr b="1" lang="en-US" sz="1500" spc="-1" strike="noStrike">
                <a:solidFill>
                  <a:srgbClr val="000000"/>
                </a:solidFill>
                <a:latin typeface="Century Gothic"/>
                <a:ea typeface="Century Gothic"/>
              </a:rPr>
              <a:t>)</a:t>
            </a:r>
            <a:endParaRPr b="0" lang="en-US" sz="1500" spc="-1" strike="noStrike">
              <a:solidFill>
                <a:srgbClr val="000000"/>
              </a:solidFill>
              <a:latin typeface="Times New Roman"/>
            </a:endParaRPr>
          </a:p>
        </p:txBody>
      </p:sp>
      <p:sp>
        <p:nvSpPr>
          <p:cNvPr id="87" name="object 29"/>
          <p:cNvSpPr/>
          <p:nvPr/>
        </p:nvSpPr>
        <p:spPr>
          <a:xfrm>
            <a:off x="6093000" y="2332080"/>
            <a:ext cx="2814480" cy="603720"/>
          </a:xfrm>
          <a:prstGeom prst="rect">
            <a:avLst/>
          </a:prstGeom>
          <a:noFill/>
          <a:ln w="0">
            <a:noFill/>
          </a:ln>
        </p:spPr>
        <p:style>
          <a:lnRef idx="0"/>
          <a:fillRef idx="0"/>
          <a:effectRef idx="0"/>
          <a:fontRef idx="minor"/>
        </p:style>
        <p:txBody>
          <a:bodyPr lIns="0" rIns="0" tIns="1008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Will replace the policy for </a:t>
            </a:r>
            <a:r>
              <a:rPr b="1" lang="en-US" sz="1500" spc="-1" strike="noStrike">
                <a:solidFill>
                  <a:srgbClr val="000000"/>
                </a:solidFill>
                <a:latin typeface="Century Gothic"/>
                <a:ea typeface="Century Gothic"/>
              </a:rPr>
              <a:t>Dwellings</a:t>
            </a:r>
            <a:endParaRPr b="0" lang="en-US" sz="1500" spc="-1" strike="noStrike">
              <a:solidFill>
                <a:srgbClr val="000000"/>
              </a:solidFill>
              <a:latin typeface="Times New Roman"/>
            </a:endParaRPr>
          </a:p>
          <a:p>
            <a:pPr marL="936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entury Gothic"/>
                <a:ea typeface="Century Gothic"/>
              </a:rPr>
              <a:t>under erstwhile Fire tariff</a:t>
            </a:r>
            <a:endParaRPr b="0" lang="en-US" sz="1200" spc="-1" strike="noStrike">
              <a:solidFill>
                <a:srgbClr val="000000"/>
              </a:solidFill>
              <a:latin typeface="Times New Roman"/>
            </a:endParaRPr>
          </a:p>
        </p:txBody>
      </p:sp>
      <p:sp>
        <p:nvSpPr>
          <p:cNvPr id="88" name="object 30"/>
          <p:cNvSpPr/>
          <p:nvPr/>
        </p:nvSpPr>
        <p:spPr>
          <a:xfrm>
            <a:off x="6402240" y="3056040"/>
            <a:ext cx="277668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Can </a:t>
            </a:r>
            <a:r>
              <a:rPr b="1" lang="en-US" sz="1300" spc="-1" strike="noStrike">
                <a:solidFill>
                  <a:srgbClr val="000000"/>
                </a:solidFill>
                <a:latin typeface="Arial"/>
                <a:ea typeface="Arial"/>
              </a:rPr>
              <a:t>be</a:t>
            </a:r>
            <a:r>
              <a:rPr b="1" lang="en-US" sz="1300" spc="-1" strike="noStrike">
                <a:solidFill>
                  <a:srgbClr val="000000"/>
                </a:solidFill>
                <a:latin typeface="Century Gothic"/>
                <a:ea typeface="Century Gothic"/>
              </a:rPr>
              <a:t> taken by anyone for their</a:t>
            </a:r>
            <a:endParaRPr b="0" lang="en-US" sz="1300" spc="-1" strike="noStrike">
              <a:solidFill>
                <a:srgbClr val="000000"/>
              </a:solidFill>
              <a:latin typeface="Times New Roman"/>
            </a:endParaRPr>
          </a:p>
        </p:txBody>
      </p:sp>
      <p:sp>
        <p:nvSpPr>
          <p:cNvPr id="89" name="object 31"/>
          <p:cNvSpPr/>
          <p:nvPr/>
        </p:nvSpPr>
        <p:spPr>
          <a:xfrm>
            <a:off x="6402240" y="3262320"/>
            <a:ext cx="2373480" cy="405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residential accommodation  </a:t>
            </a:r>
            <a:r>
              <a:rPr b="1" lang="en-US" sz="1300" spc="-1" strike="noStrike">
                <a:solidFill>
                  <a:srgbClr val="000000"/>
                </a:solidFill>
                <a:latin typeface="Arial"/>
                <a:ea typeface="Arial"/>
              </a:rPr>
              <a:t>irrespective</a:t>
            </a:r>
            <a:r>
              <a:rPr b="1" lang="en-US" sz="1300" spc="-1" strike="noStrike">
                <a:solidFill>
                  <a:srgbClr val="000000"/>
                </a:solidFill>
                <a:latin typeface="Century Gothic"/>
                <a:ea typeface="Century Gothic"/>
              </a:rPr>
              <a:t> of Sum insured</a:t>
            </a:r>
            <a:endParaRPr b="0" lang="en-US" sz="1300" spc="-1" strike="noStrike">
              <a:solidFill>
                <a:srgbClr val="000000"/>
              </a:solidFill>
              <a:latin typeface="Times New Roman"/>
            </a:endParaRPr>
          </a:p>
        </p:txBody>
      </p:sp>
      <p:sp>
        <p:nvSpPr>
          <p:cNvPr id="90" name="object 32"/>
          <p:cNvSpPr/>
          <p:nvPr/>
        </p:nvSpPr>
        <p:spPr>
          <a:xfrm>
            <a:off x="6200640" y="4100400"/>
            <a:ext cx="2390760" cy="694440"/>
          </a:xfrm>
          <a:prstGeom prst="rect">
            <a:avLst/>
          </a:prstGeom>
          <a:noFill/>
          <a:ln w="0">
            <a:noFill/>
          </a:ln>
        </p:spPr>
        <p:style>
          <a:lnRef idx="0"/>
          <a:fillRef idx="0"/>
          <a:effectRef idx="0"/>
          <a:fontRef idx="minor"/>
        </p:style>
        <p:txBody>
          <a:bodyPr lIns="0" rIns="0" tIns="9360" bIns="0" anchor="t">
            <a:spAutoFit/>
          </a:bodyPr>
          <a:p>
            <a:pPr marL="9360" algn="just">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Century Gothic"/>
                <a:ea typeface="Century Gothic"/>
              </a:rPr>
              <a:t>It can be incorporated as  part of package policy or  other policies</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ookman Old Style"/>
              </a:rPr>
              <a:t>Close Proxim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7" name="PlaceHolder 2"/>
          <p:cNvSpPr>
            <a:spLocks noGrp="1"/>
          </p:cNvSpPr>
          <p:nvPr>
            <p:ph type="subTitle"/>
          </p:nvPr>
        </p:nvSpPr>
        <p:spPr>
          <a:xfrm>
            <a:off x="609480" y="1600200"/>
            <a:ext cx="7848720" cy="4038480"/>
          </a:xfrm>
          <a:prstGeom prst="rect">
            <a:avLst/>
          </a:prstGeom>
          <a:noFill/>
          <a:ln w="76320">
            <a:solidFill>
              <a:srgbClr val="339966"/>
            </a:solidFill>
            <a:miter/>
          </a:ln>
        </p:spPr>
        <p:txBody>
          <a:bodyPr anchor="t">
            <a:noAutofit/>
          </a:bodyPr>
          <a:p>
            <a:pPr lvl="1" marL="457200" algn="just">
              <a:lnSpc>
                <a:spcPct val="100000"/>
              </a:lnSpc>
              <a:spcBef>
                <a:spcPts val="601"/>
              </a:spcBef>
              <a:buClr>
                <a:srgbClr val="cc00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Bookman Old Style"/>
              </a:rPr>
              <a:t>Loss occurs with in 5 days from the inception of the risk.</a:t>
            </a:r>
            <a:endParaRPr b="0" lang="en-US" sz="2400" spc="-1" strike="noStrike">
              <a:solidFill>
                <a:srgbClr val="000000"/>
              </a:solidFill>
              <a:latin typeface="Times New Roman"/>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Detailed Investigation should be immediately instituted to ensure</a:t>
            </a:r>
            <a:endParaRPr b="0" lang="en-US" sz="24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601"/>
              </a:spcBef>
              <a:buClr>
                <a:srgbClr val="3333cc"/>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Bookman Old Style"/>
              </a:rPr>
              <a:t>Is the risk has remained un- insured or adequately insured prior to the insurance cover</a:t>
            </a:r>
            <a:r>
              <a:rPr b="1" lang="en-US" sz="2400" spc="-1" strike="noStrike">
                <a:solidFill>
                  <a:srgbClr val="000000"/>
                </a:solidFill>
                <a:latin typeface="Bookman Old Style"/>
              </a:rPr>
              <a:t>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356" dur="500"/>
                                        <p:tgtEl>
                                          <p:spTgt spid="247">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8" presetSubtype="16">
                                  <p:stCondLst>
                                    <p:cond delay="0"/>
                                  </p:stCondLst>
                                  <p:childTnLst>
                                    <p:set>
                                      <p:cBhvr>
                                        <p:cTn id="360"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361" dur="2000"/>
                                        <p:tgtEl>
                                          <p:spTgt spid="247">
                                            <p:txEl>
                                              <p:pRg st="2" end="2"/>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8" presetSubtype="16">
                                  <p:stCondLst>
                                    <p:cond delay="0"/>
                                  </p:stCondLst>
                                  <p:childTnLst>
                                    <p:set>
                                      <p:cBhvr>
                                        <p:cTn id="365"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366" dur="2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33"/>
                </a:solidFill>
                <a:latin typeface="Times New Roman"/>
              </a:rPr>
              <a:t>Compromised Claims</a:t>
            </a:r>
            <a:endParaRPr b="0" lang="en-US" sz="4400" spc="-1" strike="noStrike">
              <a:solidFill>
                <a:srgbClr val="000000"/>
              </a:solidFill>
              <a:latin typeface="Times New Roman"/>
            </a:endParaRPr>
          </a:p>
        </p:txBody>
      </p:sp>
      <p:sp>
        <p:nvSpPr>
          <p:cNvPr id="249" name="PlaceHolder 2"/>
          <p:cNvSpPr>
            <a:spLocks noGrp="1"/>
          </p:cNvSpPr>
          <p:nvPr>
            <p:ph/>
          </p:nvPr>
        </p:nvSpPr>
        <p:spPr>
          <a:xfrm>
            <a:off x="685800" y="990360"/>
            <a:ext cx="7772400" cy="5105160"/>
          </a:xfrm>
          <a:prstGeom prst="rect">
            <a:avLst/>
          </a:prstGeom>
          <a:noFill/>
          <a:ln w="76320">
            <a:solidFill>
              <a:srgbClr val="ff0000"/>
            </a:solidFill>
            <a:miter/>
          </a:ln>
        </p:spPr>
        <p:txBody>
          <a:bodyPr anchor="t">
            <a:normAutofit/>
          </a:bodyPr>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of policy condition/warranti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Non compliance of Tariff Provis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charging incorrect premium due to Misrepresentation / mis- declaration / nondisclosure by insured</a:t>
            </a:r>
            <a:endParaRPr b="0" lang="en-US" sz="2400" spc="-1" strike="noStrike">
              <a:solidFill>
                <a:srgbClr val="000000"/>
              </a:solidFill>
              <a:latin typeface="Times New Roman"/>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after rectification- deduction of any further amount other than rectification premium from the assessed claim as per internal instruction issued by the company</a:t>
            </a:r>
            <a:r>
              <a:rPr b="0" lang="en-US" sz="3200" spc="-1" strike="noStrike">
                <a:solidFill>
                  <a:srgbClr val="000000"/>
                </a:solidFill>
                <a:latin typeface="Bookman Old Style"/>
              </a:rPr>
              <a:t>.</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Breach material to the loss: settlement 25% to 75% depend upon the nature of lapse</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600200"/>
            <a:ext cx="6934320" cy="3200400"/>
          </a:xfrm>
          <a:prstGeom prst="rect">
            <a:avLst/>
          </a:prstGeom>
          <a:noFill/>
          <a:ln w="7632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rial"/>
              </a:rPr>
              <a:t>ENGINEERING INSURANCE</a:t>
            </a:r>
            <a:endParaRPr b="0" lang="en-US" sz="5400" spc="-1" strike="noStrike">
              <a:solidFill>
                <a:srgbClr val="000000"/>
              </a:solidFill>
              <a:latin typeface="Times New Roman"/>
            </a:endParaRPr>
          </a:p>
        </p:txBody>
      </p:sp>
      <p:sp>
        <p:nvSpPr>
          <p:cNvPr id="251" name="PlaceHolder 2"/>
          <p:cNvSpPr>
            <a:spLocks noGrp="1"/>
          </p:cNvSpPr>
          <p:nvPr>
            <p:ph type="subTitle"/>
          </p:nvPr>
        </p:nvSpPr>
        <p:spPr>
          <a:xfrm>
            <a:off x="1143000" y="77724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NGINEERING INSURANCE</a:t>
            </a:r>
            <a:r>
              <a:rPr b="1" lang="en-US" sz="4400" spc="-1" strike="noStrike">
                <a:solidFill>
                  <a:srgbClr val="000000"/>
                </a:solidFill>
                <a:latin typeface="Arial Black"/>
              </a:rPr>
              <a:t> </a:t>
            </a:r>
            <a:endParaRPr b="0" lang="en-US" sz="4400" spc="-1" strike="noStrike">
              <a:solidFill>
                <a:srgbClr val="000000"/>
              </a:solidFill>
              <a:latin typeface="Times New Roman"/>
            </a:endParaRPr>
          </a:p>
        </p:txBody>
      </p:sp>
      <p:sp>
        <p:nvSpPr>
          <p:cNvPr id="253" name="PlaceHolder 2"/>
          <p:cNvSpPr>
            <a:spLocks noGrp="1"/>
          </p:cNvSpPr>
          <p:nvPr>
            <p:ph/>
          </p:nvPr>
        </p:nvSpPr>
        <p:spPr>
          <a:xfrm>
            <a:off x="456840" y="837720"/>
            <a:ext cx="8001000" cy="5791320"/>
          </a:xfrm>
          <a:prstGeom prst="rect">
            <a:avLst/>
          </a:prstGeom>
          <a:noFill/>
          <a:ln w="76320">
            <a:solidFill>
              <a:srgbClr val="000000"/>
            </a:solidFill>
            <a:miter/>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9900"/>
                </a:solidFill>
                <a:latin typeface="Arial"/>
              </a:rPr>
              <a:t>PROJECT COVER</a:t>
            </a:r>
            <a:endParaRPr b="0" lang="en-US" sz="28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Storage Cum Erection (SCE)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Contractors All Risks (CAR)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Advance Loss of Profits (ALOP ) policy</a:t>
            </a:r>
            <a:endParaRPr b="0" lang="en-US" sz="2400" spc="-1" strike="noStrike">
              <a:solidFill>
                <a:srgbClr val="000000"/>
              </a:solidFill>
              <a:latin typeface="Times New Roman"/>
            </a:endParaRPr>
          </a:p>
          <a:p>
            <a:pPr lvl="3" marL="1568160" indent="-223920">
              <a:lnSpc>
                <a:spcPct val="100000"/>
              </a:lnSpc>
              <a:spcBef>
                <a:spcPts val="601"/>
              </a:spcBef>
              <a:buClr>
                <a:srgbClr val="66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Arial"/>
              </a:rPr>
              <a:t>Delay in Start up (DSU)</a:t>
            </a:r>
            <a:endParaRPr b="0" lang="en-US" sz="24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PERATIONAL COVER</a:t>
            </a:r>
            <a:endParaRPr b="0" lang="en-US" sz="28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Electronic Equipment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Breakdown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Boiler &amp; Pressure Plants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onstruction Plant and machiner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Deterioration of Stock Policy</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Civil Engineering Completed Risks</a:t>
            </a:r>
            <a:endParaRPr b="0" lang="en-US" sz="2400" spc="-1" strike="noStrike">
              <a:solidFill>
                <a:srgbClr val="000000"/>
              </a:solidFill>
              <a:latin typeface="Times New Roman"/>
            </a:endParaRPr>
          </a:p>
          <a:p>
            <a:pPr lvl="3" marL="1568160" indent="-223920">
              <a:lnSpc>
                <a:spcPct val="100000"/>
              </a:lnSpc>
              <a:spcBef>
                <a:spcPts val="601"/>
              </a:spcBef>
              <a:buClr>
                <a:srgbClr val="ff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rPr>
              <a:t>Machinery Loss of Profits (MLOP) policy</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00"/>
                </a:solidFill>
                <a:latin typeface="Times New Roman"/>
              </a:rPr>
              <a:t>INSURED PARTIES</a:t>
            </a:r>
            <a:endParaRPr b="0" lang="en-US" sz="4800" spc="-1" strike="noStrike">
              <a:solidFill>
                <a:srgbClr val="000000"/>
              </a:solidFill>
              <a:latin typeface="Times New Roman"/>
            </a:endParaRPr>
          </a:p>
        </p:txBody>
      </p:sp>
      <p:sp>
        <p:nvSpPr>
          <p:cNvPr id="2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ER (PRINCIPAL) COVERING INTREST OF ALL PAR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I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AC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 CONTRA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ERIOD OF INSURANCE: CAR/SCE</a:t>
            </a:r>
            <a:endParaRPr b="0" lang="en-US" sz="4400" spc="-1" strike="noStrike">
              <a:solidFill>
                <a:srgbClr val="000000"/>
              </a:solidFill>
              <a:latin typeface="Times New Roman"/>
            </a:endParaRPr>
          </a:p>
        </p:txBody>
      </p:sp>
      <p:sp>
        <p:nvSpPr>
          <p:cNvPr id="257" name="PlaceHolder 2"/>
          <p:cNvSpPr>
            <a:spLocks noGrp="1"/>
          </p:cNvSpPr>
          <p:nvPr>
            <p:ph type="subTitle"/>
          </p:nvPr>
        </p:nvSpPr>
        <p:spPr>
          <a:xfrm>
            <a:off x="533520" y="1218960"/>
            <a:ext cx="8153280" cy="5638680"/>
          </a:xfrm>
          <a:prstGeom prst="rect">
            <a:avLst/>
          </a:prstGeom>
          <a:noFill/>
          <a:ln w="76320">
            <a:solidFill>
              <a:srgbClr val="333399"/>
            </a:solidFill>
            <a:miter/>
          </a:ln>
        </p:spPr>
        <p:txBody>
          <a:bodyPr anchor="t">
            <a:noAutofit/>
          </a:bodyPr>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cc99"/>
                </a:solidFill>
                <a:latin typeface="Arial"/>
              </a:rPr>
              <a:t>Commences from date of arrival of first</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rPr>
              <a:t>       </a:t>
            </a:r>
            <a:r>
              <a:rPr b="1" lang="en-US" sz="2400" spc="-1" strike="noStrike">
                <a:solidFill>
                  <a:srgbClr val="00cc99"/>
                </a:solidFill>
                <a:latin typeface="Arial"/>
              </a:rPr>
              <a:t>	</a:t>
            </a:r>
            <a:r>
              <a:rPr b="1" lang="en-US" sz="2400" spc="-1" strike="noStrike">
                <a:solidFill>
                  <a:srgbClr val="00cc99"/>
                </a:solidFill>
                <a:latin typeface="Arial"/>
              </a:rPr>
              <a:t>consignment at site</a:t>
            </a:r>
            <a:endParaRPr b="0" lang="en-US" sz="2400" spc="-1" strike="noStrike">
              <a:solidFill>
                <a:srgbClr val="000000"/>
              </a:solidFill>
              <a:latin typeface="Times New Roman"/>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Continues during storage, construction, erection        until completion of testing</a:t>
            </a:r>
            <a:r>
              <a:rPr b="1" lang="en-US" sz="2400" spc="-1" strike="noStrike">
                <a:solidFill>
                  <a:srgbClr val="000000"/>
                </a:solidFill>
                <a:latin typeface="Arial"/>
              </a:rPr>
              <a:t> </a:t>
            </a:r>
            <a:r>
              <a:rPr b="1" lang="en-US" sz="2400" spc="-1" strike="noStrike">
                <a:solidFill>
                  <a:srgbClr val="3333cc"/>
                </a:solidFill>
                <a:latin typeface="Arial"/>
              </a:rPr>
              <a:t>/ expiry date of policy period which ever is earlier. If project is not completed the policy may be extended on collection of additional premium at agreed rates (normal/testin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irrespective of commencement of insurance, premium to be computed from date of arrival of 1</a:t>
            </a:r>
            <a:r>
              <a:rPr b="1" i="1" lang="en-US" sz="2400" spc="-1" strike="noStrike" baseline="30000">
                <a:solidFill>
                  <a:srgbClr val="ff9900"/>
                </a:solidFill>
                <a:latin typeface="Arial"/>
              </a:rPr>
              <a:t>st</a:t>
            </a:r>
            <a:r>
              <a:rPr b="1" i="1" lang="en-US" sz="2400" spc="-1" strike="noStrike">
                <a:solidFill>
                  <a:srgbClr val="ff9900"/>
                </a:solidFill>
                <a:latin typeface="Arial"/>
              </a:rPr>
              <a:t> consignment</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Testing period to be specified in policy in view </a:t>
            </a:r>
            <a:r>
              <a:rPr b="1" lang="en-US" sz="2400" spc="-1" strike="noStrike">
                <a:solidFill>
                  <a:srgbClr val="ff0000"/>
                </a:solidFill>
                <a:latin typeface="Arial"/>
              </a:rPr>
              <a:t>	</a:t>
            </a:r>
            <a:r>
              <a:rPr b="1" lang="en-US" sz="2400" spc="-1" strike="noStrike">
                <a:solidFill>
                  <a:srgbClr val="ff0000"/>
                </a:solidFill>
                <a:latin typeface="Arial"/>
              </a:rPr>
              <a:t>of increased hazard ( shall not exceed 12 month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Arial"/>
              </a:rPr>
              <a:t>SCOPE OF COVER: CAR/SCE</a:t>
            </a:r>
            <a:endParaRPr b="0" lang="en-US" sz="4400" spc="-1" strike="noStrike">
              <a:solidFill>
                <a:srgbClr val="000000"/>
              </a:solidFill>
              <a:latin typeface="Times New Roman"/>
            </a:endParaRPr>
          </a:p>
        </p:txBody>
      </p:sp>
      <p:sp>
        <p:nvSpPr>
          <p:cNvPr id="259" name="PlaceHolder 2"/>
          <p:cNvSpPr>
            <a:spLocks noGrp="1"/>
          </p:cNvSpPr>
          <p:nvPr>
            <p:ph type="subTitle"/>
          </p:nvPr>
        </p:nvSpPr>
        <p:spPr>
          <a:xfrm>
            <a:off x="533520" y="2437920"/>
            <a:ext cx="7696080" cy="3048120"/>
          </a:xfrm>
          <a:prstGeom prst="rect">
            <a:avLst/>
          </a:prstGeom>
          <a:noFill/>
          <a:ln w="76320">
            <a:solidFill>
              <a:srgbClr val="339966"/>
            </a:solidFill>
            <a:miter/>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cover is against all risks of physical loss or damage during storage, installation / erection and testing/ commissioning subject to </a:t>
            </a:r>
            <a:r>
              <a:rPr b="0" lang="en-US" sz="3200" spc="-1" strike="noStrike">
                <a:solidFill>
                  <a:srgbClr val="ff0000"/>
                </a:solidFill>
                <a:latin typeface="Arial"/>
              </a:rPr>
              <a:t>stipulated exclusions and conditions or endorsement here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0"/>
            <a:ext cx="77724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EXCLUSIONS OF MATERIAL DAMAGE SECTION I</a:t>
            </a:r>
            <a:endParaRPr b="0" lang="en-US" sz="2800" spc="-1" strike="noStrike">
              <a:solidFill>
                <a:srgbClr val="000000"/>
              </a:solidFill>
              <a:latin typeface="Times New Roman"/>
            </a:endParaRPr>
          </a:p>
        </p:txBody>
      </p:sp>
      <p:sp>
        <p:nvSpPr>
          <p:cNvPr id="261" name="PlaceHolder 2"/>
          <p:cNvSpPr>
            <a:spLocks noGrp="1"/>
          </p:cNvSpPr>
          <p:nvPr>
            <p:ph type="subTitle"/>
          </p:nvPr>
        </p:nvSpPr>
        <p:spPr>
          <a:xfrm>
            <a:off x="304560" y="1358640"/>
            <a:ext cx="8762760" cy="5499000"/>
          </a:xfrm>
          <a:prstGeom prst="rect">
            <a:avLst/>
          </a:prstGeom>
          <a:noFill/>
          <a:ln w="0">
            <a:noFill/>
          </a:ln>
        </p:spPr>
        <p:txBody>
          <a:bodyPr anchor="t">
            <a:noAutofit/>
          </a:bodyPr>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OLICY DEDUCTIBLE EEC</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INVENTORY LOS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NORMAL WEAR AND TEAR,GRADUAL DETERIOTION DUE TO ATMOSPHERIC CONDITIONS, RUST, BREAKAGE OF GLASS AND SCRATCHE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FAULTY DESIGN, DEFECTIVE MATERIAL/CASTING, BAD WORKMANSHIP OTHER THAN FAULTS IN ERECTION LIMITED TO ITEM IMMEDIATELY AFFECTED ONLY.</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COST OF RECTIFICATION OR CORRECTION OF ERROR DURING ERECTION UNLESS RESULTING IN PHYSICAL LOSS OR DAMAGE.</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LOSS OR DAMAGES TO DOCUMENTS</a:t>
            </a:r>
            <a:endParaRPr b="0" lang="en-US" sz="2400" spc="-1" strike="noStrike">
              <a:solidFill>
                <a:srgbClr val="000000"/>
              </a:solidFill>
              <a:latin typeface="Times New Roman"/>
            </a:endParaRPr>
          </a:p>
          <a:p>
            <a:pPr marL="457200" indent="-457200">
              <a:lnSpc>
                <a:spcPct val="10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PENALITIES</a:t>
            </a:r>
            <a:endParaRPr b="0" lang="en-US" sz="2400" spc="-1" strike="noStrike">
              <a:solidFill>
                <a:srgbClr val="000000"/>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SUM INSURED</a:t>
            </a:r>
            <a:endParaRPr b="0" lang="en-US" sz="4400" spc="-1" strike="noStrike">
              <a:solidFill>
                <a:srgbClr val="000000"/>
              </a:solidFill>
              <a:latin typeface="Times New Roman"/>
            </a:endParaRPr>
          </a:p>
        </p:txBody>
      </p:sp>
      <p:sp>
        <p:nvSpPr>
          <p:cNvPr id="263" name="PlaceHolder 2"/>
          <p:cNvSpPr>
            <a:spLocks noGrp="1"/>
          </p:cNvSpPr>
          <p:nvPr>
            <p:ph/>
          </p:nvPr>
        </p:nvSpPr>
        <p:spPr>
          <a:xfrm>
            <a:off x="456840" y="685440"/>
            <a:ext cx="8001000" cy="6248520"/>
          </a:xfrm>
          <a:prstGeom prst="rect">
            <a:avLst/>
          </a:prstGeom>
          <a:noFill/>
          <a:ln w="76320">
            <a:solidFill>
              <a:srgbClr val="ffff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Arial"/>
              </a:rPr>
              <a:t>COMPLETELYCONSTRUCTED/ERECTED VALUE OF THE PROJECT (CONTRACT VALUE) INCLUSIVE OF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IF cos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ustoms duties or dues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st of erection and Half the escalated value if opted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 Free issue by Principal to be built in cost of Equipments (Contract Price + Service &amp; Equipment supplied by Principal)                                                               SI to be monitored throughout the Policy Peri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Times New Roman"/>
              </a:rPr>
              <a:t>SI upto 100 crs as per tariff, 100 to 1500 crs as per TAC guidelines dated 01.01.2001. Beyond 1500 crs RI driven</a:t>
            </a:r>
            <a:endParaRPr b="0" lang="en-US" sz="1800" spc="-1" strike="noStrike">
              <a:solidFill>
                <a:srgbClr val="000000"/>
              </a:solidFill>
              <a:latin typeface="Times New Roman"/>
            </a:endParaRPr>
          </a:p>
        </p:txBody>
      </p:sp>
    </p:spTree>
  </p:cSld>
  <p:transition>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OND HAND / USED PROPERTIES</a:t>
            </a:r>
            <a:endParaRPr b="0" lang="en-US" sz="4400" spc="-1" strike="noStrike">
              <a:solidFill>
                <a:srgbClr val="000000"/>
              </a:solidFill>
              <a:latin typeface="Times New Roman"/>
            </a:endParaRPr>
          </a:p>
        </p:txBody>
      </p:sp>
      <p:sp>
        <p:nvSpPr>
          <p:cNvPr id="265" name="PlaceHolder 2"/>
          <p:cNvSpPr>
            <a:spLocks noGrp="1"/>
          </p:cNvSpPr>
          <p:nvPr>
            <p:ph/>
          </p:nvPr>
        </p:nvSpPr>
        <p:spPr>
          <a:xfrm>
            <a:off x="304920" y="1219320"/>
            <a:ext cx="8534160" cy="5790960"/>
          </a:xfrm>
          <a:prstGeom prst="rect">
            <a:avLst/>
          </a:prstGeom>
          <a:noFill/>
          <a:ln w="76320">
            <a:solidFill>
              <a:srgbClr val="ff00ff"/>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Dismantling –60% of SCE Rate excluding addnl. testing &amp; EQ Extras (irrespective of period of dismantl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over cease immediately on the commencement of testing</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Re-erection  – SCE Rate (Testing excluded)</a:t>
            </a:r>
            <a:endParaRPr b="0" lang="en-US" sz="3200" spc="-1" strike="noStrike">
              <a:solidFill>
                <a:srgbClr val="000000"/>
              </a:solidFill>
              <a:latin typeface="Times New Roman"/>
            </a:endParaRPr>
          </a:p>
          <a:p>
            <a:pPr marL="343080" indent="-343080">
              <a:lnSpc>
                <a:spcPct val="100000"/>
              </a:lnSpc>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Testing         - Min rate0.50%0/month</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Sum Insured – Purchase Cost</a:t>
            </a:r>
            <a:endParaRPr b="0" lang="en-US" sz="3200" spc="-1" strike="noStrike">
              <a:solidFill>
                <a:srgbClr val="000000"/>
              </a:solidFill>
              <a:latin typeface="Times New Roman"/>
            </a:endParaRPr>
          </a:p>
          <a:p>
            <a:pPr marL="343080" indent="-343080">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Loss settlement- Market Valu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object 2"/>
          <p:cNvGrpSpPr/>
          <p:nvPr/>
        </p:nvGrpSpPr>
        <p:grpSpPr>
          <a:xfrm>
            <a:off x="92160" y="1952640"/>
            <a:ext cx="9051840" cy="3535200"/>
            <a:chOff x="92160" y="1952640"/>
            <a:chExt cx="9051840" cy="3535200"/>
          </a:xfrm>
        </p:grpSpPr>
        <p:pic>
          <p:nvPicPr>
            <p:cNvPr id="92" name="object 3" descr=""/>
            <p:cNvPicPr/>
            <p:nvPr/>
          </p:nvPicPr>
          <p:blipFill>
            <a:blip r:embed="rId1"/>
            <a:stretch/>
          </p:blipFill>
          <p:spPr>
            <a:xfrm>
              <a:off x="195840" y="1990440"/>
              <a:ext cx="8866800" cy="3497400"/>
            </a:xfrm>
            <a:prstGeom prst="rect">
              <a:avLst/>
            </a:prstGeom>
            <a:ln w="0">
              <a:noFill/>
            </a:ln>
          </p:spPr>
        </p:pic>
        <p:pic>
          <p:nvPicPr>
            <p:cNvPr id="93" name="object 4" descr=""/>
            <p:cNvPicPr/>
            <p:nvPr/>
          </p:nvPicPr>
          <p:blipFill>
            <a:blip r:embed="rId2"/>
            <a:stretch/>
          </p:blipFill>
          <p:spPr>
            <a:xfrm>
              <a:off x="1405440" y="1952640"/>
              <a:ext cx="2773800" cy="1757520"/>
            </a:xfrm>
            <a:prstGeom prst="rect">
              <a:avLst/>
            </a:prstGeom>
            <a:ln w="0">
              <a:noFill/>
            </a:ln>
          </p:spPr>
        </p:pic>
        <p:pic>
          <p:nvPicPr>
            <p:cNvPr id="94" name="object 5" descr=""/>
            <p:cNvPicPr/>
            <p:nvPr/>
          </p:nvPicPr>
          <p:blipFill>
            <a:blip r:embed="rId3"/>
            <a:stretch/>
          </p:blipFill>
          <p:spPr>
            <a:xfrm flipH="1" rot="10800000">
              <a:off x="92160" y="5361480"/>
              <a:ext cx="2818800" cy="57240"/>
            </a:xfrm>
            <a:prstGeom prst="rect">
              <a:avLst/>
            </a:prstGeom>
            <a:ln w="0">
              <a:noFill/>
            </a:ln>
          </p:spPr>
        </p:pic>
        <p:pic>
          <p:nvPicPr>
            <p:cNvPr id="95" name="object 7" descr=""/>
            <p:cNvPicPr/>
            <p:nvPr/>
          </p:nvPicPr>
          <p:blipFill>
            <a:blip r:embed="rId4"/>
            <a:stretch/>
          </p:blipFill>
          <p:spPr>
            <a:xfrm>
              <a:off x="3192840" y="2041560"/>
              <a:ext cx="5951160" cy="3377520"/>
            </a:xfrm>
            <a:prstGeom prst="rect">
              <a:avLst/>
            </a:prstGeom>
            <a:ln w="0">
              <a:noFill/>
            </a:ln>
          </p:spPr>
        </p:pic>
      </p:grpSp>
      <p:sp>
        <p:nvSpPr>
          <p:cNvPr id="96" name="object 8"/>
          <p:cNvSpPr/>
          <p:nvPr/>
        </p:nvSpPr>
        <p:spPr>
          <a:xfrm>
            <a:off x="1622520" y="2305080"/>
            <a:ext cx="2262240" cy="1849320"/>
          </a:xfrm>
          <a:prstGeom prst="rect">
            <a:avLst/>
          </a:prstGeom>
          <a:solidFill>
            <a:srgbClr val="ecfadc"/>
          </a:solidFill>
          <a:ln w="0">
            <a:noFill/>
          </a:ln>
        </p:spPr>
        <p:style>
          <a:lnRef idx="0"/>
          <a:fillRef idx="0"/>
          <a:effectRef idx="0"/>
          <a:fontRef idx="minor"/>
        </p:style>
        <p:txBody>
          <a:bodyPr lIns="0" rIns="0" tIns="23040" bIns="0" anchor="t">
            <a:spAutoFit/>
          </a:bodyPr>
          <a:p>
            <a:pPr marL="66600">
              <a:lnSpc>
                <a:spcPct val="100000"/>
              </a:lnSpc>
              <a:spcBef>
                <a:spcPts val="17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USED ONLY FOR THE  PURPOSE OF RESIDENC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 </a:t>
            </a:r>
            <a:r>
              <a:rPr b="1" lang="en-US" sz="1500" spc="-1" strike="noStrike">
                <a:solidFill>
                  <a:srgbClr val="000000"/>
                </a:solidFill>
                <a:latin typeface="Tw Cen MT"/>
                <a:ea typeface="Tw Cen MT"/>
              </a:rPr>
              <a:t>SELF, FAMILY, TENANT</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LICENSEE OR EMPLOYEE</a:t>
            </a:r>
            <a:endParaRPr b="0" lang="en-US" sz="1500" spc="-1" strike="noStrike">
              <a:solidFill>
                <a:srgbClr val="000000"/>
              </a:solidFill>
              <a:latin typeface="Times New Roman"/>
            </a:endParaRPr>
          </a:p>
          <a:p>
            <a:pPr marL="666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a:t>
            </a:r>
            <a:endParaRPr b="0" lang="en-US" sz="1500" spc="-1" strike="noStrike">
              <a:solidFill>
                <a:srgbClr val="000000"/>
              </a:solidFill>
              <a:latin typeface="Times New Roman"/>
            </a:endParaRPr>
          </a:p>
        </p:txBody>
      </p:sp>
      <p:sp>
        <p:nvSpPr>
          <p:cNvPr id="97" name="object 9"/>
          <p:cNvSpPr/>
          <p:nvPr/>
        </p:nvSpPr>
        <p:spPr>
          <a:xfrm>
            <a:off x="3316320" y="4162320"/>
            <a:ext cx="2735280" cy="823680"/>
          </a:xfrm>
          <a:prstGeom prst="rect">
            <a:avLst/>
          </a:prstGeom>
          <a:solidFill>
            <a:srgbClr val="bdebdf"/>
          </a:solidFill>
          <a:ln w="0">
            <a:noFill/>
          </a:ln>
        </p:spPr>
        <p:style>
          <a:lnRef idx="0"/>
          <a:fillRef idx="0"/>
          <a:effectRef idx="0"/>
          <a:fontRef idx="minor"/>
        </p:style>
        <p:txBody>
          <a:bodyPr lIns="0" rIns="0" tIns="31320" bIns="0" anchor="t">
            <a:spAutoFit/>
          </a:bodyPr>
          <a:p>
            <a:pPr marL="66600">
              <a:lnSpc>
                <a:spcPct val="100000"/>
              </a:lnSpc>
              <a:spcBef>
                <a:spcPts val="2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Century Gothic"/>
                <a:ea typeface="Century Gothic"/>
              </a:rPr>
              <a:t>Home building is used as a  Holiday home, or for lodging  and boarding or any other  purpose other than residential</a:t>
            </a:r>
            <a:endParaRPr b="0" lang="en-US" sz="1300" spc="-1" strike="noStrike">
              <a:solidFill>
                <a:srgbClr val="000000"/>
              </a:solidFill>
              <a:latin typeface="Times New Roman"/>
            </a:endParaRPr>
          </a:p>
        </p:txBody>
      </p:sp>
      <p:sp>
        <p:nvSpPr>
          <p:cNvPr id="98" name="object 10"/>
          <p:cNvSpPr/>
          <p:nvPr/>
        </p:nvSpPr>
        <p:spPr>
          <a:xfrm>
            <a:off x="3462480" y="3848040"/>
            <a:ext cx="1636560" cy="46620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000000"/>
                </a:solidFill>
                <a:latin typeface="Tw Cen MT"/>
                <a:ea typeface="Tw Cen MT"/>
              </a:rPr>
              <a:t>WILL NOT PAY IF…..</a:t>
            </a:r>
            <a:endParaRPr b="0" lang="en-US" sz="1500" spc="-1" strike="noStrike">
              <a:solidFill>
                <a:srgbClr val="000000"/>
              </a:solidFill>
              <a:latin typeface="Times New Roman"/>
            </a:endParaRPr>
          </a:p>
        </p:txBody>
      </p:sp>
      <p:sp>
        <p:nvSpPr>
          <p:cNvPr id="99" name="object 11"/>
          <p:cNvSpPr/>
          <p:nvPr/>
        </p:nvSpPr>
        <p:spPr>
          <a:xfrm>
            <a:off x="6199200" y="2308320"/>
            <a:ext cx="2805120" cy="2005920"/>
          </a:xfrm>
          <a:prstGeom prst="rect">
            <a:avLst/>
          </a:prstGeom>
          <a:solidFill>
            <a:srgbClr val="b8c2e9"/>
          </a:solidFill>
          <a:ln w="0">
            <a:noFill/>
          </a:ln>
        </p:spPr>
        <p:style>
          <a:lnRef idx="0"/>
          <a:fillRef idx="0"/>
          <a:effectRef idx="0"/>
          <a:fontRef idx="minor"/>
        </p:style>
        <p:txBody>
          <a:bodyPr lIns="0" rIns="0" tIns="25560" bIns="0" anchor="t">
            <a:spAutoFit/>
          </a:bodyPr>
          <a:p>
            <a:pPr marL="68400">
              <a:lnSpc>
                <a:spcPct val="100000"/>
              </a:lnSpc>
              <a:spcBef>
                <a:spcPts val="2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WILL PAY IF…PART OF HOME IS  USED FOR THE PURPOSE OF  EARNING THE LIVELIHOO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THE INSURED IS SELF EMPLOYED.</a:t>
            </a:r>
            <a:endParaRPr b="0" lang="en-US" sz="1300" spc="-1" strike="noStrike">
              <a:solidFill>
                <a:srgbClr val="000000"/>
              </a:solidFill>
              <a:latin typeface="Times New Roman"/>
            </a:endParaRPr>
          </a:p>
          <a:p>
            <a:pPr marL="68400">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IF YOU HAVE SHIFTED OFFICE TO  HOME BUILDING DUE TO  LOCKDOWN.. OR CLOSURE DUE TO  ORDER BY PUBLIC AUTHORITY..</a:t>
            </a:r>
            <a:endParaRPr b="0" lang="en-US" sz="1300" spc="-1" strike="noStrike">
              <a:solidFill>
                <a:srgbClr val="000000"/>
              </a:solidFill>
              <a:latin typeface="Times New Roman"/>
            </a:endParaRPr>
          </a:p>
        </p:txBody>
      </p:sp>
      <p:grpSp>
        <p:nvGrpSpPr>
          <p:cNvPr id="100" name="object 12"/>
          <p:cNvGrpSpPr/>
          <p:nvPr/>
        </p:nvGrpSpPr>
        <p:grpSpPr>
          <a:xfrm>
            <a:off x="2560680" y="1754280"/>
            <a:ext cx="479520" cy="474480"/>
            <a:chOff x="2560680" y="1754280"/>
            <a:chExt cx="479520" cy="474480"/>
          </a:xfrm>
        </p:grpSpPr>
        <p:sp>
          <p:nvSpPr>
            <p:cNvPr id="101" name="object 13"/>
            <p:cNvSpPr/>
            <p:nvPr/>
          </p:nvSpPr>
          <p:spPr>
            <a:xfrm>
              <a:off x="2560680" y="1754280"/>
              <a:ext cx="479520" cy="474480"/>
            </a:xfrm>
            <a:custGeom>
              <a:avLst/>
              <a:gdLst/>
              <a:ahLst/>
              <a:rect l="l" t="t" r="r" b="b"/>
              <a:pathLst>
                <a:path w="611504" h="605155">
                  <a:moveTo>
                    <a:pt x="305562" y="0"/>
                  </a:moveTo>
                  <a:lnTo>
                    <a:pt x="255991" y="3957"/>
                  </a:lnTo>
                  <a:lnTo>
                    <a:pt x="208970" y="15416"/>
                  </a:lnTo>
                  <a:lnTo>
                    <a:pt x="165127" y="33755"/>
                  </a:lnTo>
                  <a:lnTo>
                    <a:pt x="125089" y="58350"/>
                  </a:lnTo>
                  <a:lnTo>
                    <a:pt x="89487" y="88582"/>
                  </a:lnTo>
                  <a:lnTo>
                    <a:pt x="58948" y="123828"/>
                  </a:lnTo>
                  <a:lnTo>
                    <a:pt x="34101" y="163465"/>
                  </a:lnTo>
                  <a:lnTo>
                    <a:pt x="15575" y="206873"/>
                  </a:lnTo>
                  <a:lnTo>
                    <a:pt x="3998" y="253430"/>
                  </a:lnTo>
                  <a:lnTo>
                    <a:pt x="0" y="302513"/>
                  </a:lnTo>
                  <a:lnTo>
                    <a:pt x="3998" y="351597"/>
                  </a:lnTo>
                  <a:lnTo>
                    <a:pt x="15575" y="398154"/>
                  </a:lnTo>
                  <a:lnTo>
                    <a:pt x="34101" y="441562"/>
                  </a:lnTo>
                  <a:lnTo>
                    <a:pt x="58948" y="481199"/>
                  </a:lnTo>
                  <a:lnTo>
                    <a:pt x="89487" y="516445"/>
                  </a:lnTo>
                  <a:lnTo>
                    <a:pt x="125089" y="546677"/>
                  </a:lnTo>
                  <a:lnTo>
                    <a:pt x="165127" y="571272"/>
                  </a:lnTo>
                  <a:lnTo>
                    <a:pt x="208970" y="589611"/>
                  </a:lnTo>
                  <a:lnTo>
                    <a:pt x="255991" y="601070"/>
                  </a:lnTo>
                  <a:lnTo>
                    <a:pt x="305562" y="605027"/>
                  </a:lnTo>
                  <a:lnTo>
                    <a:pt x="355132" y="601070"/>
                  </a:lnTo>
                  <a:lnTo>
                    <a:pt x="402153" y="589611"/>
                  </a:lnTo>
                  <a:lnTo>
                    <a:pt x="445996" y="571272"/>
                  </a:lnTo>
                  <a:lnTo>
                    <a:pt x="486034" y="546677"/>
                  </a:lnTo>
                  <a:lnTo>
                    <a:pt x="521636" y="516445"/>
                  </a:lnTo>
                  <a:lnTo>
                    <a:pt x="552175" y="481199"/>
                  </a:lnTo>
                  <a:lnTo>
                    <a:pt x="577022" y="441562"/>
                  </a:lnTo>
                  <a:lnTo>
                    <a:pt x="595548" y="398154"/>
                  </a:lnTo>
                  <a:lnTo>
                    <a:pt x="607125" y="351597"/>
                  </a:lnTo>
                  <a:lnTo>
                    <a:pt x="611124" y="302513"/>
                  </a:lnTo>
                  <a:lnTo>
                    <a:pt x="607125" y="253430"/>
                  </a:lnTo>
                  <a:lnTo>
                    <a:pt x="595548" y="206873"/>
                  </a:lnTo>
                  <a:lnTo>
                    <a:pt x="577022" y="163465"/>
                  </a:lnTo>
                  <a:lnTo>
                    <a:pt x="552175" y="123828"/>
                  </a:lnTo>
                  <a:lnTo>
                    <a:pt x="521636" y="88582"/>
                  </a:lnTo>
                  <a:lnTo>
                    <a:pt x="486034" y="58350"/>
                  </a:lnTo>
                  <a:lnTo>
                    <a:pt x="445996" y="33755"/>
                  </a:lnTo>
                  <a:lnTo>
                    <a:pt x="402153" y="15416"/>
                  </a:lnTo>
                  <a:lnTo>
                    <a:pt x="355132" y="3957"/>
                  </a:lnTo>
                  <a:lnTo>
                    <a:pt x="305562"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2" name="object 14"/>
            <p:cNvSpPr/>
            <p:nvPr/>
          </p:nvSpPr>
          <p:spPr>
            <a:xfrm>
              <a:off x="2560680" y="1754280"/>
              <a:ext cx="479520" cy="474480"/>
            </a:xfrm>
            <a:custGeom>
              <a:avLst/>
              <a:gdLst/>
              <a:ahLst/>
              <a:rect l="l" t="t" r="r" b="b"/>
              <a:pathLst>
                <a:path w="611504" h="605155">
                  <a:moveTo>
                    <a:pt x="0" y="302513"/>
                  </a:moveTo>
                  <a:lnTo>
                    <a:pt x="3998" y="253430"/>
                  </a:lnTo>
                  <a:lnTo>
                    <a:pt x="15575" y="206873"/>
                  </a:lnTo>
                  <a:lnTo>
                    <a:pt x="34101" y="163465"/>
                  </a:lnTo>
                  <a:lnTo>
                    <a:pt x="58948" y="123828"/>
                  </a:lnTo>
                  <a:lnTo>
                    <a:pt x="89487" y="88582"/>
                  </a:lnTo>
                  <a:lnTo>
                    <a:pt x="125089" y="58350"/>
                  </a:lnTo>
                  <a:lnTo>
                    <a:pt x="165127" y="33755"/>
                  </a:lnTo>
                  <a:lnTo>
                    <a:pt x="208970" y="15416"/>
                  </a:lnTo>
                  <a:lnTo>
                    <a:pt x="255991" y="3957"/>
                  </a:lnTo>
                  <a:lnTo>
                    <a:pt x="305562" y="0"/>
                  </a:lnTo>
                  <a:lnTo>
                    <a:pt x="355132" y="3957"/>
                  </a:lnTo>
                  <a:lnTo>
                    <a:pt x="402153" y="15416"/>
                  </a:lnTo>
                  <a:lnTo>
                    <a:pt x="445996" y="33755"/>
                  </a:lnTo>
                  <a:lnTo>
                    <a:pt x="486034" y="58350"/>
                  </a:lnTo>
                  <a:lnTo>
                    <a:pt x="521636" y="88582"/>
                  </a:lnTo>
                  <a:lnTo>
                    <a:pt x="552175" y="123828"/>
                  </a:lnTo>
                  <a:lnTo>
                    <a:pt x="577022" y="163465"/>
                  </a:lnTo>
                  <a:lnTo>
                    <a:pt x="595548" y="206873"/>
                  </a:lnTo>
                  <a:lnTo>
                    <a:pt x="607125" y="253430"/>
                  </a:lnTo>
                  <a:lnTo>
                    <a:pt x="611124" y="302513"/>
                  </a:lnTo>
                  <a:lnTo>
                    <a:pt x="607125" y="351597"/>
                  </a:lnTo>
                  <a:lnTo>
                    <a:pt x="595548" y="398154"/>
                  </a:lnTo>
                  <a:lnTo>
                    <a:pt x="577022" y="441562"/>
                  </a:lnTo>
                  <a:lnTo>
                    <a:pt x="552175" y="481199"/>
                  </a:lnTo>
                  <a:lnTo>
                    <a:pt x="521636" y="516445"/>
                  </a:lnTo>
                  <a:lnTo>
                    <a:pt x="486034" y="546677"/>
                  </a:lnTo>
                  <a:lnTo>
                    <a:pt x="445996" y="571272"/>
                  </a:lnTo>
                  <a:lnTo>
                    <a:pt x="402153" y="589611"/>
                  </a:lnTo>
                  <a:lnTo>
                    <a:pt x="355132" y="601070"/>
                  </a:lnTo>
                  <a:lnTo>
                    <a:pt x="305562" y="605027"/>
                  </a:lnTo>
                  <a:lnTo>
                    <a:pt x="255991" y="601070"/>
                  </a:lnTo>
                  <a:lnTo>
                    <a:pt x="208970" y="589611"/>
                  </a:lnTo>
                  <a:lnTo>
                    <a:pt x="165127" y="571272"/>
                  </a:lnTo>
                  <a:lnTo>
                    <a:pt x="125089" y="546677"/>
                  </a:lnTo>
                  <a:lnTo>
                    <a:pt x="89487" y="516445"/>
                  </a:lnTo>
                  <a:lnTo>
                    <a:pt x="58948" y="481199"/>
                  </a:lnTo>
                  <a:lnTo>
                    <a:pt x="34101" y="441562"/>
                  </a:lnTo>
                  <a:lnTo>
                    <a:pt x="15575" y="398154"/>
                  </a:lnTo>
                  <a:lnTo>
                    <a:pt x="3998" y="351597"/>
                  </a:lnTo>
                  <a:lnTo>
                    <a:pt x="0" y="302513"/>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3" name="object 15"/>
          <p:cNvSpPr/>
          <p:nvPr/>
        </p:nvSpPr>
        <p:spPr>
          <a:xfrm>
            <a:off x="2732040" y="1870200"/>
            <a:ext cx="1382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A</a:t>
            </a:r>
            <a:endParaRPr b="0" lang="en-US" sz="1300" spc="-1" strike="noStrike">
              <a:solidFill>
                <a:srgbClr val="000000"/>
              </a:solidFill>
              <a:latin typeface="Times New Roman"/>
            </a:endParaRPr>
          </a:p>
        </p:txBody>
      </p:sp>
      <p:grpSp>
        <p:nvGrpSpPr>
          <p:cNvPr id="104" name="object 16"/>
          <p:cNvGrpSpPr/>
          <p:nvPr/>
        </p:nvGrpSpPr>
        <p:grpSpPr>
          <a:xfrm>
            <a:off x="4761000" y="3286080"/>
            <a:ext cx="566640" cy="577800"/>
            <a:chOff x="4761000" y="3286080"/>
            <a:chExt cx="566640" cy="577800"/>
          </a:xfrm>
        </p:grpSpPr>
        <p:sp>
          <p:nvSpPr>
            <p:cNvPr id="105" name="object 17"/>
            <p:cNvSpPr/>
            <p:nvPr/>
          </p:nvSpPr>
          <p:spPr>
            <a:xfrm>
              <a:off x="4761000" y="3286080"/>
              <a:ext cx="566640" cy="577800"/>
            </a:xfrm>
            <a:custGeom>
              <a:avLst/>
              <a:gdLst/>
              <a:ahLst/>
              <a:rect l="l" t="t" r="r" b="b"/>
              <a:pathLst>
                <a:path w="727075" h="742314">
                  <a:moveTo>
                    <a:pt x="363473" y="0"/>
                  </a:moveTo>
                  <a:lnTo>
                    <a:pt x="317871" y="2890"/>
                  </a:lnTo>
                  <a:lnTo>
                    <a:pt x="273962" y="11331"/>
                  </a:lnTo>
                  <a:lnTo>
                    <a:pt x="232085" y="24975"/>
                  </a:lnTo>
                  <a:lnTo>
                    <a:pt x="192582" y="43473"/>
                  </a:lnTo>
                  <a:lnTo>
                    <a:pt x="155793" y="66479"/>
                  </a:lnTo>
                  <a:lnTo>
                    <a:pt x="122058" y="93645"/>
                  </a:lnTo>
                  <a:lnTo>
                    <a:pt x="91716" y="124624"/>
                  </a:lnTo>
                  <a:lnTo>
                    <a:pt x="65109" y="159067"/>
                  </a:lnTo>
                  <a:lnTo>
                    <a:pt x="42577" y="196628"/>
                  </a:lnTo>
                  <a:lnTo>
                    <a:pt x="24460" y="236958"/>
                  </a:lnTo>
                  <a:lnTo>
                    <a:pt x="11098" y="279711"/>
                  </a:lnTo>
                  <a:lnTo>
                    <a:pt x="2831" y="324539"/>
                  </a:lnTo>
                  <a:lnTo>
                    <a:pt x="0" y="371094"/>
                  </a:lnTo>
                  <a:lnTo>
                    <a:pt x="2831" y="417648"/>
                  </a:lnTo>
                  <a:lnTo>
                    <a:pt x="11098" y="462476"/>
                  </a:lnTo>
                  <a:lnTo>
                    <a:pt x="24460" y="505229"/>
                  </a:lnTo>
                  <a:lnTo>
                    <a:pt x="42577" y="545559"/>
                  </a:lnTo>
                  <a:lnTo>
                    <a:pt x="65109" y="583120"/>
                  </a:lnTo>
                  <a:lnTo>
                    <a:pt x="91716" y="617563"/>
                  </a:lnTo>
                  <a:lnTo>
                    <a:pt x="122058" y="648542"/>
                  </a:lnTo>
                  <a:lnTo>
                    <a:pt x="155793" y="675708"/>
                  </a:lnTo>
                  <a:lnTo>
                    <a:pt x="192582" y="698714"/>
                  </a:lnTo>
                  <a:lnTo>
                    <a:pt x="232085" y="717212"/>
                  </a:lnTo>
                  <a:lnTo>
                    <a:pt x="273962" y="730856"/>
                  </a:lnTo>
                  <a:lnTo>
                    <a:pt x="317871" y="739297"/>
                  </a:lnTo>
                  <a:lnTo>
                    <a:pt x="363473" y="742188"/>
                  </a:lnTo>
                  <a:lnTo>
                    <a:pt x="409076" y="739297"/>
                  </a:lnTo>
                  <a:lnTo>
                    <a:pt x="452985" y="730856"/>
                  </a:lnTo>
                  <a:lnTo>
                    <a:pt x="494862" y="717212"/>
                  </a:lnTo>
                  <a:lnTo>
                    <a:pt x="534365" y="698714"/>
                  </a:lnTo>
                  <a:lnTo>
                    <a:pt x="571154" y="675708"/>
                  </a:lnTo>
                  <a:lnTo>
                    <a:pt x="604889" y="648542"/>
                  </a:lnTo>
                  <a:lnTo>
                    <a:pt x="635231" y="617563"/>
                  </a:lnTo>
                  <a:lnTo>
                    <a:pt x="661838" y="583120"/>
                  </a:lnTo>
                  <a:lnTo>
                    <a:pt x="684370" y="545559"/>
                  </a:lnTo>
                  <a:lnTo>
                    <a:pt x="702487" y="505229"/>
                  </a:lnTo>
                  <a:lnTo>
                    <a:pt x="715849" y="462476"/>
                  </a:lnTo>
                  <a:lnTo>
                    <a:pt x="724116" y="417648"/>
                  </a:lnTo>
                  <a:lnTo>
                    <a:pt x="726947" y="371094"/>
                  </a:lnTo>
                  <a:lnTo>
                    <a:pt x="724116" y="324539"/>
                  </a:lnTo>
                  <a:lnTo>
                    <a:pt x="715849" y="279711"/>
                  </a:lnTo>
                  <a:lnTo>
                    <a:pt x="702487" y="236958"/>
                  </a:lnTo>
                  <a:lnTo>
                    <a:pt x="684370" y="196628"/>
                  </a:lnTo>
                  <a:lnTo>
                    <a:pt x="661838" y="159067"/>
                  </a:lnTo>
                  <a:lnTo>
                    <a:pt x="635231" y="124624"/>
                  </a:lnTo>
                  <a:lnTo>
                    <a:pt x="604889" y="93645"/>
                  </a:lnTo>
                  <a:lnTo>
                    <a:pt x="571154" y="66479"/>
                  </a:lnTo>
                  <a:lnTo>
                    <a:pt x="534365" y="43473"/>
                  </a:lnTo>
                  <a:lnTo>
                    <a:pt x="494862" y="24975"/>
                  </a:lnTo>
                  <a:lnTo>
                    <a:pt x="452985" y="11331"/>
                  </a:lnTo>
                  <a:lnTo>
                    <a:pt x="409076" y="2890"/>
                  </a:lnTo>
                  <a:lnTo>
                    <a:pt x="363473"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 name="object 18"/>
            <p:cNvSpPr/>
            <p:nvPr/>
          </p:nvSpPr>
          <p:spPr>
            <a:xfrm>
              <a:off x="4761000" y="3286080"/>
              <a:ext cx="566640" cy="577800"/>
            </a:xfrm>
            <a:custGeom>
              <a:avLst/>
              <a:gdLst/>
              <a:ahLst/>
              <a:rect l="l" t="t" r="r" b="b"/>
              <a:pathLst>
                <a:path w="727075" h="742314">
                  <a:moveTo>
                    <a:pt x="0" y="371094"/>
                  </a:moveTo>
                  <a:lnTo>
                    <a:pt x="2831" y="324539"/>
                  </a:lnTo>
                  <a:lnTo>
                    <a:pt x="11098" y="279711"/>
                  </a:lnTo>
                  <a:lnTo>
                    <a:pt x="24460" y="236958"/>
                  </a:lnTo>
                  <a:lnTo>
                    <a:pt x="42577" y="196628"/>
                  </a:lnTo>
                  <a:lnTo>
                    <a:pt x="65109" y="159067"/>
                  </a:lnTo>
                  <a:lnTo>
                    <a:pt x="91716" y="124624"/>
                  </a:lnTo>
                  <a:lnTo>
                    <a:pt x="122058" y="93645"/>
                  </a:lnTo>
                  <a:lnTo>
                    <a:pt x="155793" y="66479"/>
                  </a:lnTo>
                  <a:lnTo>
                    <a:pt x="192582" y="43473"/>
                  </a:lnTo>
                  <a:lnTo>
                    <a:pt x="232085" y="24975"/>
                  </a:lnTo>
                  <a:lnTo>
                    <a:pt x="273962" y="11331"/>
                  </a:lnTo>
                  <a:lnTo>
                    <a:pt x="317871" y="2890"/>
                  </a:lnTo>
                  <a:lnTo>
                    <a:pt x="363473" y="0"/>
                  </a:lnTo>
                  <a:lnTo>
                    <a:pt x="409076" y="2890"/>
                  </a:lnTo>
                  <a:lnTo>
                    <a:pt x="452985" y="11331"/>
                  </a:lnTo>
                  <a:lnTo>
                    <a:pt x="494862" y="24975"/>
                  </a:lnTo>
                  <a:lnTo>
                    <a:pt x="534365" y="43473"/>
                  </a:lnTo>
                  <a:lnTo>
                    <a:pt x="571154" y="66479"/>
                  </a:lnTo>
                  <a:lnTo>
                    <a:pt x="604889" y="93645"/>
                  </a:lnTo>
                  <a:lnTo>
                    <a:pt x="635231" y="124624"/>
                  </a:lnTo>
                  <a:lnTo>
                    <a:pt x="661838" y="159067"/>
                  </a:lnTo>
                  <a:lnTo>
                    <a:pt x="684370" y="196628"/>
                  </a:lnTo>
                  <a:lnTo>
                    <a:pt x="702487" y="236958"/>
                  </a:lnTo>
                  <a:lnTo>
                    <a:pt x="715849" y="279711"/>
                  </a:lnTo>
                  <a:lnTo>
                    <a:pt x="724116" y="324539"/>
                  </a:lnTo>
                  <a:lnTo>
                    <a:pt x="726947" y="371094"/>
                  </a:lnTo>
                  <a:lnTo>
                    <a:pt x="724116" y="417648"/>
                  </a:lnTo>
                  <a:lnTo>
                    <a:pt x="715849" y="462476"/>
                  </a:lnTo>
                  <a:lnTo>
                    <a:pt x="702487" y="505229"/>
                  </a:lnTo>
                  <a:lnTo>
                    <a:pt x="684370" y="545559"/>
                  </a:lnTo>
                  <a:lnTo>
                    <a:pt x="661838" y="583120"/>
                  </a:lnTo>
                  <a:lnTo>
                    <a:pt x="635231" y="617563"/>
                  </a:lnTo>
                  <a:lnTo>
                    <a:pt x="604889" y="648542"/>
                  </a:lnTo>
                  <a:lnTo>
                    <a:pt x="571154" y="675708"/>
                  </a:lnTo>
                  <a:lnTo>
                    <a:pt x="534365" y="698714"/>
                  </a:lnTo>
                  <a:lnTo>
                    <a:pt x="494862" y="717212"/>
                  </a:lnTo>
                  <a:lnTo>
                    <a:pt x="452985" y="730856"/>
                  </a:lnTo>
                  <a:lnTo>
                    <a:pt x="409076" y="739297"/>
                  </a:lnTo>
                  <a:lnTo>
                    <a:pt x="363473" y="742188"/>
                  </a:lnTo>
                  <a:lnTo>
                    <a:pt x="317871" y="739297"/>
                  </a:lnTo>
                  <a:lnTo>
                    <a:pt x="273962" y="730856"/>
                  </a:lnTo>
                  <a:lnTo>
                    <a:pt x="232085" y="717212"/>
                  </a:lnTo>
                  <a:lnTo>
                    <a:pt x="192582" y="698714"/>
                  </a:lnTo>
                  <a:lnTo>
                    <a:pt x="155793" y="675708"/>
                  </a:lnTo>
                  <a:lnTo>
                    <a:pt x="122058" y="648542"/>
                  </a:lnTo>
                  <a:lnTo>
                    <a:pt x="91716" y="617563"/>
                  </a:lnTo>
                  <a:lnTo>
                    <a:pt x="65109" y="583120"/>
                  </a:lnTo>
                  <a:lnTo>
                    <a:pt x="42577" y="545559"/>
                  </a:lnTo>
                  <a:lnTo>
                    <a:pt x="24460" y="505229"/>
                  </a:lnTo>
                  <a:lnTo>
                    <a:pt x="11098" y="462476"/>
                  </a:lnTo>
                  <a:lnTo>
                    <a:pt x="2831" y="417648"/>
                  </a:lnTo>
                  <a:lnTo>
                    <a:pt x="0" y="37109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07" name="object 19"/>
          <p:cNvSpPr/>
          <p:nvPr/>
        </p:nvSpPr>
        <p:spPr>
          <a:xfrm>
            <a:off x="4989600" y="3454560"/>
            <a:ext cx="10944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B</a:t>
            </a:r>
            <a:endParaRPr b="0" lang="en-US" sz="1300" spc="-1" strike="noStrike">
              <a:solidFill>
                <a:srgbClr val="000000"/>
              </a:solidFill>
              <a:latin typeface="Times New Roman"/>
            </a:endParaRPr>
          </a:p>
        </p:txBody>
      </p:sp>
      <p:grpSp>
        <p:nvGrpSpPr>
          <p:cNvPr id="108" name="object 20"/>
          <p:cNvGrpSpPr/>
          <p:nvPr/>
        </p:nvGrpSpPr>
        <p:grpSpPr>
          <a:xfrm>
            <a:off x="7178760" y="1577880"/>
            <a:ext cx="646200" cy="542880"/>
            <a:chOff x="7178760" y="1577880"/>
            <a:chExt cx="646200" cy="542880"/>
          </a:xfrm>
        </p:grpSpPr>
        <p:sp>
          <p:nvSpPr>
            <p:cNvPr id="109" name="object 21"/>
            <p:cNvSpPr/>
            <p:nvPr/>
          </p:nvSpPr>
          <p:spPr>
            <a:xfrm>
              <a:off x="7178760" y="1577880"/>
              <a:ext cx="646200" cy="542880"/>
            </a:xfrm>
            <a:custGeom>
              <a:avLst/>
              <a:gdLst/>
              <a:ahLst/>
              <a:rect l="l" t="t" r="r" b="b"/>
              <a:pathLst>
                <a:path w="832484" h="696594">
                  <a:moveTo>
                    <a:pt x="416051" y="0"/>
                  </a:moveTo>
                  <a:lnTo>
                    <a:pt x="363870" y="2713"/>
                  </a:lnTo>
                  <a:lnTo>
                    <a:pt x="313621" y="10638"/>
                  </a:lnTo>
                  <a:lnTo>
                    <a:pt x="265694" y="23445"/>
                  </a:lnTo>
                  <a:lnTo>
                    <a:pt x="220479" y="40810"/>
                  </a:lnTo>
                  <a:lnTo>
                    <a:pt x="178368" y="62404"/>
                  </a:lnTo>
                  <a:lnTo>
                    <a:pt x="139749" y="87902"/>
                  </a:lnTo>
                  <a:lnTo>
                    <a:pt x="105014" y="116976"/>
                  </a:lnTo>
                  <a:lnTo>
                    <a:pt x="74552" y="149300"/>
                  </a:lnTo>
                  <a:lnTo>
                    <a:pt x="48754" y="184547"/>
                  </a:lnTo>
                  <a:lnTo>
                    <a:pt x="28009" y="222391"/>
                  </a:lnTo>
                  <a:lnTo>
                    <a:pt x="12708" y="262505"/>
                  </a:lnTo>
                  <a:lnTo>
                    <a:pt x="3242" y="304561"/>
                  </a:lnTo>
                  <a:lnTo>
                    <a:pt x="0" y="348234"/>
                  </a:lnTo>
                  <a:lnTo>
                    <a:pt x="3242" y="391906"/>
                  </a:lnTo>
                  <a:lnTo>
                    <a:pt x="12708" y="433962"/>
                  </a:lnTo>
                  <a:lnTo>
                    <a:pt x="28009" y="474076"/>
                  </a:lnTo>
                  <a:lnTo>
                    <a:pt x="48754" y="511920"/>
                  </a:lnTo>
                  <a:lnTo>
                    <a:pt x="74552" y="547167"/>
                  </a:lnTo>
                  <a:lnTo>
                    <a:pt x="105014" y="579491"/>
                  </a:lnTo>
                  <a:lnTo>
                    <a:pt x="139749" y="608565"/>
                  </a:lnTo>
                  <a:lnTo>
                    <a:pt x="178368" y="634063"/>
                  </a:lnTo>
                  <a:lnTo>
                    <a:pt x="220479" y="655657"/>
                  </a:lnTo>
                  <a:lnTo>
                    <a:pt x="265694" y="673022"/>
                  </a:lnTo>
                  <a:lnTo>
                    <a:pt x="313621" y="685829"/>
                  </a:lnTo>
                  <a:lnTo>
                    <a:pt x="363870" y="693754"/>
                  </a:lnTo>
                  <a:lnTo>
                    <a:pt x="416051" y="696467"/>
                  </a:lnTo>
                  <a:lnTo>
                    <a:pt x="468233" y="693754"/>
                  </a:lnTo>
                  <a:lnTo>
                    <a:pt x="518482" y="685829"/>
                  </a:lnTo>
                  <a:lnTo>
                    <a:pt x="566409" y="673022"/>
                  </a:lnTo>
                  <a:lnTo>
                    <a:pt x="611624" y="655657"/>
                  </a:lnTo>
                  <a:lnTo>
                    <a:pt x="653735" y="634063"/>
                  </a:lnTo>
                  <a:lnTo>
                    <a:pt x="692354" y="608565"/>
                  </a:lnTo>
                  <a:lnTo>
                    <a:pt x="727089" y="579491"/>
                  </a:lnTo>
                  <a:lnTo>
                    <a:pt x="757551" y="547167"/>
                  </a:lnTo>
                  <a:lnTo>
                    <a:pt x="783349" y="511920"/>
                  </a:lnTo>
                  <a:lnTo>
                    <a:pt x="804094" y="474076"/>
                  </a:lnTo>
                  <a:lnTo>
                    <a:pt x="819395" y="433962"/>
                  </a:lnTo>
                  <a:lnTo>
                    <a:pt x="828861" y="391906"/>
                  </a:lnTo>
                  <a:lnTo>
                    <a:pt x="832103" y="348234"/>
                  </a:lnTo>
                  <a:lnTo>
                    <a:pt x="828861" y="304561"/>
                  </a:lnTo>
                  <a:lnTo>
                    <a:pt x="819395" y="262505"/>
                  </a:lnTo>
                  <a:lnTo>
                    <a:pt x="804094" y="222391"/>
                  </a:lnTo>
                  <a:lnTo>
                    <a:pt x="783349" y="184547"/>
                  </a:lnTo>
                  <a:lnTo>
                    <a:pt x="757551" y="149300"/>
                  </a:lnTo>
                  <a:lnTo>
                    <a:pt x="727089" y="116976"/>
                  </a:lnTo>
                  <a:lnTo>
                    <a:pt x="692354" y="87902"/>
                  </a:lnTo>
                  <a:lnTo>
                    <a:pt x="653735" y="62404"/>
                  </a:lnTo>
                  <a:lnTo>
                    <a:pt x="611624" y="40810"/>
                  </a:lnTo>
                  <a:lnTo>
                    <a:pt x="566409" y="23445"/>
                  </a:lnTo>
                  <a:lnTo>
                    <a:pt x="518482" y="10638"/>
                  </a:lnTo>
                  <a:lnTo>
                    <a:pt x="468233" y="2713"/>
                  </a:lnTo>
                  <a:lnTo>
                    <a:pt x="416051" y="0"/>
                  </a:lnTo>
                  <a:close/>
                </a:path>
              </a:pathLst>
            </a:cu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0" name="object 22"/>
            <p:cNvSpPr/>
            <p:nvPr/>
          </p:nvSpPr>
          <p:spPr>
            <a:xfrm>
              <a:off x="7178760" y="1577880"/>
              <a:ext cx="646200" cy="542880"/>
            </a:xfrm>
            <a:custGeom>
              <a:avLst/>
              <a:gdLst/>
              <a:ahLst/>
              <a:rect l="l" t="t" r="r" b="b"/>
              <a:pathLst>
                <a:path w="832484" h="696594">
                  <a:moveTo>
                    <a:pt x="0" y="348234"/>
                  </a:moveTo>
                  <a:lnTo>
                    <a:pt x="3242" y="304561"/>
                  </a:lnTo>
                  <a:lnTo>
                    <a:pt x="12708" y="262505"/>
                  </a:lnTo>
                  <a:lnTo>
                    <a:pt x="28009" y="222391"/>
                  </a:lnTo>
                  <a:lnTo>
                    <a:pt x="48754" y="184547"/>
                  </a:lnTo>
                  <a:lnTo>
                    <a:pt x="74552" y="149300"/>
                  </a:lnTo>
                  <a:lnTo>
                    <a:pt x="105014" y="116976"/>
                  </a:lnTo>
                  <a:lnTo>
                    <a:pt x="139749" y="87902"/>
                  </a:lnTo>
                  <a:lnTo>
                    <a:pt x="178368" y="62404"/>
                  </a:lnTo>
                  <a:lnTo>
                    <a:pt x="220479" y="40810"/>
                  </a:lnTo>
                  <a:lnTo>
                    <a:pt x="265694" y="23445"/>
                  </a:lnTo>
                  <a:lnTo>
                    <a:pt x="313621" y="10638"/>
                  </a:lnTo>
                  <a:lnTo>
                    <a:pt x="363870" y="2713"/>
                  </a:lnTo>
                  <a:lnTo>
                    <a:pt x="416051" y="0"/>
                  </a:lnTo>
                  <a:lnTo>
                    <a:pt x="468233" y="2713"/>
                  </a:lnTo>
                  <a:lnTo>
                    <a:pt x="518482" y="10638"/>
                  </a:lnTo>
                  <a:lnTo>
                    <a:pt x="566409" y="23445"/>
                  </a:lnTo>
                  <a:lnTo>
                    <a:pt x="611624" y="40810"/>
                  </a:lnTo>
                  <a:lnTo>
                    <a:pt x="653735" y="62404"/>
                  </a:lnTo>
                  <a:lnTo>
                    <a:pt x="692354" y="87902"/>
                  </a:lnTo>
                  <a:lnTo>
                    <a:pt x="727089" y="116976"/>
                  </a:lnTo>
                  <a:lnTo>
                    <a:pt x="757551" y="149300"/>
                  </a:lnTo>
                  <a:lnTo>
                    <a:pt x="783349" y="184547"/>
                  </a:lnTo>
                  <a:lnTo>
                    <a:pt x="804094" y="222391"/>
                  </a:lnTo>
                  <a:lnTo>
                    <a:pt x="819395" y="262505"/>
                  </a:lnTo>
                  <a:lnTo>
                    <a:pt x="828861" y="304561"/>
                  </a:lnTo>
                  <a:lnTo>
                    <a:pt x="832103" y="348234"/>
                  </a:lnTo>
                  <a:lnTo>
                    <a:pt x="828861" y="391906"/>
                  </a:lnTo>
                  <a:lnTo>
                    <a:pt x="819395" y="433962"/>
                  </a:lnTo>
                  <a:lnTo>
                    <a:pt x="804094" y="474076"/>
                  </a:lnTo>
                  <a:lnTo>
                    <a:pt x="783349" y="511920"/>
                  </a:lnTo>
                  <a:lnTo>
                    <a:pt x="757551" y="547167"/>
                  </a:lnTo>
                  <a:lnTo>
                    <a:pt x="727089" y="579491"/>
                  </a:lnTo>
                  <a:lnTo>
                    <a:pt x="692354" y="608565"/>
                  </a:lnTo>
                  <a:lnTo>
                    <a:pt x="653735" y="634063"/>
                  </a:lnTo>
                  <a:lnTo>
                    <a:pt x="611624" y="655657"/>
                  </a:lnTo>
                  <a:lnTo>
                    <a:pt x="566409" y="673022"/>
                  </a:lnTo>
                  <a:lnTo>
                    <a:pt x="518482" y="685829"/>
                  </a:lnTo>
                  <a:lnTo>
                    <a:pt x="468233" y="693754"/>
                  </a:lnTo>
                  <a:lnTo>
                    <a:pt x="416051" y="696467"/>
                  </a:lnTo>
                  <a:lnTo>
                    <a:pt x="363870" y="693754"/>
                  </a:lnTo>
                  <a:lnTo>
                    <a:pt x="313621" y="685829"/>
                  </a:lnTo>
                  <a:lnTo>
                    <a:pt x="265694" y="673022"/>
                  </a:lnTo>
                  <a:lnTo>
                    <a:pt x="220479" y="655657"/>
                  </a:lnTo>
                  <a:lnTo>
                    <a:pt x="178368" y="634063"/>
                  </a:lnTo>
                  <a:lnTo>
                    <a:pt x="139749" y="608565"/>
                  </a:lnTo>
                  <a:lnTo>
                    <a:pt x="105014" y="579491"/>
                  </a:lnTo>
                  <a:lnTo>
                    <a:pt x="74552" y="547167"/>
                  </a:lnTo>
                  <a:lnTo>
                    <a:pt x="48754" y="511920"/>
                  </a:lnTo>
                  <a:lnTo>
                    <a:pt x="28009" y="474076"/>
                  </a:lnTo>
                  <a:lnTo>
                    <a:pt x="12708" y="433962"/>
                  </a:lnTo>
                  <a:lnTo>
                    <a:pt x="3242" y="391906"/>
                  </a:lnTo>
                  <a:lnTo>
                    <a:pt x="0" y="348234"/>
                  </a:lnTo>
                  <a:close/>
                </a:path>
              </a:pathLst>
            </a:custGeom>
            <a:noFill/>
            <a:ln w="284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11" name="object 23"/>
          <p:cNvSpPr/>
          <p:nvPr/>
        </p:nvSpPr>
        <p:spPr>
          <a:xfrm>
            <a:off x="7442280" y="1727280"/>
            <a:ext cx="120600" cy="207720"/>
          </a:xfrm>
          <a:prstGeom prst="rect">
            <a:avLst/>
          </a:prstGeom>
          <a:noFill/>
          <a:ln w="0">
            <a:noFill/>
          </a:ln>
        </p:spPr>
        <p:style>
          <a:lnRef idx="0"/>
          <a:fillRef idx="0"/>
          <a:effectRef idx="0"/>
          <a:fontRef idx="minor"/>
        </p:style>
        <p:txBody>
          <a:bodyPr lIns="0" rIns="0" tIns="9360" bIns="0" anchor="t">
            <a:spAutoFit/>
          </a:bodyPr>
          <a:p>
            <a:pPr marL="9360">
              <a:lnSpc>
                <a:spcPct val="100000"/>
              </a:lnSpc>
              <a:spcBef>
                <a:spcPts val="7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300" spc="-1" strike="noStrike">
                <a:solidFill>
                  <a:srgbClr val="000000"/>
                </a:solidFill>
                <a:latin typeface="Tw Cen MT"/>
                <a:ea typeface="Tw Cen MT"/>
              </a:rPr>
              <a:t>C</a:t>
            </a:r>
            <a:endParaRPr b="0" lang="en-US" sz="1300" spc="-1" strike="noStrike">
              <a:solidFill>
                <a:srgbClr val="000000"/>
              </a:solidFill>
              <a:latin typeface="Times New Roman"/>
            </a:endParaRPr>
          </a:p>
        </p:txBody>
      </p:sp>
      <p:sp>
        <p:nvSpPr>
          <p:cNvPr id="112" name="PlaceHolder 1"/>
          <p:cNvSpPr>
            <a:spLocks noGrp="1"/>
          </p:cNvSpPr>
          <p:nvPr>
            <p:ph type="title"/>
          </p:nvPr>
        </p:nvSpPr>
        <p:spPr>
          <a:xfrm>
            <a:off x="601200" y="1064880"/>
            <a:ext cx="5721480" cy="561960"/>
          </a:xfrm>
          <a:prstGeom prst="rect">
            <a:avLst/>
          </a:prstGeom>
          <a:noFill/>
          <a:ln w="0">
            <a:noFill/>
          </a:ln>
        </p:spPr>
        <p:txBody>
          <a:bodyPr lIns="0" rIns="0" tIns="9000" bIns="0" anchor="ctr">
            <a:noAutofit/>
          </a:bodyPr>
          <a:p>
            <a:pPr marL="9360" indent="0" algn="ctr">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ea typeface="Arial"/>
              </a:rPr>
              <a:t>USE FOR RESID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MID-TERM INCREASE IN SI</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2133360"/>
            <a:ext cx="7772400" cy="4724280"/>
          </a:xfrm>
          <a:prstGeom prst="rect">
            <a:avLst/>
          </a:prstGeom>
          <a:noFill/>
          <a:ln w="76320">
            <a:solidFill>
              <a:srgbClr val="0000cc"/>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mium to be collected on SCE/CAR Rate from the inception of the policy perio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rata Prem. on Increase in Sum Insured not permitted</a:t>
            </a:r>
            <a:endParaRPr b="0" lang="en-US" sz="3200" spc="-1" strike="noStrike">
              <a:solidFill>
                <a:srgbClr val="000000"/>
              </a:solidFill>
              <a:latin typeface="Times New Roman"/>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ncase of Engg operational policies in short period basi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FUND FOR EARLY COMPLETION</a:t>
            </a:r>
            <a:endParaRPr b="0" lang="en-US" sz="4400" spc="-1" strike="noStrike">
              <a:solidFill>
                <a:srgbClr val="000000"/>
              </a:solidFill>
              <a:latin typeface="Times New Roman"/>
            </a:endParaRPr>
          </a:p>
        </p:txBody>
      </p:sp>
      <p:sp>
        <p:nvSpPr>
          <p:cNvPr id="269" name="PlaceHolder 2"/>
          <p:cNvSpPr>
            <a:spLocks noGrp="1"/>
          </p:cNvSpPr>
          <p:nvPr>
            <p:ph/>
          </p:nvPr>
        </p:nvSpPr>
        <p:spPr>
          <a:xfrm>
            <a:off x="533160" y="1980720"/>
            <a:ext cx="7924680" cy="4496040"/>
          </a:xfrm>
          <a:prstGeom prst="rect">
            <a:avLst/>
          </a:prstGeom>
          <a:noFill/>
          <a:ln w="76320">
            <a:solidFill>
              <a:srgbClr val="339966"/>
            </a:solidFill>
            <a:miter/>
          </a:ln>
        </p:spPr>
        <p:txBody>
          <a:bodyPr anchor="t">
            <a:normAutofit/>
          </a:bodyPr>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Period of Insurance &gt; 18 months</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ice before commencement of testing or</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Not later than 7 days after commencing testing</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Claims experience less than 60%</a:t>
            </a:r>
            <a:endParaRPr b="0" lang="en-US" sz="3200" spc="-1" strike="noStrike">
              <a:solidFill>
                <a:srgbClr val="000000"/>
              </a:solidFill>
              <a:latin typeface="Times New Roman"/>
            </a:endParaRPr>
          </a:p>
          <a:p>
            <a:pPr marL="343080" indent="-343080">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Min. period for claiming refund 3 months</a:t>
            </a:r>
            <a:endParaRPr b="0" lang="en-US" sz="3200" spc="-1" strike="noStrike">
              <a:solidFill>
                <a:srgbClr val="000000"/>
              </a:solidFill>
              <a:latin typeface="Times New Roman"/>
            </a:endParaRPr>
          </a:p>
        </p:txBody>
      </p:sp>
    </p:spTree>
  </p:cSld>
  <p:transition>
    <p:zoom dir="in"/>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ff"/>
                </a:solidFill>
                <a:latin typeface="Arial"/>
              </a:rPr>
              <a:t>ADD ON COVERS - SI UPTO 5CRS</a:t>
            </a:r>
            <a:endParaRPr b="0" lang="en-US" sz="3600" spc="-1" strike="noStrike">
              <a:solidFill>
                <a:srgbClr val="000000"/>
              </a:solidFill>
              <a:latin typeface="Times New Roman"/>
            </a:endParaRPr>
          </a:p>
        </p:txBody>
      </p:sp>
      <p:sp>
        <p:nvSpPr>
          <p:cNvPr id="271" name="PlaceHolder 2"/>
          <p:cNvSpPr>
            <a:spLocks noGrp="1"/>
          </p:cNvSpPr>
          <p:nvPr>
            <p:ph/>
          </p:nvPr>
        </p:nvSpPr>
        <p:spPr>
          <a:xfrm>
            <a:off x="304920" y="457200"/>
            <a:ext cx="8534160" cy="6400800"/>
          </a:xfrm>
          <a:prstGeom prst="rect">
            <a:avLst/>
          </a:prstGeom>
          <a:noFill/>
          <a:ln w="76320">
            <a:solidFill>
              <a:srgbClr val="ff0000"/>
            </a:solidFill>
            <a:miter/>
          </a:ln>
        </p:spPr>
        <p:txBody>
          <a:bodyPr anchor="t">
            <a:normAutofit fontScale="97000"/>
          </a:bodyPr>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Removal of Derri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3</a:t>
            </a:r>
            <a:r>
              <a:rPr b="1" lang="en-US" sz="2400" spc="-1" strike="noStrike" baseline="30000">
                <a:solidFill>
                  <a:srgbClr val="ff9900"/>
                </a:solidFill>
                <a:latin typeface="Arial"/>
              </a:rPr>
              <a:t>rd</a:t>
            </a:r>
            <a:r>
              <a:rPr b="1" lang="en-US" sz="2400" spc="-1" strike="noStrike">
                <a:solidFill>
                  <a:srgbClr val="ff9900"/>
                </a:solidFill>
                <a:latin typeface="Arial"/>
              </a:rPr>
              <a:t> Party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ross liability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50% of TPL Prem.</a:t>
            </a:r>
            <a:endParaRPr b="0" lang="en-US" sz="2400" spc="-1" strike="noStrike">
              <a:solidFill>
                <a:srgbClr val="000000"/>
              </a:solidFill>
              <a:latin typeface="Times New Roman"/>
            </a:endParaRPr>
          </a:p>
          <a:p>
            <a:pPr marL="332640" indent="-332640">
              <a:lnSpc>
                <a:spcPct val="10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Civil Works                  </a:t>
            </a:r>
            <a:r>
              <a:rPr b="1" lang="en-US" sz="2400" spc="-1" strike="noStrike">
                <a:solidFill>
                  <a:srgbClr val="ff9900"/>
                </a:solidFill>
                <a:latin typeface="Arial"/>
              </a:rPr>
              <a:t>	</a:t>
            </a:r>
            <a:r>
              <a:rPr b="1" lang="en-US" sz="2400" spc="-1" strike="noStrike">
                <a:solidFill>
                  <a:srgbClr val="ff9900"/>
                </a:solidFill>
                <a:latin typeface="Arial"/>
              </a:rPr>
              <a:t>	</a:t>
            </a:r>
            <a:r>
              <a:rPr b="1" lang="en-US" sz="2400" spc="-1" strike="noStrike">
                <a:solidFill>
                  <a:srgbClr val="ff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CP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urrounding Property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errorism</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0.23%o per annum</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scalation</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50% of SCE/CAR rate</a:t>
            </a:r>
            <a:endParaRPr b="0" lang="en-US" sz="2400" spc="-1" strike="noStrike">
              <a:solidFill>
                <a:srgbClr val="000000"/>
              </a:solidFill>
              <a:latin typeface="Times New Roman"/>
            </a:endParaRPr>
          </a:p>
          <a:p>
            <a:pPr marL="332640" indent="-332640">
              <a:lnSpc>
                <a:spcPct val="10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dditional Customs Duty</a:t>
            </a:r>
            <a:r>
              <a:rPr b="1" lang="en-US" sz="2400" spc="-1" strike="noStrike">
                <a:solidFill>
                  <a:srgbClr val="009900"/>
                </a:solidFill>
                <a:latin typeface="Arial"/>
              </a:rPr>
              <a:t>	</a:t>
            </a:r>
            <a:r>
              <a:rPr b="1" lang="en-US" sz="2400" spc="-1" strike="noStrike">
                <a:solidFill>
                  <a:srgbClr val="009900"/>
                </a:solidFill>
                <a:latin typeface="Arial"/>
              </a:rPr>
              <a:t>-  2%</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ir freight</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5%</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intenance visit           </a:t>
            </a:r>
            <a:r>
              <a:rPr b="1" lang="en-US" sz="2400" spc="-1" strike="noStrike">
                <a:solidFill>
                  <a:srgbClr val="3333cc"/>
                </a:solidFill>
                <a:latin typeface="Arial"/>
              </a:rPr>
              <a:t>	</a:t>
            </a:r>
            <a:r>
              <a:rPr b="1" lang="en-US" sz="2400" spc="-1" strike="noStrike">
                <a:solidFill>
                  <a:srgbClr val="3333cc"/>
                </a:solidFill>
                <a:latin typeface="Arial"/>
              </a:rPr>
              <a:t>-  0.5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xtended maintenance visit  </a:t>
            </a:r>
            <a:r>
              <a:rPr b="1" lang="en-US" sz="2400" spc="-1" strike="noStrike">
                <a:solidFill>
                  <a:srgbClr val="3333cc"/>
                </a:solidFill>
                <a:latin typeface="Arial"/>
              </a:rPr>
              <a:t>	</a:t>
            </a:r>
            <a:r>
              <a:rPr b="1" lang="en-US" sz="2400" spc="-1" strike="noStrike">
                <a:solidFill>
                  <a:srgbClr val="3333cc"/>
                </a:solidFill>
                <a:latin typeface="Arial"/>
              </a:rPr>
              <a:t>-  1.00 %o per annum</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atalyst during hot test           - Rs 20% (on value of      (if not included is SI)</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talyst)</a:t>
            </a:r>
            <a:endParaRPr b="0" lang="en-US" sz="2400" spc="-1" strike="noStrike">
              <a:solidFill>
                <a:srgbClr val="000000"/>
              </a:solidFill>
              <a:latin typeface="Times New Roman"/>
            </a:endParaRPr>
          </a:p>
          <a:p>
            <a:pPr marL="332640" indent="-3326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tinuity cover, </a:t>
            </a:r>
            <a:endParaRPr b="0" lang="en-US" sz="2400" spc="-1" strike="noStrike">
              <a:solidFill>
                <a:srgbClr val="000000"/>
              </a:solidFill>
              <a:latin typeface="Times New Roman"/>
            </a:endParaRPr>
          </a:p>
        </p:txBody>
      </p:sp>
    </p:spTree>
  </p:cSld>
  <p:transition>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050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type="subTitle"/>
          </p:nvPr>
        </p:nvSpPr>
        <p:spPr>
          <a:xfrm>
            <a:off x="304920" y="685800"/>
            <a:ext cx="8076960" cy="6400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0:50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2 HOURS CLAU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T TO USE CLA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THIRD PARTY LIABILITY</a:t>
            </a:r>
            <a:endParaRPr b="0" lang="en-US" sz="4400" spc="-1" strike="noStrike">
              <a:solidFill>
                <a:srgbClr val="000000"/>
              </a:solidFill>
              <a:latin typeface="Times New Roman"/>
            </a:endParaRPr>
          </a:p>
        </p:txBody>
      </p:sp>
      <p:sp>
        <p:nvSpPr>
          <p:cNvPr id="275" name="PlaceHolder 2"/>
          <p:cNvSpPr>
            <a:spLocks noGrp="1"/>
          </p:cNvSpPr>
          <p:nvPr>
            <p:ph/>
          </p:nvPr>
        </p:nvSpPr>
        <p:spPr>
          <a:xfrm>
            <a:off x="228600" y="837720"/>
            <a:ext cx="8686800" cy="5867640"/>
          </a:xfrm>
          <a:prstGeom prst="rect">
            <a:avLst/>
          </a:prstGeom>
          <a:noFill/>
          <a:ln w="76320">
            <a:solidFill>
              <a:srgbClr val="0000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en-US" sz="2000" spc="-1" strike="noStrike">
                <a:solidFill>
                  <a:srgbClr val="ff0000"/>
                </a:solidFill>
                <a:latin typeface="Arial"/>
              </a:rPr>
              <a:t>INDEMNIFIES THE INSURED AGAINST THEIR LEGAL LIABILITY TO THIRD PARTIES IN RESPECT OF</a:t>
            </a:r>
            <a:r>
              <a:rPr b="0" lang="en-US" sz="2400" spc="-1" strike="noStrike">
                <a:solidFill>
                  <a:srgbClr val="ff0000"/>
                </a:solidFill>
                <a:latin typeface="Arial"/>
              </a:rPr>
              <a:t>:</a:t>
            </a:r>
            <a:endParaRPr b="0" lang="en-US" sz="2400" spc="-1" strike="noStrike">
              <a:solidFill>
                <a:srgbClr val="000000"/>
              </a:solidFill>
              <a:latin typeface="Times New Roman"/>
            </a:endParaRPr>
          </a:p>
          <a:p>
            <a:pPr marL="343080" indent="-343080">
              <a:lnSpc>
                <a:spcPct val="100000"/>
              </a:lnSpc>
              <a:spcBef>
                <a:spcPts val="550"/>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a:t>
            </a:r>
            <a:r>
              <a:rPr b="1" lang="en-US" sz="2200" spc="-1" strike="noStrike">
                <a:solidFill>
                  <a:srgbClr val="00cc99"/>
                </a:solidFill>
                <a:latin typeface="Arial"/>
              </a:rPr>
              <a:t>Personal Injury, Death.</a:t>
            </a:r>
            <a:endParaRPr b="0" lang="en-US" sz="2200" spc="-1" strike="noStrike">
              <a:solidFill>
                <a:srgbClr val="000000"/>
              </a:solidFill>
              <a:latin typeface="Times New Roman"/>
            </a:endParaRPr>
          </a:p>
          <a:p>
            <a:pPr marL="343080" indent="-343080">
              <a:lnSpc>
                <a:spcPct val="100000"/>
              </a:lnSpc>
              <a:spcBef>
                <a:spcPts val="5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99"/>
                </a:solidFill>
                <a:latin typeface="Arial"/>
              </a:rPr>
              <a:t>   </a:t>
            </a:r>
            <a:r>
              <a:rPr b="1" lang="en-US" sz="2200" spc="-1" strike="noStrike">
                <a:solidFill>
                  <a:srgbClr val="0000ff"/>
                </a:solidFill>
                <a:latin typeface="Arial"/>
              </a:rPr>
              <a:t>Damage to others property</a:t>
            </a:r>
            <a:r>
              <a:rPr b="1" lang="en-US" sz="2200" spc="-1" strike="noStrike">
                <a:solidFill>
                  <a:srgbClr val="00cc99"/>
                </a:solidFill>
                <a:latin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99"/>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8000"/>
                </a:solidFill>
                <a:latin typeface="Arial"/>
              </a:rPr>
              <a:t>Rate applicable is SCE/CAR. If mixture of old and new M/c</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        </a:t>
            </a:r>
            <a:r>
              <a:rPr b="1" lang="en-US" sz="2000" spc="-1" strike="noStrike">
                <a:solidFill>
                  <a:srgbClr val="008000"/>
                </a:solidFill>
                <a:latin typeface="Arial"/>
              </a:rPr>
              <a:t>involved, the rate applicable for new M/c will be charge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ff9900"/>
                </a:solidFill>
                <a:latin typeface="Arial"/>
              </a:rPr>
              <a:t>Cover can be extended to include cross liabilities among par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to this con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        </a:t>
            </a:r>
            <a:r>
              <a:rPr b="1" lang="en-US" sz="2000" spc="-1" strike="noStrike">
                <a:solidFill>
                  <a:srgbClr val="0000ff"/>
                </a:solidFill>
                <a:latin typeface="Arial"/>
              </a:rPr>
              <a:t>No Separate excess. Only Policy excess Normal/Testing/AO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will be applicable.</a:t>
            </a:r>
            <a:r>
              <a:rPr b="0" lang="en-US" sz="2000" spc="-1" strike="noStrike">
                <a:solidFill>
                  <a:srgbClr val="00cc99"/>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1" lang="en-US" sz="2000" spc="-1" strike="noStrike">
                <a:solidFill>
                  <a:srgbClr val="ff3300"/>
                </a:solidFill>
                <a:latin typeface="Arial"/>
              </a:rPr>
              <a:t>Extension Rate shall apply during extens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Can be granted during maintenance period by loading 25% of</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a:t>
            </a:r>
            <a:r>
              <a:rPr b="1" lang="en-US" sz="2000" spc="-1" strike="noStrike">
                <a:solidFill>
                  <a:srgbClr val="ff3300"/>
                </a:solidFill>
                <a:latin typeface="Arial"/>
              </a:rPr>
              <a:t>TPL rates.</a:t>
            </a:r>
            <a:endParaRPr b="0" lang="en-US" sz="2000" spc="-1" strike="noStrike">
              <a:solidFill>
                <a:srgbClr val="000000"/>
              </a:solidFill>
              <a:latin typeface="Times New Roman"/>
            </a:endParaRPr>
          </a:p>
        </p:txBody>
      </p:sp>
    </p:spTree>
  </p:cSld>
  <p:transition>
    <p:zoom dir="in"/>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ERRORISM (wef 01.04.2014)</a:t>
            </a:r>
            <a:endParaRPr b="0" lang="en-US" sz="2400" spc="-1" strike="noStrike">
              <a:solidFill>
                <a:srgbClr val="000000"/>
              </a:solidFill>
              <a:latin typeface="Times New Roman"/>
            </a:endParaRPr>
          </a:p>
        </p:txBody>
      </p:sp>
      <p:sp>
        <p:nvSpPr>
          <p:cNvPr id="277" name="PlaceHolder 2"/>
          <p:cNvSpPr>
            <a:spLocks noGrp="1"/>
          </p:cNvSpPr>
          <p:nvPr>
            <p:ph type="subTitle"/>
          </p:nvPr>
        </p:nvSpPr>
        <p:spPr>
          <a:xfrm>
            <a:off x="228240" y="533520"/>
            <a:ext cx="8534520" cy="6400800"/>
          </a:xfrm>
          <a:prstGeom prst="rect">
            <a:avLst/>
          </a:prstGeom>
          <a:noFill/>
          <a:ln w="9360">
            <a:solidFill>
              <a:srgbClr val="ff9900"/>
            </a:solidFill>
            <a:miter/>
          </a:ln>
        </p:spPr>
        <p:txBody>
          <a:bodyPr anchor="t">
            <a:noAutofit/>
          </a:bodyPr>
          <a:p>
            <a:pPr>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Additional rate 0.23%o/0.15%o/.08%o pa  for industrial/ non industrial/ residential to be charged on total sum insured by telescopically </a:t>
            </a:r>
            <a:endParaRPr b="0" lang="en-US" sz="2000" spc="-1" strike="noStrike">
              <a:solidFill>
                <a:srgbClr val="000000"/>
              </a:solidFill>
              <a:latin typeface="Times New Roman"/>
            </a:endParaRPr>
          </a:p>
          <a:p>
            <a:pPr>
              <a:lnSpc>
                <a:spcPct val="100000"/>
              </a:lnSpc>
              <a:spcBef>
                <a:spcPts val="4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Ammendments</a:t>
            </a:r>
            <a:endParaRPr b="0" lang="en-US" sz="2000" spc="-1" strike="noStrike">
              <a:solidFill>
                <a:srgbClr val="000000"/>
              </a:solidFill>
              <a:latin typeface="Times New Roman"/>
            </a:endParaRPr>
          </a:p>
          <a:p>
            <a:pPr>
              <a:lnSpc>
                <a:spcPct val="10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Mid Term inclusion is possible wef 01.04.2009 (Fire, Engg and IAR Policies). Waiting period is first 15 days from the date grant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Overall liability (MD+LOP)per location/compound is not exceeding</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Rs. 2000 crores wef 01.04.2016</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ver for fixed assets at multiple locations on floater basis for fire operational policy only wef 25.07.2017</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sion of long term dwellings under terrorism pool cover wef 08.11.2017: with loss limit Rs 400 crs, max duration 10 year and discount pattern allowed maximum of 50%</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EDUCTIBLES:</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sidential: 1% of Claim amount for each and every claim subject to minimum of Rs 10,000/- and maximum of Rs 5,00,000/-   </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Non Industrial: 1% of claim amount subject to min of Rs 25,000/- maximum of Rs 10,00,000/-</a:t>
            </a:r>
            <a:endParaRPr b="0" lang="en-US" sz="2000" spc="-1" strike="noStrike">
              <a:solidFill>
                <a:srgbClr val="000000"/>
              </a:solidFill>
              <a:latin typeface="Times New Roman"/>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ndustrial: 5% of claim amount subject to minimum of Rs 1,00,000/- and maximum of </a:t>
            </a:r>
            <a:r>
              <a:rPr b="1" lang="en-US" sz="2000" spc="-1" strike="noStrike">
                <a:solidFill>
                  <a:srgbClr val="0033cc"/>
                </a:solidFill>
                <a:latin typeface="Arial"/>
              </a:rPr>
              <a:t>Rs 2,50,00,000</a:t>
            </a:r>
            <a:r>
              <a:rPr b="1" lang="en-US" sz="2000" spc="-1" strike="noStrike">
                <a:solidFill>
                  <a:srgbClr val="cc0000"/>
                </a:solidFill>
                <a:latin typeface="Arial"/>
              </a:rPr>
              <a:t>/-</a:t>
            </a: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457200" y="609480"/>
            <a:ext cx="76201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EDUCTIBLE</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sidential: 1% of Claim amount for each and every claim subject to minimum of Rs 10,000/- and maximum of Rs 5,00,000/-   </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n Industrial: 1% of claim amount subject to min of Rs 25,000/- maximum of Rs 10,00,000/-</a:t>
            </a: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dustrial: 5% of claim amount subject to minimum of Rs 1,00,000/- and maximum of </a:t>
            </a:r>
            <a:r>
              <a:rPr b="1" lang="en-US" sz="2400" spc="-1" strike="noStrike">
                <a:solidFill>
                  <a:srgbClr val="0033cc"/>
                </a:solidFill>
                <a:latin typeface="Arial"/>
              </a:rPr>
              <a:t>Rs 2,50,00,000</a:t>
            </a:r>
            <a:r>
              <a:rPr b="1" lang="en-US" sz="2400" spc="-1" strike="noStrike">
                <a:solidFill>
                  <a:srgbClr val="cc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S</a:t>
            </a:r>
            <a:endParaRPr b="0" lang="en-US" sz="4400" spc="-1" strike="noStrike">
              <a:solidFill>
                <a:srgbClr val="000000"/>
              </a:solidFill>
              <a:latin typeface="Times New Roman"/>
            </a:endParaRPr>
          </a:p>
        </p:txBody>
      </p:sp>
      <p:sp>
        <p:nvSpPr>
          <p:cNvPr id="280" name="PlaceHolder 2"/>
          <p:cNvSpPr>
            <a:spLocks noGrp="1"/>
          </p:cNvSpPr>
          <p:nvPr>
            <p:ph/>
          </p:nvPr>
        </p:nvSpPr>
        <p:spPr>
          <a:xfrm>
            <a:off x="228240" y="990360"/>
            <a:ext cx="8534520" cy="510516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Maintenance Visit (1) : Loss or Damage caused by contractor while carrying his obligation during maintenance period &amp; required by works contract, e.g. if contractor damages a part or a M/c which he has to open for inspection within maintenance period, then damage is covered.</a:t>
            </a:r>
            <a:endParaRPr b="0" lang="en-US" sz="3200" spc="-1" strike="noStrike">
              <a:solidFill>
                <a:srgbClr val="000000"/>
              </a:solidFill>
              <a:latin typeface="Times New Roman"/>
            </a:endParaRPr>
          </a:p>
        </p:txBody>
      </p:sp>
    </p:spTree>
  </p:cSld>
  <p:transition>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2824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00"/>
                </a:solidFill>
                <a:latin typeface="Arial"/>
              </a:rPr>
              <a:t>EXTENDED MAINTENANCE COVER</a:t>
            </a:r>
            <a:endParaRPr b="0" lang="en-US" sz="4400" spc="-1" strike="noStrike">
              <a:solidFill>
                <a:srgbClr val="000000"/>
              </a:solidFill>
              <a:latin typeface="Times New Roman"/>
            </a:endParaRPr>
          </a:p>
        </p:txBody>
      </p:sp>
      <p:sp>
        <p:nvSpPr>
          <p:cNvPr id="282" name="PlaceHolder 2"/>
          <p:cNvSpPr>
            <a:spLocks noGrp="1"/>
          </p:cNvSpPr>
          <p:nvPr>
            <p:ph/>
          </p:nvPr>
        </p:nvSpPr>
        <p:spPr>
          <a:xfrm>
            <a:off x="228600" y="1523880"/>
            <a:ext cx="8686800" cy="5029200"/>
          </a:xfrm>
          <a:prstGeom prst="rect">
            <a:avLst/>
          </a:prstGeom>
          <a:noFill/>
          <a:ln w="76320">
            <a:solidFill>
              <a:srgbClr val="ff0000"/>
            </a:solidFill>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Extended Maintenance (2) : Includes (1) &amp; additionally cover for loss or damage by faults and errors made during erection work, e.g. if during maintenance a motor shaft breaks, clearly due to bad alignment of the motor to the driven m/c, which is an erection fault, damage is also cove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Arial"/>
              </a:rPr>
              <a:t>MAINTENANCE COVER (CONTD.)</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371240"/>
            <a:ext cx="7772400" cy="5181480"/>
          </a:xfrm>
          <a:prstGeom prst="rect">
            <a:avLst/>
          </a:prstGeom>
          <a:noFill/>
          <a:ln w="76320">
            <a:solidFill>
              <a:srgbClr val="ff00ff"/>
            </a:solidFill>
            <a:miter/>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ranted only at inception</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annot be granted prior to commencement of maintenance</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ro-rata Premium not allowed</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Cover beyond 12 months based on contract</a:t>
            </a:r>
            <a:endParaRPr b="0" lang="en-US" sz="2800" spc="-1" strike="noStrike">
              <a:solidFill>
                <a:srgbClr val="000000"/>
              </a:solidFill>
              <a:latin typeface="Times New Roman"/>
            </a:endParaRPr>
          </a:p>
          <a:p>
            <a:pPr marL="343080" indent="-343080">
              <a:lnSpc>
                <a:spcPct val="10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Deletion of maintenance cover:</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 before attachment -to retain 25% of  this premium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after commencement-No refun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0:05:00Z</dcterms:created>
  <dc:creator>BALU</dc:creator>
  <dc:description/>
  <dc:language>en-US</dc:language>
  <cp:lastModifiedBy>R BALU </cp:lastModifiedBy>
  <cp:lastPrinted>2021-08-07T07:44:32Z</cp:lastPrinted>
  <dcterms:modified xsi:type="dcterms:W3CDTF">2025-12-12T06:39:17Z</dcterms:modified>
  <cp:revision>181</cp:revision>
  <dc:subject/>
  <dc:title>No Slide Title</dc:title>
</cp:coreProperties>
</file>